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ct" ContentType="image/x-pict"/>
  <Override PartName="/ppt/media/image4.png" ContentType="image/png"/>
  <Override PartName="/ppt/media/image2.png" ContentType="image/png"/>
  <Override PartName="/ppt/media/image3.png" ContentType="image/png"/>
  <Override PartName="/ppt/media/image5.png" ContentType="image/png"/>
  <Override PartName="/ppt/media/image6.png" ContentType="image/png"/>
  <Override PartName="/ppt/media/image7.pct" ContentType="image/x-pict"/>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669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ymbo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1" descr=""/>
          <p:cNvPicPr/>
          <p:nvPr/>
        </p:nvPicPr>
        <p:blipFill>
          <a:blip r:embed="rId2"/>
          <a:stretch/>
        </p:blipFill>
        <p:spPr>
          <a:xfrm>
            <a:off x="838080" y="152280"/>
            <a:ext cx="6621480" cy="6705720"/>
          </a:xfrm>
          <a:prstGeom prst="rect">
            <a:avLst/>
          </a:prstGeom>
          <a:ln w="0">
            <a:noFill/>
          </a:ln>
        </p:spPr>
      </p:pic>
      <p:sp>
        <p:nvSpPr>
          <p:cNvPr id="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bmuk_sw" descr=""/>
          <p:cNvPicPr/>
          <p:nvPr/>
        </p:nvPicPr>
        <p:blipFill>
          <a:blip r:embed="rId3"/>
          <a:stretch/>
        </p:blipFill>
        <p:spPr>
          <a:xfrm>
            <a:off x="0" y="0"/>
            <a:ext cx="1219320" cy="566640"/>
          </a:xfrm>
          <a:prstGeom prst="rect">
            <a:avLst/>
          </a:prstGeom>
          <a:ln w="0">
            <a:noFill/>
          </a:ln>
        </p:spPr>
      </p:pic>
      <p:sp>
        <p:nvSpPr>
          <p:cNvPr id="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0" y="5943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0" y="65530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562960" y="6431040"/>
            <a:ext cx="1713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 name="QIS%20Logo%204c%202.gifklein" descr=""/>
          <p:cNvPicPr/>
          <p:nvPr/>
        </p:nvPicPr>
        <p:blipFill>
          <a:blip r:embed="rId4"/>
          <a:stretch/>
        </p:blipFill>
        <p:spPr>
          <a:xfrm>
            <a:off x="7467480" y="0"/>
            <a:ext cx="1600200" cy="836640"/>
          </a:xfrm>
          <a:prstGeom prst="rect">
            <a:avLst/>
          </a:prstGeom>
          <a:ln w="0">
            <a:noFill/>
          </a:ln>
        </p:spPr>
      </p:pic>
      <p:sp>
        <p:nvSpPr>
          <p:cNvPr id="1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175600" y="6469200"/>
            <a:ext cx="184320" cy="244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
          <p:cNvSpPr/>
          <p:nvPr/>
        </p:nvSpPr>
        <p:spPr>
          <a:xfrm>
            <a:off x="8318160" y="65062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8BD7-55AF-410D-BE2A-15EB34B7F700}" type="slidenum">
              <a:rPr b="0" lang="de-DE"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ct"/><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76320"/>
            <a:ext cx="9144000" cy="693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QIS%20Logo%204c%202" descr=""/>
          <p:cNvPicPr/>
          <p:nvPr/>
        </p:nvPicPr>
        <p:blipFill>
          <a:blip r:embed="rId1"/>
          <a:stretch/>
        </p:blipFill>
        <p:spPr>
          <a:xfrm>
            <a:off x="609480" y="838080"/>
            <a:ext cx="8086680" cy="4233960"/>
          </a:xfrm>
          <a:prstGeom prst="rect">
            <a:avLst/>
          </a:prstGeom>
          <a:ln w="0">
            <a:noFill/>
          </a:ln>
        </p:spPr>
      </p:pic>
      <p:pic>
        <p:nvPicPr>
          <p:cNvPr id="55" name="" descr=""/>
          <p:cNvPicPr/>
          <p:nvPr/>
        </p:nvPicPr>
        <p:blipFill>
          <a:blip r:embed="rId2"/>
          <a:stretch/>
        </p:blipFill>
        <p:spPr>
          <a:xfrm>
            <a:off x="2514600" y="5715000"/>
            <a:ext cx="6324480" cy="56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bmuk_sw" descr=""/>
          <p:cNvPicPr/>
          <p:nvPr/>
        </p:nvPicPr>
        <p:blipFill>
          <a:blip r:embed="rId1"/>
          <a:stretch/>
        </p:blipFill>
        <p:spPr>
          <a:xfrm>
            <a:off x="76320" y="0"/>
            <a:ext cx="1218960" cy="566640"/>
          </a:xfrm>
          <a:prstGeom prst="rect">
            <a:avLst/>
          </a:prstGeom>
          <a:ln w="0">
            <a:noFill/>
          </a:ln>
        </p:spPr>
      </p:pic>
      <p:sp>
        <p:nvSpPr>
          <p:cNvPr id="23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5943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65530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990720"/>
            <a:ext cx="42670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0" y="987480"/>
            <a:ext cx="419112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eute aktueller denn je, weil...</a:t>
            </a:r>
            <a:endParaRPr b="0" lang="en-US" sz="2200" spc="-1" strike="noStrike">
              <a:solidFill>
                <a:srgbClr val="000000"/>
              </a:solidFill>
              <a:latin typeface="Times New Roman"/>
            </a:endParaRPr>
          </a:p>
        </p:txBody>
      </p:sp>
      <p:sp>
        <p:nvSpPr>
          <p:cNvPr id="247" name=""/>
          <p:cNvSpPr/>
          <p:nvPr/>
        </p:nvSpPr>
        <p:spPr>
          <a:xfrm>
            <a:off x="0" y="609480"/>
            <a:ext cx="449568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chäftigung mit Schulqualität</a:t>
            </a:r>
            <a:endParaRPr b="0" lang="en-US" sz="2200" spc="-1" strike="noStrike">
              <a:solidFill>
                <a:srgbClr val="000000"/>
              </a:solidFill>
              <a:latin typeface="Times New Roman"/>
            </a:endParaRPr>
          </a:p>
        </p:txBody>
      </p:sp>
      <p:grpSp>
        <p:nvGrpSpPr>
          <p:cNvPr id="248" name=""/>
          <p:cNvGrpSpPr/>
          <p:nvPr/>
        </p:nvGrpSpPr>
        <p:grpSpPr>
          <a:xfrm>
            <a:off x="1219320" y="1735200"/>
            <a:ext cx="6938280" cy="1542960"/>
            <a:chOff x="1219320" y="1735200"/>
            <a:chExt cx="6938280" cy="1542960"/>
          </a:xfrm>
        </p:grpSpPr>
        <p:sp>
          <p:nvSpPr>
            <p:cNvPr id="249" name=""/>
            <p:cNvSpPr/>
            <p:nvPr/>
          </p:nvSpPr>
          <p:spPr>
            <a:xfrm rot="5400000">
              <a:off x="1143000" y="18111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602000" y="1843560"/>
              <a:ext cx="655560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s Interesse der Öffentlichkeit an der Qualitä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am Angebot des Schulstandorts zunimm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iele Schulen wollen bzw. müssen sich profilier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s führt häufig zu verstärkter Öffentlichkeitsarbeit;</a:t>
              </a:r>
              <a:endParaRPr b="0" lang="en-US" sz="2200" spc="-1" strike="noStrike">
                <a:solidFill>
                  <a:srgbClr val="000000"/>
                </a:solidFill>
                <a:latin typeface="Times New Roman"/>
              </a:endParaRPr>
            </a:p>
          </p:txBody>
        </p:sp>
      </p:grpSp>
      <p:grpSp>
        <p:nvGrpSpPr>
          <p:cNvPr id="251" name=""/>
          <p:cNvGrpSpPr/>
          <p:nvPr/>
        </p:nvGrpSpPr>
        <p:grpSpPr>
          <a:xfrm>
            <a:off x="1219320" y="3845160"/>
            <a:ext cx="6677640" cy="2440080"/>
            <a:chOff x="1219320" y="3845160"/>
            <a:chExt cx="6677640" cy="2440080"/>
          </a:xfrm>
        </p:grpSpPr>
        <p:sp>
          <p:nvSpPr>
            <p:cNvPr id="252" name=""/>
            <p:cNvSpPr/>
            <p:nvPr/>
          </p:nvSpPr>
          <p:spPr>
            <a:xfrm rot="5400000">
              <a:off x="1143000" y="4267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2200" y="3845160"/>
              <a:ext cx="6224760" cy="244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einzelne Schule mehr Gestaltungsfreiraum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damit auch steigende Verantwortung fü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eigene Qualität erhält. Ein wichtiger Aspek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st dabei das Spannungsverhältnis zwisch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tonomie und der Forderung nach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urchlässigkeit, Vergleichbarkeit u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Chancengerechtigkeit im Schulsystem;</a:t>
              </a:r>
              <a:endParaRPr b="0" lang="en-US" sz="2200" spc="-1" strike="noStrike">
                <a:solidFill>
                  <a:srgbClr val="000000"/>
                </a:solidFill>
                <a:latin typeface="Times New Roman"/>
              </a:endParaRPr>
            </a:p>
          </p:txBody>
        </p:sp>
      </p:grpSp>
      <p:sp>
        <p:nvSpPr>
          <p:cNvPr id="254"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bmuk_sw" descr=""/>
          <p:cNvPicPr/>
          <p:nvPr/>
        </p:nvPicPr>
        <p:blipFill>
          <a:blip r:embed="rId1"/>
          <a:stretch/>
        </p:blipFill>
        <p:spPr>
          <a:xfrm>
            <a:off x="76320" y="0"/>
            <a:ext cx="1218960" cy="566640"/>
          </a:xfrm>
          <a:prstGeom prst="rect">
            <a:avLst/>
          </a:prstGeom>
          <a:ln w="0">
            <a:noFill/>
          </a:ln>
        </p:spPr>
      </p:pic>
      <p:sp>
        <p:nvSpPr>
          <p:cNvPr id="25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0" y="5943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65530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0" y="990720"/>
            <a:ext cx="41911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987480"/>
            <a:ext cx="419112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eute aktueller denn je, weil...</a:t>
            </a:r>
            <a:endParaRPr b="0" lang="en-US" sz="2200" spc="-1" strike="noStrike">
              <a:solidFill>
                <a:srgbClr val="000000"/>
              </a:solidFill>
              <a:latin typeface="Times New Roman"/>
            </a:endParaRPr>
          </a:p>
        </p:txBody>
      </p:sp>
      <p:sp>
        <p:nvSpPr>
          <p:cNvPr id="270" name=""/>
          <p:cNvSpPr/>
          <p:nvPr/>
        </p:nvSpPr>
        <p:spPr>
          <a:xfrm>
            <a:off x="0" y="609480"/>
            <a:ext cx="449568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chäftigung mit Schulqualität</a:t>
            </a:r>
            <a:endParaRPr b="0" lang="en-US" sz="2200" spc="-1" strike="noStrike">
              <a:solidFill>
                <a:srgbClr val="000000"/>
              </a:solidFill>
              <a:latin typeface="Times New Roman"/>
            </a:endParaRPr>
          </a:p>
        </p:txBody>
      </p:sp>
      <p:grpSp>
        <p:nvGrpSpPr>
          <p:cNvPr id="271" name=""/>
          <p:cNvGrpSpPr/>
          <p:nvPr/>
        </p:nvGrpSpPr>
        <p:grpSpPr>
          <a:xfrm>
            <a:off x="1219320" y="1509840"/>
            <a:ext cx="6688080" cy="2104920"/>
            <a:chOff x="1219320" y="1509840"/>
            <a:chExt cx="6688080" cy="2104920"/>
          </a:xfrm>
        </p:grpSpPr>
        <p:sp>
          <p:nvSpPr>
            <p:cNvPr id="272" name=""/>
            <p:cNvSpPr/>
            <p:nvPr/>
          </p:nvSpPr>
          <p:spPr>
            <a:xfrm rot="5400000">
              <a:off x="1143000" y="18111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601640" y="1509840"/>
              <a:ext cx="6305760" cy="2104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r Wunsch nach Mitsprache größer wir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üler/innen und Eltern verlangen vermehr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artizipation und Aushandeln von Regelungen 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ielen schulischen Bereichen. Gesetzlich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timmungen (Schulforum/Schulgemeinschaft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schuss) tragen dieser Entwicklung Rechnung.</a:t>
              </a:r>
              <a:endParaRPr b="0" lang="en-US" sz="2200" spc="-1" strike="noStrike">
                <a:solidFill>
                  <a:srgbClr val="000000"/>
                </a:solidFill>
                <a:latin typeface="Times New Roman"/>
              </a:endParaRPr>
            </a:p>
          </p:txBody>
        </p:sp>
      </p:grpSp>
      <p:grpSp>
        <p:nvGrpSpPr>
          <p:cNvPr id="274" name=""/>
          <p:cNvGrpSpPr/>
          <p:nvPr/>
        </p:nvGrpSpPr>
        <p:grpSpPr>
          <a:xfrm>
            <a:off x="1219320" y="4181760"/>
            <a:ext cx="6226200" cy="1769760"/>
            <a:chOff x="1219320" y="4181760"/>
            <a:chExt cx="6226200" cy="1769760"/>
          </a:xfrm>
        </p:grpSpPr>
        <p:sp>
          <p:nvSpPr>
            <p:cNvPr id="275" name=""/>
            <p:cNvSpPr/>
            <p:nvPr/>
          </p:nvSpPr>
          <p:spPr>
            <a:xfrm rot="5400000">
              <a:off x="1143000" y="4267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73280" y="4181760"/>
              <a:ext cx="5772240" cy="17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Unterrichts- und Erziehungsarbei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wieriger wird: Die Zusammensetzung d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üler/innen wird heterogen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Erziehungsleistung der Famili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ändert sich.</a:t>
              </a:r>
              <a:endParaRPr b="0" lang="en-US" sz="2200" spc="-1" strike="noStrike">
                <a:solidFill>
                  <a:srgbClr val="000000"/>
                </a:solidFill>
                <a:latin typeface="Times New Roman"/>
              </a:endParaRPr>
            </a:p>
          </p:txBody>
        </p:sp>
      </p:grpSp>
      <p:sp>
        <p:nvSpPr>
          <p:cNvPr id="277"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400480" y="1952640"/>
            <a:ext cx="4597200" cy="2709720"/>
          </a:xfrm>
          <a:prstGeom prst="triangle">
            <a:avLst>
              <a:gd name="adj" fmla="val 50000"/>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1905120" y="3792600"/>
            <a:ext cx="1466640" cy="1465200"/>
            <a:chOff x="1905120" y="3792600"/>
            <a:chExt cx="1466640" cy="1465200"/>
          </a:xfrm>
        </p:grpSpPr>
        <p:sp>
          <p:nvSpPr>
            <p:cNvPr id="281" name=""/>
            <p:cNvSpPr/>
            <p:nvPr/>
          </p:nvSpPr>
          <p:spPr>
            <a:xfrm>
              <a:off x="1905120" y="3792600"/>
              <a:ext cx="1466640" cy="1465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29480" y="4282200"/>
              <a:ext cx="182880" cy="457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283" name=""/>
          <p:cNvSpPr/>
          <p:nvPr/>
        </p:nvSpPr>
        <p:spPr>
          <a:xfrm>
            <a:off x="6076800" y="3792600"/>
            <a:ext cx="1467000" cy="14652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00800" y="4282920"/>
            <a:ext cx="184320" cy="457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285" name=""/>
          <p:cNvGrpSpPr/>
          <p:nvPr/>
        </p:nvGrpSpPr>
        <p:grpSpPr>
          <a:xfrm>
            <a:off x="3956040" y="1174680"/>
            <a:ext cx="1465200" cy="1467000"/>
            <a:chOff x="3956040" y="1174680"/>
            <a:chExt cx="1465200" cy="1467000"/>
          </a:xfrm>
        </p:grpSpPr>
        <p:sp>
          <p:nvSpPr>
            <p:cNvPr id="286" name=""/>
            <p:cNvSpPr/>
            <p:nvPr/>
          </p:nvSpPr>
          <p:spPr>
            <a:xfrm>
              <a:off x="3956040" y="1174680"/>
              <a:ext cx="1465200" cy="146700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81480" y="1665000"/>
              <a:ext cx="184320" cy="456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288" name=""/>
          <p:cNvSpPr/>
          <p:nvPr/>
        </p:nvSpPr>
        <p:spPr>
          <a:xfrm>
            <a:off x="3814920" y="3579840"/>
            <a:ext cx="191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chulqualität</a:t>
            </a:r>
            <a:endParaRPr b="0" lang="en-US" sz="2000" spc="-1" strike="noStrike">
              <a:solidFill>
                <a:srgbClr val="000000"/>
              </a:solidFill>
              <a:latin typeface="Times New Roman"/>
            </a:endParaRPr>
          </a:p>
        </p:txBody>
      </p:sp>
      <p:grpSp>
        <p:nvGrpSpPr>
          <p:cNvPr id="289" name=""/>
          <p:cNvGrpSpPr/>
          <p:nvPr/>
        </p:nvGrpSpPr>
        <p:grpSpPr>
          <a:xfrm>
            <a:off x="3956040" y="1174680"/>
            <a:ext cx="1465200" cy="1467000"/>
            <a:chOff x="3956040" y="1174680"/>
            <a:chExt cx="1465200" cy="1467000"/>
          </a:xfrm>
        </p:grpSpPr>
        <p:sp>
          <p:nvSpPr>
            <p:cNvPr id="290" name=""/>
            <p:cNvSpPr/>
            <p:nvPr/>
          </p:nvSpPr>
          <p:spPr>
            <a:xfrm>
              <a:off x="3956040" y="1174680"/>
              <a:ext cx="1465200" cy="1467000"/>
            </a:xfrm>
            <a:prstGeom prst="ellipse">
              <a:avLst/>
            </a:prstGeom>
            <a:solidFill>
              <a:srgbClr val="ff00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305240" y="1711800"/>
              <a:ext cx="803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Staat</a:t>
              </a:r>
              <a:endParaRPr b="0" lang="en-US" sz="2000" spc="-1" strike="noStrike">
                <a:solidFill>
                  <a:srgbClr val="000000"/>
                </a:solidFill>
                <a:latin typeface="Times New Roman"/>
              </a:endParaRPr>
            </a:p>
          </p:txBody>
        </p:sp>
      </p:grpSp>
      <p:grpSp>
        <p:nvGrpSpPr>
          <p:cNvPr id="292" name=""/>
          <p:cNvGrpSpPr/>
          <p:nvPr/>
        </p:nvGrpSpPr>
        <p:grpSpPr>
          <a:xfrm>
            <a:off x="6076800" y="3792600"/>
            <a:ext cx="1467000" cy="1465200"/>
            <a:chOff x="6076800" y="3792600"/>
            <a:chExt cx="1467000" cy="1465200"/>
          </a:xfrm>
        </p:grpSpPr>
        <p:sp>
          <p:nvSpPr>
            <p:cNvPr id="293" name=""/>
            <p:cNvSpPr/>
            <p:nvPr/>
          </p:nvSpPr>
          <p:spPr>
            <a:xfrm>
              <a:off x="6076800" y="3792600"/>
              <a:ext cx="1467000" cy="1465200"/>
            </a:xfrm>
            <a:prstGeom prst="ellipse">
              <a:avLst/>
            </a:prstGeom>
            <a:solidFill>
              <a:srgbClr val="0066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421680" y="4327200"/>
              <a:ext cx="860400" cy="398880"/>
            </a:xfrm>
            <a:prstGeom prst="rect">
              <a:avLst/>
            </a:prstGeom>
            <a:solidFill>
              <a:srgbClr val="00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Markt</a:t>
              </a:r>
              <a:endParaRPr b="0" lang="en-US" sz="2000" spc="-1" strike="noStrike">
                <a:solidFill>
                  <a:srgbClr val="000000"/>
                </a:solidFill>
                <a:latin typeface="Times New Roman"/>
              </a:endParaRPr>
            </a:p>
          </p:txBody>
        </p:sp>
      </p:grpSp>
      <p:grpSp>
        <p:nvGrpSpPr>
          <p:cNvPr id="295" name=""/>
          <p:cNvGrpSpPr/>
          <p:nvPr/>
        </p:nvGrpSpPr>
        <p:grpSpPr>
          <a:xfrm>
            <a:off x="1905120" y="3792600"/>
            <a:ext cx="1496160" cy="1465200"/>
            <a:chOff x="1905120" y="3792600"/>
            <a:chExt cx="1496160" cy="1465200"/>
          </a:xfrm>
        </p:grpSpPr>
        <p:sp>
          <p:nvSpPr>
            <p:cNvPr id="296" name=""/>
            <p:cNvSpPr/>
            <p:nvPr/>
          </p:nvSpPr>
          <p:spPr>
            <a:xfrm>
              <a:off x="1905120" y="3792600"/>
              <a:ext cx="1465920" cy="1465200"/>
            </a:xfrm>
            <a:prstGeom prst="ellipse">
              <a:avLst/>
            </a:prstGeom>
            <a:solidFill>
              <a:srgbClr val="3333cc"/>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05480" y="4329000"/>
              <a:ext cx="14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fession</a:t>
              </a:r>
              <a:endParaRPr b="0" lang="en-US" sz="2000" spc="-1" strike="noStrike">
                <a:solidFill>
                  <a:srgbClr val="000000"/>
                </a:solidFill>
                <a:latin typeface="Times New Roman"/>
              </a:endParaRPr>
            </a:p>
          </p:txBody>
        </p:sp>
      </p:grpSp>
      <p:sp>
        <p:nvSpPr>
          <p:cNvPr id="29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9" name="bmuk_sw" descr=""/>
          <p:cNvPicPr/>
          <p:nvPr/>
        </p:nvPicPr>
        <p:blipFill>
          <a:blip r:embed="rId1"/>
          <a:stretch/>
        </p:blipFill>
        <p:spPr>
          <a:xfrm>
            <a:off x="76320" y="0"/>
            <a:ext cx="1218960" cy="566640"/>
          </a:xfrm>
          <a:prstGeom prst="rect">
            <a:avLst/>
          </a:prstGeom>
          <a:ln w="0">
            <a:noFill/>
          </a:ln>
        </p:spPr>
      </p:pic>
      <p:sp>
        <p:nvSpPr>
          <p:cNvPr id="30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bmuk_sw" descr=""/>
          <p:cNvPicPr/>
          <p:nvPr/>
        </p:nvPicPr>
        <p:blipFill>
          <a:blip r:embed="rId1"/>
          <a:stretch/>
        </p:blipFill>
        <p:spPr>
          <a:xfrm>
            <a:off x="76320" y="0"/>
            <a:ext cx="1218960" cy="566640"/>
          </a:xfrm>
          <a:prstGeom prst="rect">
            <a:avLst/>
          </a:prstGeom>
          <a:ln w="0">
            <a:noFill/>
          </a:ln>
        </p:spPr>
      </p:pic>
      <p:sp>
        <p:nvSpPr>
          <p:cNvPr id="31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036800"/>
            <a:ext cx="29718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960" y="990720"/>
            <a:ext cx="3006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ystemkomponenten</a:t>
            </a:r>
            <a:endParaRPr b="0" lang="en-US" sz="2200" spc="-1" strike="noStrike">
              <a:solidFill>
                <a:srgbClr val="000000"/>
              </a:solidFill>
              <a:latin typeface="Times New Roman"/>
            </a:endParaRPr>
          </a:p>
        </p:txBody>
      </p:sp>
      <p:sp>
        <p:nvSpPr>
          <p:cNvPr id="318" name=""/>
          <p:cNvSpPr/>
          <p:nvPr/>
        </p:nvSpPr>
        <p:spPr>
          <a:xfrm>
            <a:off x="0" y="609480"/>
            <a:ext cx="6705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sentwicklung und -sicherung von Schule</a:t>
            </a:r>
            <a:endParaRPr b="0" lang="en-US" sz="2200" spc="-1" strike="noStrike">
              <a:solidFill>
                <a:srgbClr val="000000"/>
              </a:solidFill>
              <a:latin typeface="Times New Roman"/>
            </a:endParaRPr>
          </a:p>
        </p:txBody>
      </p:sp>
      <p:grpSp>
        <p:nvGrpSpPr>
          <p:cNvPr id="319" name=""/>
          <p:cNvGrpSpPr/>
          <p:nvPr/>
        </p:nvGrpSpPr>
        <p:grpSpPr>
          <a:xfrm>
            <a:off x="1905120" y="1752480"/>
            <a:ext cx="6781320" cy="4800240"/>
            <a:chOff x="1905120" y="1752480"/>
            <a:chExt cx="6781320" cy="4800240"/>
          </a:xfrm>
        </p:grpSpPr>
        <p:sp>
          <p:nvSpPr>
            <p:cNvPr id="320" name=""/>
            <p:cNvSpPr/>
            <p:nvPr/>
          </p:nvSpPr>
          <p:spPr>
            <a:xfrm>
              <a:off x="1905120" y="1752480"/>
              <a:ext cx="6781320" cy="4800240"/>
            </a:xfrm>
            <a:prstGeom prst="rect">
              <a:avLst/>
            </a:prstGeom>
            <a:solidFill>
              <a:srgbClr val="ffffff">
                <a:alpha val="50000"/>
              </a:srgbClr>
            </a:solidFill>
            <a:ln w="7632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3428280" y="2045160"/>
              <a:ext cx="2867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setzlicher Rahmen</a:t>
              </a:r>
              <a:endParaRPr b="0" lang="en-US" sz="2200" spc="-1" strike="noStrike">
                <a:solidFill>
                  <a:srgbClr val="000000"/>
                </a:solidFill>
                <a:latin typeface="Times New Roman"/>
              </a:endParaRPr>
            </a:p>
          </p:txBody>
        </p:sp>
      </p:grpSp>
      <p:grpSp>
        <p:nvGrpSpPr>
          <p:cNvPr id="322" name=""/>
          <p:cNvGrpSpPr/>
          <p:nvPr/>
        </p:nvGrpSpPr>
        <p:grpSpPr>
          <a:xfrm>
            <a:off x="2286000" y="2895480"/>
            <a:ext cx="2286000" cy="2590920"/>
            <a:chOff x="2286000" y="2895480"/>
            <a:chExt cx="2286000" cy="2590920"/>
          </a:xfrm>
        </p:grpSpPr>
        <p:sp>
          <p:nvSpPr>
            <p:cNvPr id="323" name=""/>
            <p:cNvSpPr/>
            <p:nvPr/>
          </p:nvSpPr>
          <p:spPr>
            <a:xfrm>
              <a:off x="2286000" y="2895480"/>
              <a:ext cx="2286000" cy="25909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743200" y="29257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E</a:t>
              </a:r>
              <a:endParaRPr b="0" lang="en-US" sz="2200" spc="-1" strike="noStrike">
                <a:solidFill>
                  <a:srgbClr val="000000"/>
                </a:solidFill>
                <a:latin typeface="Times New Roman"/>
              </a:endParaRPr>
            </a:p>
          </p:txBody>
        </p:sp>
      </p:grpSp>
      <p:sp>
        <p:nvSpPr>
          <p:cNvPr id="325" name=""/>
          <p:cNvSpPr/>
          <p:nvPr/>
        </p:nvSpPr>
        <p:spPr>
          <a:xfrm>
            <a:off x="2337480" y="327672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program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lbstevaluation</a:t>
            </a:r>
            <a:endParaRPr b="0" lang="en-US" sz="2200" spc="-1" strike="noStrike">
              <a:solidFill>
                <a:srgbClr val="000000"/>
              </a:solidFill>
              <a:latin typeface="Times New Roman"/>
            </a:endParaRPr>
          </a:p>
        </p:txBody>
      </p:sp>
      <p:grpSp>
        <p:nvGrpSpPr>
          <p:cNvPr id="326" name=""/>
          <p:cNvGrpSpPr/>
          <p:nvPr/>
        </p:nvGrpSpPr>
        <p:grpSpPr>
          <a:xfrm>
            <a:off x="2288880" y="4038480"/>
            <a:ext cx="2262600" cy="1068840"/>
            <a:chOff x="2288880" y="4038480"/>
            <a:chExt cx="2262600" cy="1068840"/>
          </a:xfrm>
        </p:grpSpPr>
        <p:sp>
          <p:nvSpPr>
            <p:cNvPr id="327" name=""/>
            <p:cNvSpPr/>
            <p:nvPr/>
          </p:nvSpPr>
          <p:spPr>
            <a:xfrm>
              <a:off x="2288880" y="4678200"/>
              <a:ext cx="2262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remdevaluation</a:t>
              </a:r>
              <a:endParaRPr b="0" lang="en-US" sz="2200" spc="-1" strike="noStrike">
                <a:solidFill>
                  <a:srgbClr val="000000"/>
                </a:solidFill>
                <a:latin typeface="Times New Roman"/>
              </a:endParaRPr>
            </a:p>
          </p:txBody>
        </p:sp>
        <p:sp>
          <p:nvSpPr>
            <p:cNvPr id="328" name=""/>
            <p:cNvSpPr/>
            <p:nvPr/>
          </p:nvSpPr>
          <p:spPr>
            <a:xfrm>
              <a:off x="3095640" y="4038480"/>
              <a:ext cx="485640" cy="609840"/>
            </a:xfrm>
            <a:prstGeom prst="upDownArrow">
              <a:avLst>
                <a:gd name="adj1" fmla="val 50000"/>
                <a:gd name="adj2" fmla="val 24999"/>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4648320" y="2895480"/>
            <a:ext cx="3657600" cy="3200400"/>
            <a:chOff x="4648320" y="2895480"/>
            <a:chExt cx="3657600" cy="3200400"/>
          </a:xfrm>
        </p:grpSpPr>
        <p:sp>
          <p:nvSpPr>
            <p:cNvPr id="330" name=""/>
            <p:cNvSpPr/>
            <p:nvPr/>
          </p:nvSpPr>
          <p:spPr>
            <a:xfrm>
              <a:off x="5867280" y="2895480"/>
              <a:ext cx="2438640" cy="320040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954760" y="2925720"/>
              <a:ext cx="22716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SYSTEM</a:t>
              </a:r>
              <a:endParaRPr b="0" lang="en-US" sz="2200" spc="-1" strike="noStrike">
                <a:solidFill>
                  <a:srgbClr val="000000"/>
                </a:solidFill>
                <a:latin typeface="Times New Roman"/>
              </a:endParaRPr>
            </a:p>
          </p:txBody>
        </p:sp>
        <p:sp>
          <p:nvSpPr>
            <p:cNvPr id="332" name=""/>
            <p:cNvSpPr/>
            <p:nvPr/>
          </p:nvSpPr>
          <p:spPr>
            <a:xfrm>
              <a:off x="4648320" y="3809880"/>
              <a:ext cx="1137960" cy="486000"/>
            </a:xfrm>
            <a:prstGeom prst="leftRightArrow">
              <a:avLst>
                <a:gd name="adj1" fmla="val 50000"/>
                <a:gd name="adj2" fmla="val 46613"/>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3276720" y="5181480"/>
            <a:ext cx="2797200" cy="1219320"/>
            <a:chOff x="3276720" y="5181480"/>
            <a:chExt cx="2797200" cy="1219320"/>
          </a:xfrm>
        </p:grpSpPr>
        <p:sp>
          <p:nvSpPr>
            <p:cNvPr id="334" name=""/>
            <p:cNvSpPr/>
            <p:nvPr/>
          </p:nvSpPr>
          <p:spPr>
            <a:xfrm>
              <a:off x="3276720" y="5181480"/>
              <a:ext cx="2797200" cy="12193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506760" y="5513400"/>
              <a:ext cx="2419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risenintervention</a:t>
              </a:r>
              <a:endParaRPr b="0" lang="en-US" sz="2200" spc="-1" strike="noStrike">
                <a:solidFill>
                  <a:srgbClr val="000000"/>
                </a:solidFill>
                <a:latin typeface="Times New Roman"/>
              </a:endParaRPr>
            </a:p>
          </p:txBody>
        </p:sp>
      </p:grpSp>
      <p:sp>
        <p:nvSpPr>
          <p:cNvPr id="33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98400" y="5105520"/>
            <a:ext cx="2232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nationa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tersuchungen</a:t>
            </a:r>
            <a:endParaRPr b="0" lang="en-US" sz="2200" spc="-1" strike="noStrike">
              <a:solidFill>
                <a:srgbClr val="000000"/>
              </a:solidFill>
              <a:latin typeface="Times New Roman"/>
            </a:endParaRPr>
          </a:p>
        </p:txBody>
      </p:sp>
      <p:sp>
        <p:nvSpPr>
          <p:cNvPr id="341" name=""/>
          <p:cNvSpPr/>
          <p:nvPr/>
        </p:nvSpPr>
        <p:spPr>
          <a:xfrm>
            <a:off x="6403320" y="3352680"/>
            <a:ext cx="1485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yste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onitoring</a:t>
            </a:r>
            <a:endParaRPr b="0" lang="en-US" sz="2200" spc="-1" strike="noStrike">
              <a:solidFill>
                <a:srgbClr val="000000"/>
              </a:solidFill>
              <a:latin typeface="Times New Roman"/>
            </a:endParaRPr>
          </a:p>
        </p:txBody>
      </p:sp>
      <p:sp>
        <p:nvSpPr>
          <p:cNvPr id="342" name=""/>
          <p:cNvSpPr/>
          <p:nvPr/>
        </p:nvSpPr>
        <p:spPr>
          <a:xfrm>
            <a:off x="6402600" y="4191120"/>
            <a:ext cx="1626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kussier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valu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5" name="bmuk_sw" descr=""/>
          <p:cNvPicPr/>
          <p:nvPr/>
        </p:nvPicPr>
        <p:blipFill>
          <a:blip r:embed="rId1"/>
          <a:stretch/>
        </p:blipFill>
        <p:spPr>
          <a:xfrm>
            <a:off x="76320" y="0"/>
            <a:ext cx="1218960" cy="566640"/>
          </a:xfrm>
          <a:prstGeom prst="rect">
            <a:avLst/>
          </a:prstGeom>
          <a:ln w="0">
            <a:noFill/>
          </a:ln>
        </p:spPr>
      </p:pic>
      <p:sp>
        <p:nvSpPr>
          <p:cNvPr id="34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1" name=""/>
          <p:cNvGraphicFramePr/>
          <p:nvPr/>
        </p:nvGraphicFramePr>
        <p:xfrm>
          <a:off x="1523880" y="1393920"/>
          <a:ext cx="6097680" cy="4062240"/>
        </p:xfrm>
        <a:graphic>
          <a:graphicData uri="http://schemas.openxmlformats.org/presentationml/2006/ole">
            <p:oleObj r:id="rId2" spid="">
              <p:embed/>
              <p:pic>
                <p:nvPicPr>
                  <p:cNvPr id="352" name="" descr=""/>
                  <p:cNvPicPr/>
                  <p:nvPr/>
                </p:nvPicPr>
                <p:blipFill>
                  <a:blip r:embed="rId3"/>
                  <a:stretch/>
                </p:blipFill>
                <p:spPr>
                  <a:xfrm>
                    <a:off x="1523880" y="1393920"/>
                    <a:ext cx="6097680" cy="4062240"/>
                  </a:xfrm>
                  <a:prstGeom prst="rect">
                    <a:avLst/>
                  </a:prstGeom>
                  <a:ln w="0">
                    <a:noFill/>
                  </a:ln>
                </p:spPr>
              </p:pic>
            </p:oleObj>
          </a:graphicData>
        </a:graphic>
      </p:graphicFrame>
      <p:sp>
        <p:nvSpPr>
          <p:cNvPr id="353" name=""/>
          <p:cNvSpPr/>
          <p:nvPr/>
        </p:nvSpPr>
        <p:spPr>
          <a:xfrm>
            <a:off x="0" y="609480"/>
            <a:ext cx="4343400" cy="38124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0" y="5634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5 Qualitätsbereiche von Schule</a:t>
            </a:r>
            <a:endParaRPr b="0" lang="en-US" sz="2200" spc="-1" strike="noStrike">
              <a:solidFill>
                <a:srgbClr val="000000"/>
              </a:solidFill>
              <a:latin typeface="Times New Roman"/>
            </a:endParaRPr>
          </a:p>
        </p:txBody>
      </p:sp>
      <p:sp>
        <p:nvSpPr>
          <p:cNvPr id="355" name=""/>
          <p:cNvSpPr/>
          <p:nvPr/>
        </p:nvSpPr>
        <p:spPr>
          <a:xfrm>
            <a:off x="3342240" y="1446840"/>
            <a:ext cx="366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ÄT IN SCHULEN</a:t>
            </a: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1219320" y="2057400"/>
            <a:ext cx="2361960" cy="1523880"/>
            <a:chOff x="1219320" y="2057400"/>
            <a:chExt cx="2361960" cy="1523880"/>
          </a:xfrm>
        </p:grpSpPr>
        <p:sp>
          <p:nvSpPr>
            <p:cNvPr id="360" name=""/>
            <p:cNvSpPr/>
            <p:nvPr/>
          </p:nvSpPr>
          <p:spPr>
            <a:xfrm>
              <a:off x="1219320" y="2057400"/>
              <a:ext cx="2361960" cy="152388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598760" y="2362320"/>
              <a:ext cx="159948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Lehren un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Lernen</a:t>
              </a:r>
              <a:endParaRPr b="0" lang="en-US" sz="2200" spc="-1" strike="noStrike">
                <a:solidFill>
                  <a:srgbClr val="000000"/>
                </a:solidFill>
                <a:latin typeface="Times New Roman"/>
              </a:endParaRPr>
            </a:p>
          </p:txBody>
        </p:sp>
      </p:grpSp>
      <p:grpSp>
        <p:nvGrpSpPr>
          <p:cNvPr id="362" name=""/>
          <p:cNvGrpSpPr/>
          <p:nvPr/>
        </p:nvGrpSpPr>
        <p:grpSpPr>
          <a:xfrm>
            <a:off x="3886200" y="2057400"/>
            <a:ext cx="2362320" cy="1523880"/>
            <a:chOff x="3886200" y="2057400"/>
            <a:chExt cx="2362320" cy="1523880"/>
          </a:xfrm>
        </p:grpSpPr>
        <p:sp>
          <p:nvSpPr>
            <p:cNvPr id="363" name=""/>
            <p:cNvSpPr/>
            <p:nvPr/>
          </p:nvSpPr>
          <p:spPr>
            <a:xfrm>
              <a:off x="3886200" y="2057400"/>
              <a:ext cx="2362320" cy="152388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8160" y="2362320"/>
              <a:ext cx="1739520" cy="1005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Lebensraum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Klasse un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Schule</a:t>
              </a:r>
              <a:endParaRPr b="0" lang="en-US" sz="2200" spc="-1" strike="noStrike">
                <a:solidFill>
                  <a:srgbClr val="000000"/>
                </a:solidFill>
                <a:latin typeface="Times New Roman"/>
              </a:endParaRPr>
            </a:p>
          </p:txBody>
        </p:sp>
      </p:grpSp>
      <p:grpSp>
        <p:nvGrpSpPr>
          <p:cNvPr id="365" name=""/>
          <p:cNvGrpSpPr/>
          <p:nvPr/>
        </p:nvGrpSpPr>
        <p:grpSpPr>
          <a:xfrm>
            <a:off x="6629400" y="2057400"/>
            <a:ext cx="2362320" cy="1523880"/>
            <a:chOff x="6629400" y="2057400"/>
            <a:chExt cx="2362320" cy="1523880"/>
          </a:xfrm>
        </p:grpSpPr>
        <p:sp>
          <p:nvSpPr>
            <p:cNvPr id="366" name=""/>
            <p:cNvSpPr/>
            <p:nvPr/>
          </p:nvSpPr>
          <p:spPr>
            <a:xfrm>
              <a:off x="6629400" y="2057400"/>
              <a:ext cx="2362320" cy="152388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945480" y="2209680"/>
              <a:ext cx="1815840" cy="1341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Schulpartne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schaft un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Auße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beziehungen</a:t>
              </a:r>
              <a:endParaRPr b="0" lang="en-US" sz="2200" spc="-1" strike="noStrike">
                <a:solidFill>
                  <a:srgbClr val="000000"/>
                </a:solidFill>
                <a:latin typeface="Times New Roman"/>
              </a:endParaRPr>
            </a:p>
          </p:txBody>
        </p:sp>
      </p:grpSp>
      <p:grpSp>
        <p:nvGrpSpPr>
          <p:cNvPr id="368" name=""/>
          <p:cNvGrpSpPr/>
          <p:nvPr/>
        </p:nvGrpSpPr>
        <p:grpSpPr>
          <a:xfrm>
            <a:off x="2209680" y="4343400"/>
            <a:ext cx="2362320" cy="1523880"/>
            <a:chOff x="2209680" y="4343400"/>
            <a:chExt cx="2362320" cy="1523880"/>
          </a:xfrm>
        </p:grpSpPr>
        <p:sp>
          <p:nvSpPr>
            <p:cNvPr id="369" name=""/>
            <p:cNvSpPr/>
            <p:nvPr/>
          </p:nvSpPr>
          <p:spPr>
            <a:xfrm>
              <a:off x="2209680" y="4343400"/>
              <a:ext cx="2362320" cy="152388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91280" y="4648320"/>
              <a:ext cx="172440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Schu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management</a:t>
              </a:r>
              <a:endParaRPr b="0" lang="en-US" sz="2200" spc="-1" strike="noStrike">
                <a:solidFill>
                  <a:srgbClr val="000000"/>
                </a:solidFill>
                <a:latin typeface="Times New Roman"/>
              </a:endParaRPr>
            </a:p>
          </p:txBody>
        </p:sp>
      </p:grpSp>
      <p:grpSp>
        <p:nvGrpSpPr>
          <p:cNvPr id="371" name=""/>
          <p:cNvGrpSpPr/>
          <p:nvPr/>
        </p:nvGrpSpPr>
        <p:grpSpPr>
          <a:xfrm>
            <a:off x="5410080" y="4343400"/>
            <a:ext cx="2362320" cy="1523880"/>
            <a:chOff x="5410080" y="4343400"/>
            <a:chExt cx="2362320" cy="1523880"/>
          </a:xfrm>
        </p:grpSpPr>
        <p:sp>
          <p:nvSpPr>
            <p:cNvPr id="372" name=""/>
            <p:cNvSpPr/>
            <p:nvPr/>
          </p:nvSpPr>
          <p:spPr>
            <a:xfrm>
              <a:off x="5410080" y="4343400"/>
              <a:ext cx="2362320" cy="1523880"/>
            </a:xfrm>
            <a:prstGeom prst="rect">
              <a:avLst/>
            </a:prstGeom>
            <a:solidFill>
              <a:srgbClr val="ffffff"/>
            </a:solidFill>
            <a:ln w="284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564520" y="4572000"/>
              <a:ext cx="2174040" cy="1005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Professionalität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und Person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rPr>
                <a:t>entwicklung</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 name="bmuk_sw" descr=""/>
          <p:cNvPicPr/>
          <p:nvPr/>
        </p:nvPicPr>
        <p:blipFill>
          <a:blip r:embed="rId1"/>
          <a:stretch/>
        </p:blipFill>
        <p:spPr>
          <a:xfrm>
            <a:off x="76320" y="0"/>
            <a:ext cx="1218960" cy="566640"/>
          </a:xfrm>
          <a:prstGeom prst="rect">
            <a:avLst/>
          </a:prstGeom>
          <a:ln w="0">
            <a:noFill/>
          </a:ln>
        </p:spPr>
      </p:pic>
      <p:sp>
        <p:nvSpPr>
          <p:cNvPr id="37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1523880" y="1447920"/>
          <a:ext cx="6097680" cy="4062240"/>
        </p:xfrm>
        <a:graphic>
          <a:graphicData uri="http://schemas.openxmlformats.org/presentationml/2006/ole">
            <p:oleObj r:id="rId2" spid="">
              <p:embed/>
              <p:pic>
                <p:nvPicPr>
                  <p:cNvPr id="379" name="" descr=""/>
                  <p:cNvPicPr/>
                  <p:nvPr/>
                </p:nvPicPr>
                <p:blipFill>
                  <a:blip r:embed="rId3"/>
                  <a:stretch/>
                </p:blipFill>
                <p:spPr>
                  <a:xfrm>
                    <a:off x="1523880" y="1447920"/>
                    <a:ext cx="6097680" cy="4062240"/>
                  </a:xfrm>
                  <a:prstGeom prst="rect">
                    <a:avLst/>
                  </a:prstGeom>
                  <a:ln w="0">
                    <a:noFill/>
                  </a:ln>
                </p:spPr>
              </p:pic>
            </p:oleObj>
          </a:graphicData>
        </a:graphic>
      </p:graphicFrame>
      <p:sp>
        <p:nvSpPr>
          <p:cNvPr id="380" name=""/>
          <p:cNvSpPr/>
          <p:nvPr/>
        </p:nvSpPr>
        <p:spPr>
          <a:xfrm>
            <a:off x="1602360" y="121824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hren</a:t>
            </a:r>
            <a:endParaRPr b="0" lang="en-US" sz="2400" spc="-1" strike="noStrike">
              <a:solidFill>
                <a:srgbClr val="000000"/>
              </a:solidFill>
              <a:latin typeface="Times New Roman"/>
            </a:endParaRPr>
          </a:p>
        </p:txBody>
      </p:sp>
      <p:sp>
        <p:nvSpPr>
          <p:cNvPr id="381"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0" y="609480"/>
            <a:ext cx="2743200" cy="3812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0" y="609480"/>
            <a:ext cx="2819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Lehren und Lernen</a:t>
            </a:r>
            <a:endParaRPr b="0" lang="en-US" sz="2200" spc="-1" strike="noStrike">
              <a:solidFill>
                <a:srgbClr val="000000"/>
              </a:solidFill>
              <a:latin typeface="Times New Roman"/>
            </a:endParaRPr>
          </a:p>
        </p:txBody>
      </p:sp>
      <p:sp>
        <p:nvSpPr>
          <p:cNvPr id="38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1219320" y="1751760"/>
            <a:ext cx="5950440" cy="534240"/>
            <a:chOff x="1219320" y="1751760"/>
            <a:chExt cx="5950440" cy="534240"/>
          </a:xfrm>
        </p:grpSpPr>
        <p:sp>
          <p:nvSpPr>
            <p:cNvPr id="389" name=""/>
            <p:cNvSpPr/>
            <p:nvPr/>
          </p:nvSpPr>
          <p:spPr>
            <a:xfrm>
              <a:off x="1909440" y="1751760"/>
              <a:ext cx="52603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okale Umsetzung der Rahmenlehrpläne</a:t>
              </a:r>
              <a:endParaRPr b="0" lang="en-US" sz="2200" spc="-1" strike="noStrike">
                <a:solidFill>
                  <a:srgbClr val="000000"/>
                </a:solidFill>
                <a:latin typeface="Times New Roman"/>
              </a:endParaRPr>
            </a:p>
          </p:txBody>
        </p:sp>
        <p:sp>
          <p:nvSpPr>
            <p:cNvPr id="390" name=""/>
            <p:cNvSpPr/>
            <p:nvPr/>
          </p:nvSpPr>
          <p:spPr>
            <a:xfrm rot="5400000">
              <a:off x="1143000" y="18288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1219320" y="2362320"/>
            <a:ext cx="4645080" cy="533160"/>
            <a:chOff x="1219320" y="2362320"/>
            <a:chExt cx="4645080" cy="533160"/>
          </a:xfrm>
        </p:grpSpPr>
        <p:sp>
          <p:nvSpPr>
            <p:cNvPr id="392" name=""/>
            <p:cNvSpPr/>
            <p:nvPr/>
          </p:nvSpPr>
          <p:spPr>
            <a:xfrm>
              <a:off x="1891800" y="2391480"/>
              <a:ext cx="397260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deutsamkeit der Lehrinhalte</a:t>
              </a:r>
              <a:endParaRPr b="0" lang="en-US" sz="2200" spc="-1" strike="noStrike">
                <a:solidFill>
                  <a:srgbClr val="000000"/>
                </a:solidFill>
                <a:latin typeface="Times New Roman"/>
              </a:endParaRPr>
            </a:p>
          </p:txBody>
        </p:sp>
        <p:sp>
          <p:nvSpPr>
            <p:cNvPr id="393" name=""/>
            <p:cNvSpPr/>
            <p:nvPr/>
          </p:nvSpPr>
          <p:spPr>
            <a:xfrm rot="5400000">
              <a:off x="1143000" y="24382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4" name=""/>
          <p:cNvGrpSpPr/>
          <p:nvPr/>
        </p:nvGrpSpPr>
        <p:grpSpPr>
          <a:xfrm>
            <a:off x="1219320" y="2894400"/>
            <a:ext cx="4739760" cy="764280"/>
            <a:chOff x="1219320" y="2894400"/>
            <a:chExt cx="4739760" cy="764280"/>
          </a:xfrm>
        </p:grpSpPr>
        <p:sp>
          <p:nvSpPr>
            <p:cNvPr id="395" name=""/>
            <p:cNvSpPr/>
            <p:nvPr/>
          </p:nvSpPr>
          <p:spPr>
            <a:xfrm>
              <a:off x="1907280" y="2894400"/>
              <a:ext cx="4051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terrichtsgestaltung u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ziehungsstil der Lehrer/innen</a:t>
              </a:r>
              <a:endParaRPr b="0" lang="en-US" sz="2200" spc="-1" strike="noStrike">
                <a:solidFill>
                  <a:srgbClr val="000000"/>
                </a:solidFill>
                <a:latin typeface="Times New Roman"/>
              </a:endParaRPr>
            </a:p>
          </p:txBody>
        </p:sp>
        <p:sp>
          <p:nvSpPr>
            <p:cNvPr id="396" name=""/>
            <p:cNvSpPr/>
            <p:nvPr/>
          </p:nvSpPr>
          <p:spPr>
            <a:xfrm rot="5400000">
              <a:off x="1143000" y="307800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7" name=""/>
          <p:cNvGrpSpPr/>
          <p:nvPr/>
        </p:nvGrpSpPr>
        <p:grpSpPr>
          <a:xfrm>
            <a:off x="1219320" y="3808800"/>
            <a:ext cx="7459920" cy="764280"/>
            <a:chOff x="1219320" y="3808800"/>
            <a:chExt cx="7459920" cy="764280"/>
          </a:xfrm>
        </p:grpSpPr>
        <p:sp>
          <p:nvSpPr>
            <p:cNvPr id="398" name=""/>
            <p:cNvSpPr/>
            <p:nvPr/>
          </p:nvSpPr>
          <p:spPr>
            <a:xfrm rot="5400000">
              <a:off x="1143000" y="38862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05840" y="3808800"/>
              <a:ext cx="67734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örderung und Unterstützung der Schüler/inn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hre Anerkennung als eigenständige Persönlichkeiten</a:t>
              </a:r>
              <a:endParaRPr b="0" lang="en-US" sz="2200" spc="-1" strike="noStrike">
                <a:solidFill>
                  <a:srgbClr val="000000"/>
                </a:solidFill>
                <a:latin typeface="Times New Roman"/>
              </a:endParaRPr>
            </a:p>
          </p:txBody>
        </p:sp>
      </p:grpSp>
      <p:grpSp>
        <p:nvGrpSpPr>
          <p:cNvPr id="400" name=""/>
          <p:cNvGrpSpPr/>
          <p:nvPr/>
        </p:nvGrpSpPr>
        <p:grpSpPr>
          <a:xfrm>
            <a:off x="1219320" y="4648320"/>
            <a:ext cx="7105320" cy="533160"/>
            <a:chOff x="1219320" y="4648320"/>
            <a:chExt cx="7105320" cy="533160"/>
          </a:xfrm>
        </p:grpSpPr>
        <p:sp>
          <p:nvSpPr>
            <p:cNvPr id="401" name=""/>
            <p:cNvSpPr/>
            <p:nvPr/>
          </p:nvSpPr>
          <p:spPr>
            <a:xfrm rot="5400000">
              <a:off x="1143000" y="47242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91080" y="4737600"/>
              <a:ext cx="64335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rücksichtigung geschlechtsspezifischer Aspekte</a:t>
              </a:r>
              <a:endParaRPr b="0" lang="en-US" sz="2200" spc="-1" strike="noStrike">
                <a:solidFill>
                  <a:srgbClr val="000000"/>
                </a:solidFill>
                <a:latin typeface="Times New Roman"/>
              </a:endParaRPr>
            </a:p>
          </p:txBody>
        </p:sp>
      </p:grpSp>
      <p:grpSp>
        <p:nvGrpSpPr>
          <p:cNvPr id="403" name=""/>
          <p:cNvGrpSpPr/>
          <p:nvPr/>
        </p:nvGrpSpPr>
        <p:grpSpPr>
          <a:xfrm>
            <a:off x="1219320" y="5410080"/>
            <a:ext cx="5767920" cy="839520"/>
            <a:chOff x="1219320" y="5410080"/>
            <a:chExt cx="5767920" cy="839520"/>
          </a:xfrm>
        </p:grpSpPr>
        <p:sp>
          <p:nvSpPr>
            <p:cNvPr id="404" name=""/>
            <p:cNvSpPr/>
            <p:nvPr/>
          </p:nvSpPr>
          <p:spPr>
            <a:xfrm rot="5400000">
              <a:off x="1143000" y="54864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94680" y="5485320"/>
              <a:ext cx="50925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ultur der Leistungsanforderung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ückmeldung und Leistungsbeurteilung</a:t>
              </a:r>
              <a:endParaRPr b="0" lang="en-US" sz="2200" spc="-1" strike="noStrike">
                <a:solidFill>
                  <a:srgbClr val="000000"/>
                </a:solidFill>
                <a:latin typeface="Times New Roman"/>
              </a:endParaRPr>
            </a:p>
          </p:txBody>
        </p:sp>
      </p:grpSp>
      <p:sp>
        <p:nvSpPr>
          <p:cNvPr id="406"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8" name="bmuk_sw" descr=""/>
          <p:cNvPicPr/>
          <p:nvPr/>
        </p:nvPicPr>
        <p:blipFill>
          <a:blip r:embed="rId1"/>
          <a:stretch/>
        </p:blipFill>
        <p:spPr>
          <a:xfrm>
            <a:off x="76320" y="0"/>
            <a:ext cx="1218960" cy="566640"/>
          </a:xfrm>
          <a:prstGeom prst="rect">
            <a:avLst/>
          </a:prstGeom>
          <a:ln w="0">
            <a:noFill/>
          </a:ln>
        </p:spPr>
      </p:pic>
      <p:sp>
        <p:nvSpPr>
          <p:cNvPr id="40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10" name=""/>
          <p:cNvGraphicFramePr/>
          <p:nvPr/>
        </p:nvGraphicFramePr>
        <p:xfrm>
          <a:off x="1523880" y="1393920"/>
          <a:ext cx="6097680" cy="4062240"/>
        </p:xfrm>
        <a:graphic>
          <a:graphicData uri="http://schemas.openxmlformats.org/presentationml/2006/ole">
            <p:oleObj r:id="rId2" spid="">
              <p:embed/>
              <p:pic>
                <p:nvPicPr>
                  <p:cNvPr id="411" name="" descr=""/>
                  <p:cNvPicPr/>
                  <p:nvPr/>
                </p:nvPicPr>
                <p:blipFill>
                  <a:blip r:embed="rId3"/>
                  <a:stretch/>
                </p:blipFill>
                <p:spPr>
                  <a:xfrm>
                    <a:off x="1523880" y="1393920"/>
                    <a:ext cx="6097680" cy="4062240"/>
                  </a:xfrm>
                  <a:prstGeom prst="rect">
                    <a:avLst/>
                  </a:prstGeom>
                  <a:ln w="0">
                    <a:noFill/>
                  </a:ln>
                </p:spPr>
              </p:pic>
            </p:oleObj>
          </a:graphicData>
        </a:graphic>
      </p:graphicFrame>
      <p:sp>
        <p:nvSpPr>
          <p:cNvPr id="412" name=""/>
          <p:cNvSpPr/>
          <p:nvPr/>
        </p:nvSpPr>
        <p:spPr>
          <a:xfrm>
            <a:off x="1526040" y="1218240"/>
            <a:ext cx="1195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rnen</a:t>
            </a:r>
            <a:endParaRPr b="0" lang="en-US" sz="2400" spc="-1" strike="noStrike">
              <a:solidFill>
                <a:srgbClr val="000000"/>
              </a:solidFill>
              <a:latin typeface="Times New Roman"/>
            </a:endParaRPr>
          </a:p>
        </p:txBody>
      </p:sp>
      <p:sp>
        <p:nvSpPr>
          <p:cNvPr id="41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0" y="609480"/>
            <a:ext cx="2743200" cy="3812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0" y="609480"/>
            <a:ext cx="2819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Lehren und Lernen</a:t>
            </a:r>
            <a:endParaRPr b="0" lang="en-US" sz="2200" spc="-1" strike="noStrike">
              <a:solidFill>
                <a:srgbClr val="000000"/>
              </a:solidFill>
              <a:latin typeface="Times New Roman"/>
            </a:endParaRPr>
          </a:p>
        </p:txBody>
      </p:sp>
      <p:sp>
        <p:nvSpPr>
          <p:cNvPr id="42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2" name=""/>
          <p:cNvGrpSpPr/>
          <p:nvPr/>
        </p:nvGrpSpPr>
        <p:grpSpPr>
          <a:xfrm>
            <a:off x="1219320" y="1751760"/>
            <a:ext cx="7338600" cy="534240"/>
            <a:chOff x="1219320" y="1751760"/>
            <a:chExt cx="7338600" cy="534240"/>
          </a:xfrm>
        </p:grpSpPr>
        <p:sp>
          <p:nvSpPr>
            <p:cNvPr id="423" name=""/>
            <p:cNvSpPr/>
            <p:nvPr/>
          </p:nvSpPr>
          <p:spPr>
            <a:xfrm>
              <a:off x="1753920" y="1751760"/>
              <a:ext cx="68040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ernbereitschaft und Eigeninitiative der Schüler/innen</a:t>
              </a:r>
              <a:endParaRPr b="0" lang="en-US" sz="2200" spc="-1" strike="noStrike">
                <a:solidFill>
                  <a:srgbClr val="000000"/>
                </a:solidFill>
                <a:latin typeface="Times New Roman"/>
              </a:endParaRPr>
            </a:p>
          </p:txBody>
        </p:sp>
        <p:sp>
          <p:nvSpPr>
            <p:cNvPr id="424" name=""/>
            <p:cNvSpPr/>
            <p:nvPr/>
          </p:nvSpPr>
          <p:spPr>
            <a:xfrm rot="5400000">
              <a:off x="1143000" y="18288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1219320" y="2362320"/>
            <a:ext cx="5860800" cy="533160"/>
            <a:chOff x="1219320" y="2362320"/>
            <a:chExt cx="5860800" cy="533160"/>
          </a:xfrm>
        </p:grpSpPr>
        <p:sp>
          <p:nvSpPr>
            <p:cNvPr id="426" name=""/>
            <p:cNvSpPr/>
            <p:nvPr/>
          </p:nvSpPr>
          <p:spPr>
            <a:xfrm>
              <a:off x="1754280" y="2391480"/>
              <a:ext cx="5325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bau eines nachhaltigen Grundwissens</a:t>
              </a:r>
              <a:endParaRPr b="0" lang="en-US" sz="2200" spc="-1" strike="noStrike">
                <a:solidFill>
                  <a:srgbClr val="000000"/>
                </a:solidFill>
                <a:latin typeface="Times New Roman"/>
              </a:endParaRPr>
            </a:p>
          </p:txBody>
        </p:sp>
        <p:sp>
          <p:nvSpPr>
            <p:cNvPr id="427" name=""/>
            <p:cNvSpPr/>
            <p:nvPr/>
          </p:nvSpPr>
          <p:spPr>
            <a:xfrm rot="5400000">
              <a:off x="1143000" y="24382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8" name=""/>
          <p:cNvGrpSpPr/>
          <p:nvPr/>
        </p:nvGrpSpPr>
        <p:grpSpPr>
          <a:xfrm>
            <a:off x="1219320" y="2971800"/>
            <a:ext cx="4912200" cy="533520"/>
            <a:chOff x="1219320" y="2971800"/>
            <a:chExt cx="4912200" cy="533520"/>
          </a:xfrm>
        </p:grpSpPr>
        <p:sp>
          <p:nvSpPr>
            <p:cNvPr id="429" name=""/>
            <p:cNvSpPr/>
            <p:nvPr/>
          </p:nvSpPr>
          <p:spPr>
            <a:xfrm>
              <a:off x="1756800" y="3000960"/>
              <a:ext cx="43747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erstellen von Zusammenhängen</a:t>
              </a:r>
              <a:endParaRPr b="0" lang="en-US" sz="2200" spc="-1" strike="noStrike">
                <a:solidFill>
                  <a:srgbClr val="000000"/>
                </a:solidFill>
                <a:latin typeface="Times New Roman"/>
              </a:endParaRPr>
            </a:p>
          </p:txBody>
        </p:sp>
        <p:sp>
          <p:nvSpPr>
            <p:cNvPr id="430" name=""/>
            <p:cNvSpPr/>
            <p:nvPr/>
          </p:nvSpPr>
          <p:spPr>
            <a:xfrm rot="5400000">
              <a:off x="1143000" y="30481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1219320" y="3656520"/>
            <a:ext cx="7274880" cy="534600"/>
            <a:chOff x="1219320" y="3656520"/>
            <a:chExt cx="7274880" cy="534600"/>
          </a:xfrm>
        </p:grpSpPr>
        <p:sp>
          <p:nvSpPr>
            <p:cNvPr id="432" name=""/>
            <p:cNvSpPr/>
            <p:nvPr/>
          </p:nvSpPr>
          <p:spPr>
            <a:xfrm>
              <a:off x="1754280" y="3656520"/>
              <a:ext cx="6739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wenden von Wissen auf neue Aufgabenstellungen</a:t>
              </a:r>
              <a:endParaRPr b="0" lang="en-US" sz="2200" spc="-1" strike="noStrike">
                <a:solidFill>
                  <a:srgbClr val="000000"/>
                </a:solidFill>
                <a:latin typeface="Times New Roman"/>
              </a:endParaRPr>
            </a:p>
          </p:txBody>
        </p:sp>
        <p:sp>
          <p:nvSpPr>
            <p:cNvPr id="433" name=""/>
            <p:cNvSpPr/>
            <p:nvPr/>
          </p:nvSpPr>
          <p:spPr>
            <a:xfrm rot="5400000">
              <a:off x="1143000" y="37339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4" name=""/>
          <p:cNvGrpSpPr/>
          <p:nvPr/>
        </p:nvGrpSpPr>
        <p:grpSpPr>
          <a:xfrm>
            <a:off x="1219320" y="4267080"/>
            <a:ext cx="4664880" cy="533520"/>
            <a:chOff x="1219320" y="4267080"/>
            <a:chExt cx="4664880" cy="533520"/>
          </a:xfrm>
        </p:grpSpPr>
        <p:sp>
          <p:nvSpPr>
            <p:cNvPr id="435" name=""/>
            <p:cNvSpPr/>
            <p:nvPr/>
          </p:nvSpPr>
          <p:spPr>
            <a:xfrm rot="5400000">
              <a:off x="1143000" y="43434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754640" y="4342320"/>
              <a:ext cx="41295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herrschen von Lerntechniken</a:t>
              </a:r>
              <a:endParaRPr b="0" lang="en-US" sz="2200" spc="-1" strike="noStrike">
                <a:solidFill>
                  <a:srgbClr val="000000"/>
                </a:solidFill>
                <a:latin typeface="Times New Roman"/>
              </a:endParaRPr>
            </a:p>
          </p:txBody>
        </p:sp>
      </p:grpSp>
      <p:grpSp>
        <p:nvGrpSpPr>
          <p:cNvPr id="437" name=""/>
          <p:cNvGrpSpPr/>
          <p:nvPr/>
        </p:nvGrpSpPr>
        <p:grpSpPr>
          <a:xfrm>
            <a:off x="1219320" y="4876920"/>
            <a:ext cx="4336560" cy="533160"/>
            <a:chOff x="1219320" y="4876920"/>
            <a:chExt cx="4336560" cy="533160"/>
          </a:xfrm>
        </p:grpSpPr>
        <p:sp>
          <p:nvSpPr>
            <p:cNvPr id="438" name=""/>
            <p:cNvSpPr/>
            <p:nvPr/>
          </p:nvSpPr>
          <p:spPr>
            <a:xfrm>
              <a:off x="1754280" y="4952160"/>
              <a:ext cx="38016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lbst- und Sozialkompetenz</a:t>
              </a:r>
              <a:endParaRPr b="0" lang="en-US" sz="2200" spc="-1" strike="noStrike">
                <a:solidFill>
                  <a:srgbClr val="000000"/>
                </a:solidFill>
                <a:latin typeface="Times New Roman"/>
              </a:endParaRPr>
            </a:p>
          </p:txBody>
        </p:sp>
        <p:sp>
          <p:nvSpPr>
            <p:cNvPr id="439" name=""/>
            <p:cNvSpPr/>
            <p:nvPr/>
          </p:nvSpPr>
          <p:spPr>
            <a:xfrm rot="5400000">
              <a:off x="1143000" y="49528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1219320" y="5486400"/>
            <a:ext cx="3591720" cy="533520"/>
            <a:chOff x="1219320" y="5486400"/>
            <a:chExt cx="3591720" cy="533520"/>
          </a:xfrm>
        </p:grpSpPr>
        <p:sp>
          <p:nvSpPr>
            <p:cNvPr id="441" name=""/>
            <p:cNvSpPr/>
            <p:nvPr/>
          </p:nvSpPr>
          <p:spPr>
            <a:xfrm>
              <a:off x="1754640" y="5561640"/>
              <a:ext cx="30564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bringen von Leistung</a:t>
              </a:r>
              <a:endParaRPr b="0" lang="en-US" sz="2200" spc="-1" strike="noStrike">
                <a:solidFill>
                  <a:srgbClr val="000000"/>
                </a:solidFill>
                <a:latin typeface="Times New Roman"/>
              </a:endParaRPr>
            </a:p>
          </p:txBody>
        </p:sp>
        <p:sp>
          <p:nvSpPr>
            <p:cNvPr id="442" name=""/>
            <p:cNvSpPr/>
            <p:nvPr/>
          </p:nvSpPr>
          <p:spPr>
            <a:xfrm rot="5400000">
              <a:off x="1143000" y="55627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5" name="bmuk_sw" descr=""/>
          <p:cNvPicPr/>
          <p:nvPr/>
        </p:nvPicPr>
        <p:blipFill>
          <a:blip r:embed="rId1"/>
          <a:stretch/>
        </p:blipFill>
        <p:spPr>
          <a:xfrm>
            <a:off x="76320" y="0"/>
            <a:ext cx="1218960" cy="566640"/>
          </a:xfrm>
          <a:prstGeom prst="rect">
            <a:avLst/>
          </a:prstGeom>
          <a:ln w="0">
            <a:noFill/>
          </a:ln>
        </p:spPr>
      </p:pic>
      <p:sp>
        <p:nvSpPr>
          <p:cNvPr id="44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1523880" y="1393920"/>
          <a:ext cx="6097680" cy="4062240"/>
        </p:xfrm>
        <a:graphic>
          <a:graphicData uri="http://schemas.openxmlformats.org/presentationml/2006/ole">
            <p:oleObj r:id="rId2" spid="">
              <p:embed/>
              <p:pic>
                <p:nvPicPr>
                  <p:cNvPr id="448" name="" descr=""/>
                  <p:cNvPicPr/>
                  <p:nvPr/>
                </p:nvPicPr>
                <p:blipFill>
                  <a:blip r:embed="rId3"/>
                  <a:stretch/>
                </p:blipFill>
                <p:spPr>
                  <a:xfrm>
                    <a:off x="1523880" y="1393920"/>
                    <a:ext cx="6097680" cy="4062240"/>
                  </a:xfrm>
                  <a:prstGeom prst="rect">
                    <a:avLst/>
                  </a:prstGeom>
                  <a:ln w="0">
                    <a:noFill/>
                  </a:ln>
                </p:spPr>
              </p:pic>
            </p:oleObj>
          </a:graphicData>
        </a:graphic>
      </p:graphicFrame>
      <p:sp>
        <p:nvSpPr>
          <p:cNvPr id="449" name=""/>
          <p:cNvSpPr/>
          <p:nvPr/>
        </p:nvSpPr>
        <p:spPr>
          <a:xfrm>
            <a:off x="1677600" y="1294200"/>
            <a:ext cx="293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hren und Lernen</a:t>
            </a:r>
            <a:endParaRPr b="0" lang="en-US" sz="2400" spc="-1" strike="noStrike">
              <a:solidFill>
                <a:srgbClr val="000000"/>
              </a:solidFill>
              <a:latin typeface="Times New Roman"/>
            </a:endParaRPr>
          </a:p>
        </p:txBody>
      </p:sp>
      <p:grpSp>
        <p:nvGrpSpPr>
          <p:cNvPr id="450" name=""/>
          <p:cNvGrpSpPr/>
          <p:nvPr/>
        </p:nvGrpSpPr>
        <p:grpSpPr>
          <a:xfrm>
            <a:off x="762120" y="2120400"/>
            <a:ext cx="4083480" cy="546120"/>
            <a:chOff x="762120" y="2120400"/>
            <a:chExt cx="4083480" cy="546120"/>
          </a:xfrm>
        </p:grpSpPr>
        <p:sp>
          <p:nvSpPr>
            <p:cNvPr id="451" name=""/>
            <p:cNvSpPr/>
            <p:nvPr/>
          </p:nvSpPr>
          <p:spPr>
            <a:xfrm flipV="1">
              <a:off x="762120" y="2120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769400" y="2162520"/>
              <a:ext cx="307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rbrachte Leistungen</a:t>
              </a:r>
              <a:endParaRPr b="0" lang="en-US" sz="2400" spc="-1" strike="noStrike">
                <a:solidFill>
                  <a:srgbClr val="000000"/>
                </a:solidFill>
                <a:latin typeface="Times New Roman"/>
              </a:endParaRPr>
            </a:p>
          </p:txBody>
        </p:sp>
      </p:grpSp>
      <p:sp>
        <p:nvSpPr>
          <p:cNvPr id="453" name=""/>
          <p:cNvSpPr/>
          <p:nvPr/>
        </p:nvSpPr>
        <p:spPr>
          <a:xfrm flipV="1">
            <a:off x="762120" y="32760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V="1">
            <a:off x="762120" y="4330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757520" y="3305520"/>
            <a:ext cx="654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otentiale und Lernfortschritt der Schüler/innen</a:t>
            </a:r>
            <a:endParaRPr b="0" lang="en-US" sz="2400" spc="-1" strike="noStrike">
              <a:solidFill>
                <a:srgbClr val="000000"/>
              </a:solidFill>
              <a:latin typeface="Times New Roman"/>
            </a:endParaRPr>
          </a:p>
        </p:txBody>
      </p:sp>
      <p:sp>
        <p:nvSpPr>
          <p:cNvPr id="456" name=""/>
          <p:cNvSpPr/>
          <p:nvPr/>
        </p:nvSpPr>
        <p:spPr>
          <a:xfrm>
            <a:off x="1758600" y="4418640"/>
            <a:ext cx="6294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hr- und Lernangebot der Schule insgesamt</a:t>
            </a:r>
            <a:endParaRPr b="0" lang="en-US" sz="2400" spc="-1" strike="noStrike">
              <a:solidFill>
                <a:srgbClr val="000000"/>
              </a:solidFill>
              <a:latin typeface="Times New Roman"/>
            </a:endParaRPr>
          </a:p>
        </p:txBody>
      </p:sp>
      <p:sp>
        <p:nvSpPr>
          <p:cNvPr id="45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0" y="609480"/>
            <a:ext cx="2743200" cy="3812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0" y="609480"/>
            <a:ext cx="2819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Lehren und Lernen</a:t>
            </a:r>
            <a:endParaRPr b="0" lang="en-US" sz="2200" spc="-1" strike="noStrike">
              <a:solidFill>
                <a:srgbClr val="000000"/>
              </a:solidFill>
              <a:latin typeface="Times New Roman"/>
            </a:endParaRPr>
          </a:p>
        </p:txBody>
      </p:sp>
      <p:sp>
        <p:nvSpPr>
          <p:cNvPr id="4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bmuk_sw" descr=""/>
          <p:cNvPicPr/>
          <p:nvPr/>
        </p:nvPicPr>
        <p:blipFill>
          <a:blip r:embed="rId1"/>
          <a:stretch/>
        </p:blipFill>
        <p:spPr>
          <a:xfrm>
            <a:off x="76320" y="0"/>
            <a:ext cx="1218960" cy="566640"/>
          </a:xfrm>
          <a:prstGeom prst="rect">
            <a:avLst/>
          </a:prstGeom>
          <a:ln w="0">
            <a:noFill/>
          </a:ln>
        </p:spPr>
      </p:pic>
      <p:sp>
        <p:nvSpPr>
          <p:cNvPr id="46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9" name=""/>
          <p:cNvGraphicFramePr/>
          <p:nvPr/>
        </p:nvGraphicFramePr>
        <p:xfrm>
          <a:off x="1447920" y="1371600"/>
          <a:ext cx="6097320" cy="4062240"/>
        </p:xfrm>
        <a:graphic>
          <a:graphicData uri="http://schemas.openxmlformats.org/presentationml/2006/ole">
            <p:oleObj r:id="rId2" spid="">
              <p:embed/>
              <p:pic>
                <p:nvPicPr>
                  <p:cNvPr id="470" name="" descr=""/>
                  <p:cNvPicPr/>
                  <p:nvPr/>
                </p:nvPicPr>
                <p:blipFill>
                  <a:blip r:embed="rId3"/>
                  <a:stretch/>
                </p:blipFill>
                <p:spPr>
                  <a:xfrm>
                    <a:off x="1447920" y="1371600"/>
                    <a:ext cx="6097320" cy="4062240"/>
                  </a:xfrm>
                  <a:prstGeom prst="rect">
                    <a:avLst/>
                  </a:prstGeom>
                  <a:ln w="0">
                    <a:noFill/>
                  </a:ln>
                </p:spPr>
              </p:pic>
            </p:oleObj>
          </a:graphicData>
        </a:graphic>
      </p:graphicFrame>
      <p:sp>
        <p:nvSpPr>
          <p:cNvPr id="471" name=""/>
          <p:cNvSpPr/>
          <p:nvPr/>
        </p:nvSpPr>
        <p:spPr>
          <a:xfrm>
            <a:off x="1835280" y="1446840"/>
            <a:ext cx="368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Subjektives Wohlbefinden</a:t>
            </a:r>
            <a:endParaRPr b="0" lang="en-US" sz="2400" spc="-1" strike="noStrike">
              <a:solidFill>
                <a:srgbClr val="000000"/>
              </a:solidFill>
              <a:latin typeface="Times New Roman"/>
            </a:endParaRPr>
          </a:p>
        </p:txBody>
      </p:sp>
      <p:sp>
        <p:nvSpPr>
          <p:cNvPr id="472" name=""/>
          <p:cNvSpPr/>
          <p:nvPr/>
        </p:nvSpPr>
        <p:spPr>
          <a:xfrm>
            <a:off x="1836720" y="2208600"/>
            <a:ext cx="510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Soziales Klima in Klasse und Schule</a:t>
            </a:r>
            <a:endParaRPr b="0" lang="en-US" sz="2400" spc="-1" strike="noStrike">
              <a:solidFill>
                <a:srgbClr val="000000"/>
              </a:solidFill>
              <a:latin typeface="Times New Roman"/>
            </a:endParaRPr>
          </a:p>
        </p:txBody>
      </p:sp>
      <p:sp>
        <p:nvSpPr>
          <p:cNvPr id="473" name=""/>
          <p:cNvSpPr/>
          <p:nvPr/>
        </p:nvSpPr>
        <p:spPr>
          <a:xfrm>
            <a:off x="1833120" y="2894040"/>
            <a:ext cx="4159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mgang mit Minderhei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it Problemen und Konflikten</a:t>
            </a:r>
            <a:endParaRPr b="0" lang="en-US" sz="2400" spc="-1" strike="noStrike">
              <a:solidFill>
                <a:srgbClr val="000000"/>
              </a:solidFill>
              <a:latin typeface="Times New Roman"/>
            </a:endParaRPr>
          </a:p>
        </p:txBody>
      </p:sp>
      <p:sp>
        <p:nvSpPr>
          <p:cNvPr id="47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0" y="609480"/>
            <a:ext cx="4419720" cy="3812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
          <p:cNvSpPr/>
          <p:nvPr/>
        </p:nvSpPr>
        <p:spPr>
          <a:xfrm>
            <a:off x="0" y="609480"/>
            <a:ext cx="4572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Lebensraum Klasse und Schule</a:t>
            </a:r>
            <a:endParaRPr b="0" lang="en-US" sz="2200" spc="-1" strike="noStrike">
              <a:solidFill>
                <a:srgbClr val="000000"/>
              </a:solidFill>
              <a:latin typeface="Times New Roman"/>
            </a:endParaRPr>
          </a:p>
        </p:txBody>
      </p:sp>
      <p:sp>
        <p:nvSpPr>
          <p:cNvPr id="48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5400000">
            <a:off x="1143000" y="15238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5400000">
            <a:off x="1143000" y="22860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rot="5400000">
            <a:off x="1143000" y="30481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rot="5400000">
            <a:off x="1143000" y="38862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rot="5400000">
            <a:off x="1143000" y="48769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rot="5400000">
            <a:off x="1143000" y="56386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33120" y="3732480"/>
            <a:ext cx="4431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Gestaltung der Räumlichkei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d Ambiente der Schule</a:t>
            </a:r>
            <a:endParaRPr b="0" lang="en-US" sz="2400" spc="-1" strike="noStrike">
              <a:solidFill>
                <a:srgbClr val="000000"/>
              </a:solidFill>
              <a:latin typeface="Times New Roman"/>
            </a:endParaRPr>
          </a:p>
        </p:txBody>
      </p:sp>
      <p:sp>
        <p:nvSpPr>
          <p:cNvPr id="489" name=""/>
          <p:cNvSpPr/>
          <p:nvPr/>
        </p:nvSpPr>
        <p:spPr>
          <a:xfrm>
            <a:off x="1833840" y="4799520"/>
            <a:ext cx="5074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ngebote außerhalb des Unterrichts</a:t>
            </a:r>
            <a:endParaRPr b="0" lang="en-US" sz="2400" spc="-1" strike="noStrike">
              <a:solidFill>
                <a:srgbClr val="000000"/>
              </a:solidFill>
              <a:latin typeface="Times New Roman"/>
            </a:endParaRPr>
          </a:p>
        </p:txBody>
      </p:sp>
      <p:sp>
        <p:nvSpPr>
          <p:cNvPr id="490" name=""/>
          <p:cNvSpPr/>
          <p:nvPr/>
        </p:nvSpPr>
        <p:spPr>
          <a:xfrm>
            <a:off x="1837440" y="5561640"/>
            <a:ext cx="4476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Reichhaltigkeit des Schullebens</a:t>
            </a:r>
            <a:endParaRPr b="0" lang="en-US" sz="2400" spc="-1" strike="noStrike">
              <a:solidFill>
                <a:srgbClr val="000000"/>
              </a:solidFill>
              <a:latin typeface="Times New Roman"/>
            </a:endParaRPr>
          </a:p>
        </p:txBody>
      </p:sp>
      <p:sp>
        <p:nvSpPr>
          <p:cNvPr id="491"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3" name="bmuk_sw" descr=""/>
          <p:cNvPicPr/>
          <p:nvPr/>
        </p:nvPicPr>
        <p:blipFill>
          <a:blip r:embed="rId1"/>
          <a:stretch/>
        </p:blipFill>
        <p:spPr>
          <a:xfrm>
            <a:off x="76320" y="0"/>
            <a:ext cx="1218960" cy="566640"/>
          </a:xfrm>
          <a:prstGeom prst="rect">
            <a:avLst/>
          </a:prstGeom>
          <a:ln w="0">
            <a:noFill/>
          </a:ln>
        </p:spPr>
      </p:pic>
      <p:sp>
        <p:nvSpPr>
          <p:cNvPr id="49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5" name=""/>
          <p:cNvGraphicFramePr/>
          <p:nvPr/>
        </p:nvGraphicFramePr>
        <p:xfrm>
          <a:off x="1523880" y="1393920"/>
          <a:ext cx="6097680" cy="4062240"/>
        </p:xfrm>
        <a:graphic>
          <a:graphicData uri="http://schemas.openxmlformats.org/presentationml/2006/ole">
            <p:oleObj r:id="rId2" spid="">
              <p:embed/>
              <p:pic>
                <p:nvPicPr>
                  <p:cNvPr id="496" name="" descr=""/>
                  <p:cNvPicPr/>
                  <p:nvPr/>
                </p:nvPicPr>
                <p:blipFill>
                  <a:blip r:embed="rId3"/>
                  <a:stretch/>
                </p:blipFill>
                <p:spPr>
                  <a:xfrm>
                    <a:off x="1523880" y="1393920"/>
                    <a:ext cx="6097680" cy="4062240"/>
                  </a:xfrm>
                  <a:prstGeom prst="rect">
                    <a:avLst/>
                  </a:prstGeom>
                  <a:ln w="0">
                    <a:noFill/>
                  </a:ln>
                </p:spPr>
              </p:pic>
            </p:oleObj>
          </a:graphicData>
        </a:graphic>
      </p:graphicFrame>
      <p:grpSp>
        <p:nvGrpSpPr>
          <p:cNvPr id="497" name=""/>
          <p:cNvGrpSpPr/>
          <p:nvPr/>
        </p:nvGrpSpPr>
        <p:grpSpPr>
          <a:xfrm>
            <a:off x="762120" y="1979640"/>
            <a:ext cx="6726600" cy="825480"/>
            <a:chOff x="762120" y="1979640"/>
            <a:chExt cx="6726600" cy="825480"/>
          </a:xfrm>
        </p:grpSpPr>
        <p:sp>
          <p:nvSpPr>
            <p:cNvPr id="498" name=""/>
            <p:cNvSpPr/>
            <p:nvPr/>
          </p:nvSpPr>
          <p:spPr>
            <a:xfrm flipV="1">
              <a:off x="762120" y="2120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773000" y="1979640"/>
              <a:ext cx="5715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Beteiligung der Eltern und Schüler/inn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m Schulleben</a:t>
              </a:r>
              <a:endParaRPr b="0" lang="en-US" sz="2400" spc="-1" strike="noStrike">
                <a:solidFill>
                  <a:srgbClr val="000000"/>
                </a:solidFill>
                <a:latin typeface="Times New Roman"/>
              </a:endParaRPr>
            </a:p>
          </p:txBody>
        </p:sp>
      </p:grpSp>
      <p:grpSp>
        <p:nvGrpSpPr>
          <p:cNvPr id="500" name=""/>
          <p:cNvGrpSpPr/>
          <p:nvPr/>
        </p:nvGrpSpPr>
        <p:grpSpPr>
          <a:xfrm>
            <a:off x="762120" y="2971440"/>
            <a:ext cx="6595560" cy="546120"/>
            <a:chOff x="762120" y="2971440"/>
            <a:chExt cx="6595560" cy="546120"/>
          </a:xfrm>
        </p:grpSpPr>
        <p:sp>
          <p:nvSpPr>
            <p:cNvPr id="501" name=""/>
            <p:cNvSpPr/>
            <p:nvPr/>
          </p:nvSpPr>
          <p:spPr>
            <a:xfrm flipV="1">
              <a:off x="762120" y="2971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1756080" y="3000960"/>
              <a:ext cx="560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Zufriedenheit mit der Schulpartnerschaft</a:t>
              </a:r>
              <a:endParaRPr b="0" lang="en-US" sz="2400" spc="-1" strike="noStrike">
                <a:solidFill>
                  <a:srgbClr val="000000"/>
                </a:solidFill>
                <a:latin typeface="Times New Roman"/>
              </a:endParaRPr>
            </a:p>
          </p:txBody>
        </p:sp>
      </p:grpSp>
      <p:grpSp>
        <p:nvGrpSpPr>
          <p:cNvPr id="503" name=""/>
          <p:cNvGrpSpPr/>
          <p:nvPr/>
        </p:nvGrpSpPr>
        <p:grpSpPr>
          <a:xfrm>
            <a:off x="762120" y="3638520"/>
            <a:ext cx="5731560" cy="825480"/>
            <a:chOff x="762120" y="3638520"/>
            <a:chExt cx="5731560" cy="825480"/>
          </a:xfrm>
        </p:grpSpPr>
        <p:sp>
          <p:nvSpPr>
            <p:cNvPr id="504" name=""/>
            <p:cNvSpPr/>
            <p:nvPr/>
          </p:nvSpPr>
          <p:spPr>
            <a:xfrm flipV="1">
              <a:off x="762120" y="38091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1757880" y="3638520"/>
              <a:ext cx="4735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Zusammenarbe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it dem nicht-lehrenden Personal</a:t>
              </a:r>
              <a:endParaRPr b="0" lang="en-US" sz="2400" spc="-1" strike="noStrike">
                <a:solidFill>
                  <a:srgbClr val="000000"/>
                </a:solidFill>
                <a:latin typeface="Times New Roman"/>
              </a:endParaRPr>
            </a:p>
          </p:txBody>
        </p:sp>
      </p:grpSp>
      <p:grpSp>
        <p:nvGrpSpPr>
          <p:cNvPr id="506" name=""/>
          <p:cNvGrpSpPr/>
          <p:nvPr/>
        </p:nvGrpSpPr>
        <p:grpSpPr>
          <a:xfrm>
            <a:off x="762120" y="4571280"/>
            <a:ext cx="5815800" cy="1557000"/>
            <a:chOff x="762120" y="4571280"/>
            <a:chExt cx="5815800" cy="1557000"/>
          </a:xfrm>
        </p:grpSpPr>
        <p:sp>
          <p:nvSpPr>
            <p:cNvPr id="507" name=""/>
            <p:cNvSpPr/>
            <p:nvPr/>
          </p:nvSpPr>
          <p:spPr>
            <a:xfrm flipV="1">
              <a:off x="762120" y="47412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756440" y="4571280"/>
              <a:ext cx="482148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Kommunikation und Koope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mit Schulaufsicht und -verwaltu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sowie schulexternen Institution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9"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0" y="609480"/>
            <a:ext cx="6095880" cy="3812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0" y="609480"/>
            <a:ext cx="617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artnerschaft und Außenbeziehungen</a:t>
            </a:r>
            <a:endParaRPr b="0" lang="en-US" sz="2200" spc="-1" strike="noStrike">
              <a:solidFill>
                <a:srgbClr val="000000"/>
              </a:solidFill>
              <a:latin typeface="Times New Roman"/>
            </a:endParaRPr>
          </a:p>
        </p:txBody>
      </p:sp>
      <p:sp>
        <p:nvSpPr>
          <p:cNvPr id="51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bmuk_sw" descr=""/>
          <p:cNvPicPr/>
          <p:nvPr/>
        </p:nvPicPr>
        <p:blipFill>
          <a:blip r:embed="rId1"/>
          <a:stretch/>
        </p:blipFill>
        <p:spPr>
          <a:xfrm>
            <a:off x="76320" y="0"/>
            <a:ext cx="1218960" cy="566640"/>
          </a:xfrm>
          <a:prstGeom prst="rect">
            <a:avLst/>
          </a:prstGeom>
          <a:ln w="0">
            <a:noFill/>
          </a:ln>
        </p:spPr>
      </p:pic>
      <p:sp>
        <p:nvSpPr>
          <p:cNvPr id="5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09480"/>
            <a:ext cx="2895480" cy="381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33520" y="563400"/>
            <a:ext cx="2819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usgangspunkt</a:t>
            </a:r>
            <a:endParaRPr b="0" lang="en-US" sz="2200" spc="-1" strike="noStrike">
              <a:solidFill>
                <a:srgbClr val="000000"/>
              </a:solidFill>
              <a:latin typeface="Times New Roman"/>
            </a:endParaRPr>
          </a:p>
        </p:txBody>
      </p:sp>
      <p:sp>
        <p:nvSpPr>
          <p:cNvPr id="62" name=""/>
          <p:cNvSpPr/>
          <p:nvPr/>
        </p:nvSpPr>
        <p:spPr>
          <a:xfrm>
            <a:off x="1752480" y="1295280"/>
            <a:ext cx="769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00"/>
                </a:solidFill>
                <a:latin typeface="Arial"/>
              </a:rPr>
              <a:t>An Österreichs Schul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00"/>
                </a:solidFill>
                <a:latin typeface="Arial"/>
              </a:rPr>
              <a:t>wird gute Arbeit geleist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ein Zweifel. Jedo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00"/>
                </a:solidFill>
                <a:latin typeface="Arial"/>
              </a:rPr>
              <a:t>	</a:t>
            </a:r>
            <a:r>
              <a:rPr b="0" lang="de-DE" sz="2400" spc="-1" strike="noStrike">
                <a:solidFill>
                  <a:srgbClr val="e20000"/>
                </a:solidFill>
                <a:latin typeface="Arial"/>
              </a:rPr>
              <a:t>Die Zeit bleibt nicht steh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Was gestern gut war, kann au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für morgen tau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Muss aber nic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Was bleibt, was sich verändern so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gilt es herauszufi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e20000"/>
                </a:solidFill>
                <a:latin typeface="Arial"/>
              </a:rPr>
              <a:t>	</a:t>
            </a:r>
            <a:r>
              <a:rPr b="0" lang="de-DE" sz="2400" spc="-1" strike="noStrike">
                <a:solidFill>
                  <a:srgbClr val="e20000"/>
                </a:solidFill>
                <a:latin typeface="Arial"/>
              </a:rPr>
              <a:t>Gemeinsam.</a:t>
            </a:r>
            <a:endParaRPr b="0" lang="en-US" sz="2400" spc="-1" strike="noStrike">
              <a:solidFill>
                <a:srgbClr val="000000"/>
              </a:solidFill>
              <a:latin typeface="Times New Roman"/>
            </a:endParaRPr>
          </a:p>
        </p:txBody>
      </p:sp>
      <p:sp>
        <p:nvSpPr>
          <p:cNvPr id="63"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9" name="bmuk_sw" descr=""/>
          <p:cNvPicPr/>
          <p:nvPr/>
        </p:nvPicPr>
        <p:blipFill>
          <a:blip r:embed="rId1"/>
          <a:stretch/>
        </p:blipFill>
        <p:spPr>
          <a:xfrm>
            <a:off x="76320" y="0"/>
            <a:ext cx="1218960" cy="566640"/>
          </a:xfrm>
          <a:prstGeom prst="rect">
            <a:avLst/>
          </a:prstGeom>
          <a:ln w="0">
            <a:noFill/>
          </a:ln>
        </p:spPr>
      </p:pic>
      <p:sp>
        <p:nvSpPr>
          <p:cNvPr id="52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21" name=""/>
          <p:cNvGraphicFramePr/>
          <p:nvPr/>
        </p:nvGraphicFramePr>
        <p:xfrm>
          <a:off x="1523880" y="1393920"/>
          <a:ext cx="6097680" cy="4062240"/>
        </p:xfrm>
        <a:graphic>
          <a:graphicData uri="http://schemas.openxmlformats.org/presentationml/2006/ole">
            <p:oleObj r:id="rId2" spid="">
              <p:embed/>
              <p:pic>
                <p:nvPicPr>
                  <p:cNvPr id="522" name="" descr=""/>
                  <p:cNvPicPr/>
                  <p:nvPr/>
                </p:nvPicPr>
                <p:blipFill>
                  <a:blip r:embed="rId3"/>
                  <a:stretch/>
                </p:blipFill>
                <p:spPr>
                  <a:xfrm>
                    <a:off x="1523880" y="1393920"/>
                    <a:ext cx="6097680" cy="4062240"/>
                  </a:xfrm>
                  <a:prstGeom prst="rect">
                    <a:avLst/>
                  </a:prstGeom>
                  <a:ln w="0">
                    <a:noFill/>
                  </a:ln>
                </p:spPr>
              </p:pic>
            </p:oleObj>
          </a:graphicData>
        </a:graphic>
      </p:graphicFrame>
      <p:sp>
        <p:nvSpPr>
          <p:cNvPr id="52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0" y="609480"/>
            <a:ext cx="2743200" cy="381240"/>
          </a:xfrm>
          <a:prstGeom prst="rect">
            <a:avLst/>
          </a:prstGeom>
          <a:solidFill>
            <a:srgbClr val="0080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0" y="60948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management</a:t>
            </a:r>
            <a:endParaRPr b="0" lang="en-US" sz="2200" spc="-1" strike="noStrike">
              <a:solidFill>
                <a:srgbClr val="000000"/>
              </a:solidFill>
              <a:latin typeface="Times New Roman"/>
            </a:endParaRPr>
          </a:p>
        </p:txBody>
      </p:sp>
      <p:sp>
        <p:nvSpPr>
          <p:cNvPr id="53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1219320" y="1386000"/>
            <a:ext cx="4795200" cy="825480"/>
            <a:chOff x="1219320" y="1386000"/>
            <a:chExt cx="4795200" cy="825480"/>
          </a:xfrm>
        </p:grpSpPr>
        <p:sp>
          <p:nvSpPr>
            <p:cNvPr id="532" name=""/>
            <p:cNvSpPr/>
            <p:nvPr/>
          </p:nvSpPr>
          <p:spPr>
            <a:xfrm>
              <a:off x="1770840" y="1386000"/>
              <a:ext cx="4243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eitung, Organis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d Administration der Schule</a:t>
              </a:r>
              <a:endParaRPr b="0" lang="en-US" sz="2400" spc="-1" strike="noStrike">
                <a:solidFill>
                  <a:srgbClr val="000000"/>
                </a:solidFill>
                <a:latin typeface="Times New Roman"/>
              </a:endParaRPr>
            </a:p>
          </p:txBody>
        </p:sp>
        <p:sp>
          <p:nvSpPr>
            <p:cNvPr id="533" name=""/>
            <p:cNvSpPr/>
            <p:nvPr/>
          </p:nvSpPr>
          <p:spPr>
            <a:xfrm rot="5400000">
              <a:off x="1143000" y="15238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9320" y="2284560"/>
            <a:ext cx="5833440" cy="825480"/>
            <a:chOff x="1219320" y="2284560"/>
            <a:chExt cx="5833440" cy="825480"/>
          </a:xfrm>
        </p:grpSpPr>
        <p:sp>
          <p:nvSpPr>
            <p:cNvPr id="535" name=""/>
            <p:cNvSpPr/>
            <p:nvPr/>
          </p:nvSpPr>
          <p:spPr>
            <a:xfrm>
              <a:off x="1758960" y="2284560"/>
              <a:ext cx="5293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Führungsstil, pädagogisch-beraten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Kompetenz der Leitung</a:t>
              </a:r>
              <a:endParaRPr b="0" lang="en-US" sz="2400" spc="-1" strike="noStrike">
                <a:solidFill>
                  <a:srgbClr val="000000"/>
                </a:solidFill>
                <a:latin typeface="Times New Roman"/>
              </a:endParaRPr>
            </a:p>
          </p:txBody>
        </p:sp>
        <p:sp>
          <p:nvSpPr>
            <p:cNvPr id="536" name=""/>
            <p:cNvSpPr/>
            <p:nvPr/>
          </p:nvSpPr>
          <p:spPr>
            <a:xfrm rot="5400000">
              <a:off x="1143000" y="25146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219320" y="3351600"/>
            <a:ext cx="5171760" cy="534600"/>
            <a:chOff x="1219320" y="3351600"/>
            <a:chExt cx="5171760" cy="534600"/>
          </a:xfrm>
        </p:grpSpPr>
        <p:sp>
          <p:nvSpPr>
            <p:cNvPr id="538" name=""/>
            <p:cNvSpPr/>
            <p:nvPr/>
          </p:nvSpPr>
          <p:spPr>
            <a:xfrm rot="5400000">
              <a:off x="1143000" y="34290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760400" y="3351600"/>
              <a:ext cx="4630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ufgabenverteilung im Kollegium</a:t>
              </a:r>
              <a:endParaRPr b="0" lang="en-US" sz="2400" spc="-1" strike="noStrike">
                <a:solidFill>
                  <a:srgbClr val="000000"/>
                </a:solidFill>
                <a:latin typeface="Times New Roman"/>
              </a:endParaRPr>
            </a:p>
          </p:txBody>
        </p:sp>
      </p:grpSp>
      <p:grpSp>
        <p:nvGrpSpPr>
          <p:cNvPr id="540" name=""/>
          <p:cNvGrpSpPr/>
          <p:nvPr/>
        </p:nvGrpSpPr>
        <p:grpSpPr>
          <a:xfrm>
            <a:off x="1219320" y="4191120"/>
            <a:ext cx="6867000" cy="534600"/>
            <a:chOff x="1219320" y="4191120"/>
            <a:chExt cx="6867000" cy="534600"/>
          </a:xfrm>
        </p:grpSpPr>
        <p:sp>
          <p:nvSpPr>
            <p:cNvPr id="541" name=""/>
            <p:cNvSpPr/>
            <p:nvPr/>
          </p:nvSpPr>
          <p:spPr>
            <a:xfrm rot="5400000">
              <a:off x="1143000" y="4267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759320" y="4266000"/>
              <a:ext cx="6327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Informationsflüsse und Entscheidungsfindung</a:t>
              </a:r>
              <a:endParaRPr b="0" lang="en-US" sz="2400" spc="-1" strike="noStrike">
                <a:solidFill>
                  <a:srgbClr val="000000"/>
                </a:solidFill>
                <a:latin typeface="Times New Roman"/>
              </a:endParaRPr>
            </a:p>
          </p:txBody>
        </p:sp>
      </p:grpSp>
      <p:grpSp>
        <p:nvGrpSpPr>
          <p:cNvPr id="543" name=""/>
          <p:cNvGrpSpPr/>
          <p:nvPr/>
        </p:nvGrpSpPr>
        <p:grpSpPr>
          <a:xfrm>
            <a:off x="1219320" y="5029200"/>
            <a:ext cx="4070520" cy="534960"/>
            <a:chOff x="1219320" y="5029200"/>
            <a:chExt cx="4070520" cy="534960"/>
          </a:xfrm>
        </p:grpSpPr>
        <p:sp>
          <p:nvSpPr>
            <p:cNvPr id="544" name=""/>
            <p:cNvSpPr/>
            <p:nvPr/>
          </p:nvSpPr>
          <p:spPr>
            <a:xfrm rot="5400000">
              <a:off x="1143000" y="51055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756440" y="5104440"/>
              <a:ext cx="3533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mgang mit Ressourcen</a:t>
              </a:r>
              <a:endParaRPr b="0" lang="en-US" sz="2400" spc="-1" strike="noStrike">
                <a:solidFill>
                  <a:srgbClr val="000000"/>
                </a:solidFill>
                <a:latin typeface="Times New Roman"/>
              </a:endParaRPr>
            </a:p>
          </p:txBody>
        </p:sp>
      </p:grpSp>
      <p:sp>
        <p:nvSpPr>
          <p:cNvPr id="546"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8" name="bmuk_sw" descr=""/>
          <p:cNvPicPr/>
          <p:nvPr/>
        </p:nvPicPr>
        <p:blipFill>
          <a:blip r:embed="rId1"/>
          <a:stretch/>
        </p:blipFill>
        <p:spPr>
          <a:xfrm>
            <a:off x="76320" y="0"/>
            <a:ext cx="1218960" cy="566640"/>
          </a:xfrm>
          <a:prstGeom prst="rect">
            <a:avLst/>
          </a:prstGeom>
          <a:ln w="0">
            <a:noFill/>
          </a:ln>
        </p:spPr>
      </p:pic>
      <p:sp>
        <p:nvSpPr>
          <p:cNvPr id="54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0" name=""/>
          <p:cNvGraphicFramePr/>
          <p:nvPr/>
        </p:nvGraphicFramePr>
        <p:xfrm>
          <a:off x="1523880" y="1393920"/>
          <a:ext cx="6097680" cy="4062240"/>
        </p:xfrm>
        <a:graphic>
          <a:graphicData uri="http://schemas.openxmlformats.org/presentationml/2006/ole">
            <p:oleObj r:id="rId2" spid="">
              <p:embed/>
              <p:pic>
                <p:nvPicPr>
                  <p:cNvPr id="551" name="" descr=""/>
                  <p:cNvPicPr/>
                  <p:nvPr/>
                </p:nvPicPr>
                <p:blipFill>
                  <a:blip r:embed="rId3"/>
                  <a:stretch/>
                </p:blipFill>
                <p:spPr>
                  <a:xfrm>
                    <a:off x="1523880" y="1393920"/>
                    <a:ext cx="6097680" cy="4062240"/>
                  </a:xfrm>
                  <a:prstGeom prst="rect">
                    <a:avLst/>
                  </a:prstGeom>
                  <a:ln w="0">
                    <a:noFill/>
                  </a:ln>
                </p:spPr>
              </p:pic>
            </p:oleObj>
          </a:graphicData>
        </a:graphic>
      </p:graphicFrame>
      <p:grpSp>
        <p:nvGrpSpPr>
          <p:cNvPr id="552" name=""/>
          <p:cNvGrpSpPr/>
          <p:nvPr/>
        </p:nvGrpSpPr>
        <p:grpSpPr>
          <a:xfrm>
            <a:off x="762120" y="1979640"/>
            <a:ext cx="5302800" cy="825480"/>
            <a:chOff x="762120" y="1979640"/>
            <a:chExt cx="5302800" cy="825480"/>
          </a:xfrm>
        </p:grpSpPr>
        <p:sp>
          <p:nvSpPr>
            <p:cNvPr id="553" name=""/>
            <p:cNvSpPr/>
            <p:nvPr/>
          </p:nvSpPr>
          <p:spPr>
            <a:xfrm flipV="1">
              <a:off x="762120" y="2120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1770840" y="1979640"/>
              <a:ext cx="42940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ufgabenerfüllung 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Zusammenarbeit im Kollegium</a:t>
              </a:r>
              <a:endParaRPr b="0" lang="en-US" sz="2400" spc="-1" strike="noStrike">
                <a:solidFill>
                  <a:srgbClr val="000000"/>
                </a:solidFill>
                <a:latin typeface="Times New Roman"/>
              </a:endParaRPr>
            </a:p>
          </p:txBody>
        </p:sp>
      </p:grpSp>
      <p:grpSp>
        <p:nvGrpSpPr>
          <p:cNvPr id="555" name=""/>
          <p:cNvGrpSpPr/>
          <p:nvPr/>
        </p:nvGrpSpPr>
        <p:grpSpPr>
          <a:xfrm>
            <a:off x="762120" y="2971440"/>
            <a:ext cx="5545080" cy="546120"/>
            <a:chOff x="762120" y="2971440"/>
            <a:chExt cx="5545080" cy="546120"/>
          </a:xfrm>
        </p:grpSpPr>
        <p:sp>
          <p:nvSpPr>
            <p:cNvPr id="556" name=""/>
            <p:cNvSpPr/>
            <p:nvPr/>
          </p:nvSpPr>
          <p:spPr>
            <a:xfrm flipV="1">
              <a:off x="762120" y="2971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761840" y="3000960"/>
              <a:ext cx="4545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ehrer/innen-Leitbildentwicklung</a:t>
              </a:r>
              <a:endParaRPr b="0" lang="en-US" sz="2400" spc="-1" strike="noStrike">
                <a:solidFill>
                  <a:srgbClr val="000000"/>
                </a:solidFill>
                <a:latin typeface="Times New Roman"/>
              </a:endParaRPr>
            </a:p>
          </p:txBody>
        </p:sp>
      </p:grpSp>
      <p:grpSp>
        <p:nvGrpSpPr>
          <p:cNvPr id="558" name=""/>
          <p:cNvGrpSpPr/>
          <p:nvPr/>
        </p:nvGrpSpPr>
        <p:grpSpPr>
          <a:xfrm>
            <a:off x="762120" y="3638520"/>
            <a:ext cx="5713560" cy="825480"/>
            <a:chOff x="762120" y="3638520"/>
            <a:chExt cx="5713560" cy="825480"/>
          </a:xfrm>
        </p:grpSpPr>
        <p:sp>
          <p:nvSpPr>
            <p:cNvPr id="559" name=""/>
            <p:cNvSpPr/>
            <p:nvPr/>
          </p:nvSpPr>
          <p:spPr>
            <a:xfrm flipV="1">
              <a:off x="762120" y="38091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759680" y="3638520"/>
              <a:ext cx="4716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pädagogische Entwicklungs- 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Lehrplanarbeit an der Schule</a:t>
              </a:r>
              <a:endParaRPr b="0" lang="en-US" sz="2400" spc="-1" strike="noStrike">
                <a:solidFill>
                  <a:srgbClr val="000000"/>
                </a:solidFill>
                <a:latin typeface="Times New Roman"/>
              </a:endParaRPr>
            </a:p>
          </p:txBody>
        </p:sp>
      </p:grpSp>
      <p:grpSp>
        <p:nvGrpSpPr>
          <p:cNvPr id="561" name=""/>
          <p:cNvGrpSpPr/>
          <p:nvPr/>
        </p:nvGrpSpPr>
        <p:grpSpPr>
          <a:xfrm>
            <a:off x="762120" y="4571280"/>
            <a:ext cx="5578200" cy="1557000"/>
            <a:chOff x="762120" y="4571280"/>
            <a:chExt cx="5578200" cy="1557000"/>
          </a:xfrm>
        </p:grpSpPr>
        <p:sp>
          <p:nvSpPr>
            <p:cNvPr id="562" name=""/>
            <p:cNvSpPr/>
            <p:nvPr/>
          </p:nvSpPr>
          <p:spPr>
            <a:xfrm flipV="1">
              <a:off x="762120" y="47412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755360" y="4571280"/>
              <a:ext cx="45849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Innovationsbereitschaf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und systematische Maßnahm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der Personalentwickl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0" y="609480"/>
            <a:ext cx="5791320" cy="381240"/>
          </a:xfrm>
          <a:prstGeom prst="rect">
            <a:avLst/>
          </a:prstGeom>
          <a:solidFill>
            <a:srgbClr val="0066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76320" y="609480"/>
            <a:ext cx="5790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Professionalität und Personalentwicklung</a:t>
            </a:r>
            <a:endParaRPr b="0" lang="en-US" sz="2200" spc="-1" strike="noStrike">
              <a:solidFill>
                <a:srgbClr val="000000"/>
              </a:solidFill>
              <a:latin typeface="Times New Roman"/>
            </a:endParaRPr>
          </a:p>
        </p:txBody>
      </p:sp>
      <p:sp>
        <p:nvSpPr>
          <p:cNvPr id="57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bmuk_sw" descr=""/>
          <p:cNvPicPr/>
          <p:nvPr/>
        </p:nvPicPr>
        <p:blipFill>
          <a:blip r:embed="rId1"/>
          <a:stretch/>
        </p:blipFill>
        <p:spPr>
          <a:xfrm>
            <a:off x="76320" y="0"/>
            <a:ext cx="1218960" cy="566640"/>
          </a:xfrm>
          <a:prstGeom prst="rect">
            <a:avLst/>
          </a:prstGeom>
          <a:ln w="0">
            <a:noFill/>
          </a:ln>
        </p:spPr>
      </p:pic>
      <p:sp>
        <p:nvSpPr>
          <p:cNvPr id="57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0" y="609480"/>
            <a:ext cx="26668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 in Schule</a:t>
            </a:r>
            <a:endParaRPr b="0" lang="en-US" sz="2200" spc="-1" strike="noStrike">
              <a:solidFill>
                <a:srgbClr val="000000"/>
              </a:solidFill>
              <a:latin typeface="Times New Roman"/>
            </a:endParaRPr>
          </a:p>
        </p:txBody>
      </p:sp>
      <p:grpSp>
        <p:nvGrpSpPr>
          <p:cNvPr id="585" name=""/>
          <p:cNvGrpSpPr/>
          <p:nvPr/>
        </p:nvGrpSpPr>
        <p:grpSpPr>
          <a:xfrm>
            <a:off x="1143000" y="913320"/>
            <a:ext cx="3505320" cy="459720"/>
            <a:chOff x="1143000" y="913320"/>
            <a:chExt cx="3505320" cy="459720"/>
          </a:xfrm>
        </p:grpSpPr>
        <p:sp>
          <p:nvSpPr>
            <p:cNvPr id="586" name=""/>
            <p:cNvSpPr/>
            <p:nvPr/>
          </p:nvSpPr>
          <p:spPr>
            <a:xfrm>
              <a:off x="1143000" y="990720"/>
              <a:ext cx="35053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1671840" y="913320"/>
              <a:ext cx="251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588" name=""/>
          <p:cNvGrpSpPr/>
          <p:nvPr/>
        </p:nvGrpSpPr>
        <p:grpSpPr>
          <a:xfrm>
            <a:off x="4648320" y="913320"/>
            <a:ext cx="4495680" cy="459720"/>
            <a:chOff x="4648320" y="913320"/>
            <a:chExt cx="4495680" cy="459720"/>
          </a:xfrm>
        </p:grpSpPr>
        <p:sp>
          <p:nvSpPr>
            <p:cNvPr id="589" name=""/>
            <p:cNvSpPr/>
            <p:nvPr/>
          </p:nvSpPr>
          <p:spPr>
            <a:xfrm>
              <a:off x="4648320" y="990720"/>
              <a:ext cx="4495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1160" y="913320"/>
              <a:ext cx="172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valuation</a:t>
              </a:r>
              <a:endParaRPr b="0" lang="en-US" sz="2400" spc="-1" strike="noStrike">
                <a:solidFill>
                  <a:srgbClr val="000000"/>
                </a:solidFill>
                <a:latin typeface="Times New Roman"/>
              </a:endParaRPr>
            </a:p>
          </p:txBody>
        </p:sp>
      </p:grpSp>
      <p:grpSp>
        <p:nvGrpSpPr>
          <p:cNvPr id="591" name=""/>
          <p:cNvGrpSpPr/>
          <p:nvPr/>
        </p:nvGrpSpPr>
        <p:grpSpPr>
          <a:xfrm>
            <a:off x="3479760" y="1371600"/>
            <a:ext cx="2297160" cy="1339560"/>
            <a:chOff x="3479760" y="1371600"/>
            <a:chExt cx="2297160" cy="1339560"/>
          </a:xfrm>
        </p:grpSpPr>
        <p:sp>
          <p:nvSpPr>
            <p:cNvPr id="592" name=""/>
            <p:cNvSpPr/>
            <p:nvPr/>
          </p:nvSpPr>
          <p:spPr>
            <a:xfrm>
              <a:off x="3479760" y="1371600"/>
              <a:ext cx="2297160" cy="1339560"/>
            </a:xfrm>
            <a:prstGeom prst="rect">
              <a:avLst/>
            </a:prstGeom>
            <a:solidFill>
              <a:srgbClr val="0000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23920" y="1517040"/>
              <a:ext cx="16866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msetzung</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nkreter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ßnahmen</a:t>
              </a:r>
              <a:endParaRPr b="0" lang="en-US" sz="2000" spc="-1" strike="noStrike">
                <a:solidFill>
                  <a:srgbClr val="000000"/>
                </a:solidFill>
                <a:latin typeface="Times New Roman"/>
              </a:endParaRPr>
            </a:p>
          </p:txBody>
        </p:sp>
      </p:grpSp>
      <p:grpSp>
        <p:nvGrpSpPr>
          <p:cNvPr id="594" name=""/>
          <p:cNvGrpSpPr/>
          <p:nvPr/>
        </p:nvGrpSpPr>
        <p:grpSpPr>
          <a:xfrm>
            <a:off x="6448320" y="3860640"/>
            <a:ext cx="2558520" cy="669960"/>
            <a:chOff x="6448320" y="3860640"/>
            <a:chExt cx="2558520" cy="669960"/>
          </a:xfrm>
        </p:grpSpPr>
        <p:sp>
          <p:nvSpPr>
            <p:cNvPr id="595" name=""/>
            <p:cNvSpPr/>
            <p:nvPr/>
          </p:nvSpPr>
          <p:spPr>
            <a:xfrm>
              <a:off x="6448320" y="3860640"/>
              <a:ext cx="2543400" cy="66996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76040" y="3964320"/>
              <a:ext cx="253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standsaufnahme</a:t>
              </a:r>
              <a:endParaRPr b="0" lang="en-US" sz="2000" spc="-1" strike="noStrike">
                <a:solidFill>
                  <a:srgbClr val="000000"/>
                </a:solidFill>
                <a:latin typeface="Times New Roman"/>
              </a:endParaRPr>
            </a:p>
          </p:txBody>
        </p:sp>
      </p:grpSp>
      <p:grpSp>
        <p:nvGrpSpPr>
          <p:cNvPr id="597" name=""/>
          <p:cNvGrpSpPr/>
          <p:nvPr/>
        </p:nvGrpSpPr>
        <p:grpSpPr>
          <a:xfrm>
            <a:off x="3479760" y="5103720"/>
            <a:ext cx="2297160" cy="1339920"/>
            <a:chOff x="3479760" y="5103720"/>
            <a:chExt cx="2297160" cy="1339920"/>
          </a:xfrm>
        </p:grpSpPr>
        <p:sp>
          <p:nvSpPr>
            <p:cNvPr id="598" name=""/>
            <p:cNvSpPr/>
            <p:nvPr/>
          </p:nvSpPr>
          <p:spPr>
            <a:xfrm>
              <a:off x="3479760" y="5103720"/>
              <a:ext cx="2297160" cy="1339920"/>
            </a:xfrm>
            <a:prstGeom prst="rect">
              <a:avLst/>
            </a:prstGeom>
            <a:solidFill>
              <a:srgbClr val="00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710160" y="5393520"/>
              <a:ext cx="1895400" cy="70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flexion</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 Ergebnisse</a:t>
              </a:r>
              <a:endParaRPr b="0" lang="en-US" sz="2000" spc="-1" strike="noStrike">
                <a:solidFill>
                  <a:srgbClr val="000000"/>
                </a:solidFill>
                <a:latin typeface="Times New Roman"/>
              </a:endParaRPr>
            </a:p>
          </p:txBody>
        </p:sp>
      </p:grpSp>
      <p:grpSp>
        <p:nvGrpSpPr>
          <p:cNvPr id="600" name=""/>
          <p:cNvGrpSpPr/>
          <p:nvPr/>
        </p:nvGrpSpPr>
        <p:grpSpPr>
          <a:xfrm>
            <a:off x="583560" y="3189240"/>
            <a:ext cx="2323080" cy="1341360"/>
            <a:chOff x="583560" y="3189240"/>
            <a:chExt cx="2323080" cy="1341360"/>
          </a:xfrm>
        </p:grpSpPr>
        <p:sp>
          <p:nvSpPr>
            <p:cNvPr id="601" name=""/>
            <p:cNvSpPr/>
            <p:nvPr/>
          </p:nvSpPr>
          <p:spPr>
            <a:xfrm>
              <a:off x="609480" y="3189240"/>
              <a:ext cx="2297160" cy="1341360"/>
            </a:xfrm>
            <a:prstGeom prst="rect">
              <a:avLst/>
            </a:prstGeom>
            <a:solidFill>
              <a:srgbClr val="00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3560" y="3349080"/>
              <a:ext cx="23220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chulprogramm</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iele und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rhaben</a:t>
              </a:r>
              <a:endParaRPr b="0" lang="en-US" sz="2000" spc="-1" strike="noStrike">
                <a:solidFill>
                  <a:srgbClr val="000000"/>
                </a:solidFill>
                <a:latin typeface="Times New Roman"/>
              </a:endParaRPr>
            </a:p>
          </p:txBody>
        </p:sp>
      </p:grpSp>
      <p:grpSp>
        <p:nvGrpSpPr>
          <p:cNvPr id="603" name=""/>
          <p:cNvGrpSpPr/>
          <p:nvPr/>
        </p:nvGrpSpPr>
        <p:grpSpPr>
          <a:xfrm>
            <a:off x="3479760" y="3189240"/>
            <a:ext cx="2297160" cy="1341360"/>
            <a:chOff x="3479760" y="3189240"/>
            <a:chExt cx="2297160" cy="1341360"/>
          </a:xfrm>
        </p:grpSpPr>
        <p:sp>
          <p:nvSpPr>
            <p:cNvPr id="604" name=""/>
            <p:cNvSpPr/>
            <p:nvPr/>
          </p:nvSpPr>
          <p:spPr>
            <a:xfrm>
              <a:off x="3479760" y="3189240"/>
              <a:ext cx="2297160" cy="134136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73600" y="3520800"/>
              <a:ext cx="1640880" cy="73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a:t>
              </a:r>
              <a:endParaRPr b="0" lang="en-US" sz="2200" spc="-1" strike="noStrike">
                <a:solidFill>
                  <a:srgbClr val="000000"/>
                </a:solidFill>
                <a:latin typeface="Times New Roman"/>
              </a:endParaRPr>
            </a:p>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kussion</a:t>
              </a:r>
              <a:endParaRPr b="0" lang="en-US" sz="2200" spc="-1" strike="noStrike">
                <a:solidFill>
                  <a:srgbClr val="000000"/>
                </a:solidFill>
                <a:latin typeface="Times New Roman"/>
              </a:endParaRPr>
            </a:p>
          </p:txBody>
        </p:sp>
      </p:grpSp>
      <p:grpSp>
        <p:nvGrpSpPr>
          <p:cNvPr id="606" name=""/>
          <p:cNvGrpSpPr/>
          <p:nvPr/>
        </p:nvGrpSpPr>
        <p:grpSpPr>
          <a:xfrm>
            <a:off x="6448320" y="3189240"/>
            <a:ext cx="2543400" cy="671400"/>
            <a:chOff x="6448320" y="3189240"/>
            <a:chExt cx="2543400" cy="671400"/>
          </a:xfrm>
        </p:grpSpPr>
        <p:sp>
          <p:nvSpPr>
            <p:cNvPr id="607" name=""/>
            <p:cNvSpPr/>
            <p:nvPr/>
          </p:nvSpPr>
          <p:spPr>
            <a:xfrm>
              <a:off x="6448320" y="3189240"/>
              <a:ext cx="2543400" cy="671400"/>
            </a:xfrm>
            <a:prstGeom prst="rect">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749640" y="3400920"/>
              <a:ext cx="18709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Überprüfung</a:t>
              </a:r>
              <a:endParaRPr b="0" lang="en-US" sz="2200" spc="-1" strike="noStrike">
                <a:solidFill>
                  <a:srgbClr val="000000"/>
                </a:solidFill>
                <a:latin typeface="Times New Roman"/>
              </a:endParaRPr>
            </a:p>
          </p:txBody>
        </p:sp>
      </p:grpSp>
      <p:grpSp>
        <p:nvGrpSpPr>
          <p:cNvPr id="609" name=""/>
          <p:cNvGrpSpPr/>
          <p:nvPr/>
        </p:nvGrpSpPr>
        <p:grpSpPr>
          <a:xfrm>
            <a:off x="5778360" y="2044800"/>
            <a:ext cx="1612800" cy="1155240"/>
            <a:chOff x="5778360" y="2044800"/>
            <a:chExt cx="1612800" cy="1155240"/>
          </a:xfrm>
        </p:grpSpPr>
        <p:sp>
          <p:nvSpPr>
            <p:cNvPr id="610" name=""/>
            <p:cNvSpPr/>
            <p:nvPr/>
          </p:nvSpPr>
          <p:spPr>
            <a:xfrm>
              <a:off x="5778360" y="2044800"/>
              <a:ext cx="1499040" cy="966600"/>
            </a:xfrm>
            <a:custGeom>
              <a:avLst/>
              <a:gdLst/>
              <a:ahLst/>
              <a:rect l="l" t="t" r="r" b="b"/>
              <a:pathLst>
                <a:path w="5332" h="3582">
                  <a:moveTo>
                    <a:pt x="5332" y="3501"/>
                  </a:moveTo>
                  <a:lnTo>
                    <a:pt x="5283" y="3426"/>
                  </a:lnTo>
                  <a:lnTo>
                    <a:pt x="5233" y="3352"/>
                  </a:lnTo>
                  <a:lnTo>
                    <a:pt x="5183" y="3279"/>
                  </a:lnTo>
                  <a:lnTo>
                    <a:pt x="5130" y="3205"/>
                  </a:lnTo>
                  <a:lnTo>
                    <a:pt x="5077" y="3133"/>
                  </a:lnTo>
                  <a:lnTo>
                    <a:pt x="5022" y="3060"/>
                  </a:lnTo>
                  <a:lnTo>
                    <a:pt x="4967" y="2989"/>
                  </a:lnTo>
                  <a:lnTo>
                    <a:pt x="4910" y="2917"/>
                  </a:lnTo>
                  <a:lnTo>
                    <a:pt x="4851" y="2847"/>
                  </a:lnTo>
                  <a:lnTo>
                    <a:pt x="4791" y="2777"/>
                  </a:lnTo>
                  <a:lnTo>
                    <a:pt x="4730" y="2707"/>
                  </a:lnTo>
                  <a:lnTo>
                    <a:pt x="4669" y="2639"/>
                  </a:lnTo>
                  <a:lnTo>
                    <a:pt x="4605" y="2570"/>
                  </a:lnTo>
                  <a:lnTo>
                    <a:pt x="4541" y="2503"/>
                  </a:lnTo>
                  <a:lnTo>
                    <a:pt x="4476" y="2435"/>
                  </a:lnTo>
                  <a:lnTo>
                    <a:pt x="4409" y="2370"/>
                  </a:lnTo>
                  <a:lnTo>
                    <a:pt x="4341" y="2303"/>
                  </a:lnTo>
                  <a:lnTo>
                    <a:pt x="4271" y="2238"/>
                  </a:lnTo>
                  <a:lnTo>
                    <a:pt x="4201" y="2173"/>
                  </a:lnTo>
                  <a:lnTo>
                    <a:pt x="4131" y="2109"/>
                  </a:lnTo>
                  <a:lnTo>
                    <a:pt x="4058" y="2046"/>
                  </a:lnTo>
                  <a:lnTo>
                    <a:pt x="3984" y="1983"/>
                  </a:lnTo>
                  <a:lnTo>
                    <a:pt x="3909" y="1920"/>
                  </a:lnTo>
                  <a:lnTo>
                    <a:pt x="3834" y="1858"/>
                  </a:lnTo>
                  <a:lnTo>
                    <a:pt x="3756" y="1798"/>
                  </a:lnTo>
                  <a:lnTo>
                    <a:pt x="3679" y="1737"/>
                  </a:lnTo>
                  <a:lnTo>
                    <a:pt x="3600" y="1678"/>
                  </a:lnTo>
                  <a:lnTo>
                    <a:pt x="3521" y="1619"/>
                  </a:lnTo>
                  <a:lnTo>
                    <a:pt x="3440" y="1560"/>
                  </a:lnTo>
                  <a:lnTo>
                    <a:pt x="3358" y="1503"/>
                  </a:lnTo>
                  <a:lnTo>
                    <a:pt x="3274" y="1447"/>
                  </a:lnTo>
                  <a:lnTo>
                    <a:pt x="3191" y="1390"/>
                  </a:lnTo>
                  <a:lnTo>
                    <a:pt x="3105" y="1335"/>
                  </a:lnTo>
                  <a:lnTo>
                    <a:pt x="3020" y="1280"/>
                  </a:lnTo>
                  <a:lnTo>
                    <a:pt x="2933" y="1226"/>
                  </a:lnTo>
                  <a:lnTo>
                    <a:pt x="2845" y="1172"/>
                  </a:lnTo>
                  <a:lnTo>
                    <a:pt x="2757" y="1120"/>
                  </a:lnTo>
                  <a:lnTo>
                    <a:pt x="2667" y="1068"/>
                  </a:lnTo>
                  <a:lnTo>
                    <a:pt x="2576" y="1017"/>
                  </a:lnTo>
                  <a:lnTo>
                    <a:pt x="2485" y="967"/>
                  </a:lnTo>
                  <a:lnTo>
                    <a:pt x="2392" y="916"/>
                  </a:lnTo>
                  <a:lnTo>
                    <a:pt x="2299" y="868"/>
                  </a:lnTo>
                  <a:lnTo>
                    <a:pt x="2204" y="820"/>
                  </a:lnTo>
                  <a:lnTo>
                    <a:pt x="2109" y="773"/>
                  </a:lnTo>
                  <a:lnTo>
                    <a:pt x="2014" y="726"/>
                  </a:lnTo>
                  <a:lnTo>
                    <a:pt x="1917" y="681"/>
                  </a:lnTo>
                  <a:lnTo>
                    <a:pt x="1820" y="636"/>
                  </a:lnTo>
                  <a:lnTo>
                    <a:pt x="1721" y="592"/>
                  </a:lnTo>
                  <a:lnTo>
                    <a:pt x="1621" y="548"/>
                  </a:lnTo>
                  <a:lnTo>
                    <a:pt x="1522" y="506"/>
                  </a:lnTo>
                  <a:lnTo>
                    <a:pt x="1421" y="464"/>
                  </a:lnTo>
                  <a:lnTo>
                    <a:pt x="1319" y="424"/>
                  </a:lnTo>
                  <a:lnTo>
                    <a:pt x="1217" y="384"/>
                  </a:lnTo>
                  <a:lnTo>
                    <a:pt x="1113" y="344"/>
                  </a:lnTo>
                  <a:lnTo>
                    <a:pt x="1009" y="307"/>
                  </a:lnTo>
                  <a:lnTo>
                    <a:pt x="903" y="269"/>
                  </a:lnTo>
                  <a:lnTo>
                    <a:pt x="798" y="231"/>
                  </a:lnTo>
                  <a:lnTo>
                    <a:pt x="692" y="196"/>
                  </a:lnTo>
                  <a:lnTo>
                    <a:pt x="585" y="162"/>
                  </a:lnTo>
                  <a:lnTo>
                    <a:pt x="478" y="128"/>
                  </a:lnTo>
                  <a:lnTo>
                    <a:pt x="368" y="94"/>
                  </a:lnTo>
                  <a:lnTo>
                    <a:pt x="259" y="63"/>
                  </a:lnTo>
                  <a:lnTo>
                    <a:pt x="150" y="31"/>
                  </a:lnTo>
                  <a:lnTo>
                    <a:pt x="40" y="0"/>
                  </a:lnTo>
                  <a:lnTo>
                    <a:pt x="0" y="146"/>
                  </a:lnTo>
                  <a:lnTo>
                    <a:pt x="110" y="176"/>
                  </a:lnTo>
                  <a:lnTo>
                    <a:pt x="218" y="207"/>
                  </a:lnTo>
                  <a:lnTo>
                    <a:pt x="326" y="238"/>
                  </a:lnTo>
                  <a:lnTo>
                    <a:pt x="433" y="271"/>
                  </a:lnTo>
                  <a:lnTo>
                    <a:pt x="540" y="304"/>
                  </a:lnTo>
                  <a:lnTo>
                    <a:pt x="645" y="339"/>
                  </a:lnTo>
                  <a:lnTo>
                    <a:pt x="750" y="375"/>
                  </a:lnTo>
                  <a:lnTo>
                    <a:pt x="854" y="411"/>
                  </a:lnTo>
                  <a:lnTo>
                    <a:pt x="957" y="447"/>
                  </a:lnTo>
                  <a:lnTo>
                    <a:pt x="1061" y="485"/>
                  </a:lnTo>
                  <a:lnTo>
                    <a:pt x="1163" y="523"/>
                  </a:lnTo>
                  <a:lnTo>
                    <a:pt x="1264" y="563"/>
                  </a:lnTo>
                  <a:lnTo>
                    <a:pt x="1364" y="603"/>
                  </a:lnTo>
                  <a:lnTo>
                    <a:pt x="1464" y="644"/>
                  </a:lnTo>
                  <a:lnTo>
                    <a:pt x="1563" y="687"/>
                  </a:lnTo>
                  <a:lnTo>
                    <a:pt x="1660" y="729"/>
                  </a:lnTo>
                  <a:lnTo>
                    <a:pt x="1757" y="773"/>
                  </a:lnTo>
                  <a:lnTo>
                    <a:pt x="1854" y="817"/>
                  </a:lnTo>
                  <a:lnTo>
                    <a:pt x="1949" y="862"/>
                  </a:lnTo>
                  <a:lnTo>
                    <a:pt x="2044" y="908"/>
                  </a:lnTo>
                  <a:lnTo>
                    <a:pt x="2138" y="954"/>
                  </a:lnTo>
                  <a:lnTo>
                    <a:pt x="2230" y="1002"/>
                  </a:lnTo>
                  <a:lnTo>
                    <a:pt x="2322" y="1050"/>
                  </a:lnTo>
                  <a:lnTo>
                    <a:pt x="2413" y="1098"/>
                  </a:lnTo>
                  <a:lnTo>
                    <a:pt x="2504" y="1149"/>
                  </a:lnTo>
                  <a:lnTo>
                    <a:pt x="2593" y="1199"/>
                  </a:lnTo>
                  <a:lnTo>
                    <a:pt x="2681" y="1250"/>
                  </a:lnTo>
                  <a:lnTo>
                    <a:pt x="2769" y="1301"/>
                  </a:lnTo>
                  <a:lnTo>
                    <a:pt x="2854" y="1354"/>
                  </a:lnTo>
                  <a:lnTo>
                    <a:pt x="2940" y="1407"/>
                  </a:lnTo>
                  <a:lnTo>
                    <a:pt x="3024" y="1461"/>
                  </a:lnTo>
                  <a:lnTo>
                    <a:pt x="3108" y="1516"/>
                  </a:lnTo>
                  <a:lnTo>
                    <a:pt x="3191" y="1571"/>
                  </a:lnTo>
                  <a:lnTo>
                    <a:pt x="3272" y="1627"/>
                  </a:lnTo>
                  <a:lnTo>
                    <a:pt x="3353" y="1683"/>
                  </a:lnTo>
                  <a:lnTo>
                    <a:pt x="3433" y="1741"/>
                  </a:lnTo>
                  <a:lnTo>
                    <a:pt x="3510" y="1798"/>
                  </a:lnTo>
                  <a:lnTo>
                    <a:pt x="3587" y="1857"/>
                  </a:lnTo>
                  <a:lnTo>
                    <a:pt x="3665" y="1916"/>
                  </a:lnTo>
                  <a:lnTo>
                    <a:pt x="3740" y="1976"/>
                  </a:lnTo>
                  <a:lnTo>
                    <a:pt x="3814" y="2037"/>
                  </a:lnTo>
                  <a:lnTo>
                    <a:pt x="3887" y="2098"/>
                  </a:lnTo>
                  <a:lnTo>
                    <a:pt x="3959" y="2158"/>
                  </a:lnTo>
                  <a:lnTo>
                    <a:pt x="4030" y="2222"/>
                  </a:lnTo>
                  <a:lnTo>
                    <a:pt x="4100" y="2284"/>
                  </a:lnTo>
                  <a:lnTo>
                    <a:pt x="4169" y="2347"/>
                  </a:lnTo>
                  <a:lnTo>
                    <a:pt x="4236" y="2412"/>
                  </a:lnTo>
                  <a:lnTo>
                    <a:pt x="4303" y="2476"/>
                  </a:lnTo>
                  <a:lnTo>
                    <a:pt x="4369" y="2542"/>
                  </a:lnTo>
                  <a:lnTo>
                    <a:pt x="4432" y="2607"/>
                  </a:lnTo>
                  <a:lnTo>
                    <a:pt x="4495" y="2673"/>
                  </a:lnTo>
                  <a:lnTo>
                    <a:pt x="4558" y="2740"/>
                  </a:lnTo>
                  <a:lnTo>
                    <a:pt x="4619" y="2807"/>
                  </a:lnTo>
                  <a:lnTo>
                    <a:pt x="4677" y="2875"/>
                  </a:lnTo>
                  <a:lnTo>
                    <a:pt x="4736" y="2944"/>
                  </a:lnTo>
                  <a:lnTo>
                    <a:pt x="4793" y="3012"/>
                  </a:lnTo>
                  <a:lnTo>
                    <a:pt x="4849" y="3082"/>
                  </a:lnTo>
                  <a:lnTo>
                    <a:pt x="4904" y="3152"/>
                  </a:lnTo>
                  <a:lnTo>
                    <a:pt x="4957" y="3222"/>
                  </a:lnTo>
                  <a:lnTo>
                    <a:pt x="5009" y="3294"/>
                  </a:lnTo>
                  <a:lnTo>
                    <a:pt x="5060" y="3364"/>
                  </a:lnTo>
                  <a:lnTo>
                    <a:pt x="5109" y="3437"/>
                  </a:lnTo>
                  <a:lnTo>
                    <a:pt x="5158" y="3508"/>
                  </a:lnTo>
                  <a:lnTo>
                    <a:pt x="5204" y="3582"/>
                  </a:lnTo>
                  <a:lnTo>
                    <a:pt x="5332" y="3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143840" y="2923560"/>
              <a:ext cx="247320" cy="276480"/>
            </a:xfrm>
            <a:custGeom>
              <a:avLst/>
              <a:gdLst/>
              <a:ahLst/>
              <a:rect l="l" t="t" r="r" b="b"/>
              <a:pathLst>
                <a:path w="882" h="1025">
                  <a:moveTo>
                    <a:pt x="882" y="1025"/>
                  </a:moveTo>
                  <a:lnTo>
                    <a:pt x="778" y="0"/>
                  </a:lnTo>
                  <a:lnTo>
                    <a:pt x="0" y="494"/>
                  </a:lnTo>
                  <a:lnTo>
                    <a:pt x="882" y="1025"/>
                  </a:lnTo>
                  <a:lnTo>
                    <a:pt x="882"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1895400" y="2057400"/>
            <a:ext cx="1533240" cy="1123560"/>
            <a:chOff x="1895400" y="2057400"/>
            <a:chExt cx="1533240" cy="1123560"/>
          </a:xfrm>
        </p:grpSpPr>
        <p:sp>
          <p:nvSpPr>
            <p:cNvPr id="613" name=""/>
            <p:cNvSpPr/>
            <p:nvPr/>
          </p:nvSpPr>
          <p:spPr>
            <a:xfrm>
              <a:off x="1895400" y="2142000"/>
              <a:ext cx="1370160" cy="1038960"/>
            </a:xfrm>
            <a:custGeom>
              <a:avLst/>
              <a:gdLst/>
              <a:ahLst/>
              <a:rect l="l" t="t" r="r" b="b"/>
              <a:pathLst>
                <a:path w="5032" h="3494">
                  <a:moveTo>
                    <a:pt x="4990" y="0"/>
                  </a:moveTo>
                  <a:lnTo>
                    <a:pt x="4885" y="31"/>
                  </a:lnTo>
                  <a:lnTo>
                    <a:pt x="4782" y="64"/>
                  </a:lnTo>
                  <a:lnTo>
                    <a:pt x="4680" y="97"/>
                  </a:lnTo>
                  <a:lnTo>
                    <a:pt x="4578" y="131"/>
                  </a:lnTo>
                  <a:lnTo>
                    <a:pt x="4477" y="165"/>
                  </a:lnTo>
                  <a:lnTo>
                    <a:pt x="4376" y="200"/>
                  </a:lnTo>
                  <a:lnTo>
                    <a:pt x="4275" y="236"/>
                  </a:lnTo>
                  <a:lnTo>
                    <a:pt x="4177" y="274"/>
                  </a:lnTo>
                  <a:lnTo>
                    <a:pt x="4078" y="311"/>
                  </a:lnTo>
                  <a:lnTo>
                    <a:pt x="3980" y="350"/>
                  </a:lnTo>
                  <a:lnTo>
                    <a:pt x="3882" y="390"/>
                  </a:lnTo>
                  <a:lnTo>
                    <a:pt x="3786" y="430"/>
                  </a:lnTo>
                  <a:lnTo>
                    <a:pt x="3691" y="471"/>
                  </a:lnTo>
                  <a:lnTo>
                    <a:pt x="3596" y="512"/>
                  </a:lnTo>
                  <a:lnTo>
                    <a:pt x="3502" y="554"/>
                  </a:lnTo>
                  <a:lnTo>
                    <a:pt x="3408" y="597"/>
                  </a:lnTo>
                  <a:lnTo>
                    <a:pt x="3316" y="641"/>
                  </a:lnTo>
                  <a:lnTo>
                    <a:pt x="3224" y="685"/>
                  </a:lnTo>
                  <a:lnTo>
                    <a:pt x="3133" y="730"/>
                  </a:lnTo>
                  <a:lnTo>
                    <a:pt x="3042" y="777"/>
                  </a:lnTo>
                  <a:lnTo>
                    <a:pt x="2953" y="823"/>
                  </a:lnTo>
                  <a:lnTo>
                    <a:pt x="2865" y="871"/>
                  </a:lnTo>
                  <a:lnTo>
                    <a:pt x="2777" y="919"/>
                  </a:lnTo>
                  <a:lnTo>
                    <a:pt x="2690" y="967"/>
                  </a:lnTo>
                  <a:lnTo>
                    <a:pt x="2604" y="1016"/>
                  </a:lnTo>
                  <a:lnTo>
                    <a:pt x="2519" y="1067"/>
                  </a:lnTo>
                  <a:lnTo>
                    <a:pt x="2433" y="1117"/>
                  </a:lnTo>
                  <a:lnTo>
                    <a:pt x="2350" y="1169"/>
                  </a:lnTo>
                  <a:lnTo>
                    <a:pt x="2268" y="1221"/>
                  </a:lnTo>
                  <a:lnTo>
                    <a:pt x="2186" y="1273"/>
                  </a:lnTo>
                  <a:lnTo>
                    <a:pt x="2105" y="1327"/>
                  </a:lnTo>
                  <a:lnTo>
                    <a:pt x="2025" y="1381"/>
                  </a:lnTo>
                  <a:lnTo>
                    <a:pt x="1947" y="1436"/>
                  </a:lnTo>
                  <a:lnTo>
                    <a:pt x="1868" y="1491"/>
                  </a:lnTo>
                  <a:lnTo>
                    <a:pt x="1792" y="1546"/>
                  </a:lnTo>
                  <a:lnTo>
                    <a:pt x="1716" y="1604"/>
                  </a:lnTo>
                  <a:lnTo>
                    <a:pt x="1640" y="1660"/>
                  </a:lnTo>
                  <a:lnTo>
                    <a:pt x="1565" y="1717"/>
                  </a:lnTo>
                  <a:lnTo>
                    <a:pt x="1493" y="1776"/>
                  </a:lnTo>
                  <a:lnTo>
                    <a:pt x="1420" y="1835"/>
                  </a:lnTo>
                  <a:lnTo>
                    <a:pt x="1348" y="1895"/>
                  </a:lnTo>
                  <a:lnTo>
                    <a:pt x="1278" y="1954"/>
                  </a:lnTo>
                  <a:lnTo>
                    <a:pt x="1209" y="2015"/>
                  </a:lnTo>
                  <a:lnTo>
                    <a:pt x="1141" y="2076"/>
                  </a:lnTo>
                  <a:lnTo>
                    <a:pt x="1073" y="2139"/>
                  </a:lnTo>
                  <a:lnTo>
                    <a:pt x="1007" y="2201"/>
                  </a:lnTo>
                  <a:lnTo>
                    <a:pt x="941" y="2264"/>
                  </a:lnTo>
                  <a:lnTo>
                    <a:pt x="877" y="2327"/>
                  </a:lnTo>
                  <a:lnTo>
                    <a:pt x="815" y="2392"/>
                  </a:lnTo>
                  <a:lnTo>
                    <a:pt x="752" y="2456"/>
                  </a:lnTo>
                  <a:lnTo>
                    <a:pt x="691" y="2521"/>
                  </a:lnTo>
                  <a:lnTo>
                    <a:pt x="632" y="2587"/>
                  </a:lnTo>
                  <a:lnTo>
                    <a:pt x="573" y="2653"/>
                  </a:lnTo>
                  <a:lnTo>
                    <a:pt x="514" y="2719"/>
                  </a:lnTo>
                  <a:lnTo>
                    <a:pt x="458" y="2787"/>
                  </a:lnTo>
                  <a:lnTo>
                    <a:pt x="403" y="2855"/>
                  </a:lnTo>
                  <a:lnTo>
                    <a:pt x="348" y="2922"/>
                  </a:lnTo>
                  <a:lnTo>
                    <a:pt x="295" y="2991"/>
                  </a:lnTo>
                  <a:lnTo>
                    <a:pt x="243" y="3060"/>
                  </a:lnTo>
                  <a:lnTo>
                    <a:pt x="193" y="3130"/>
                  </a:lnTo>
                  <a:lnTo>
                    <a:pt x="142" y="3200"/>
                  </a:lnTo>
                  <a:lnTo>
                    <a:pt x="94" y="3270"/>
                  </a:lnTo>
                  <a:lnTo>
                    <a:pt x="46" y="3342"/>
                  </a:lnTo>
                  <a:lnTo>
                    <a:pt x="0" y="3413"/>
                  </a:lnTo>
                  <a:lnTo>
                    <a:pt x="127" y="3494"/>
                  </a:lnTo>
                  <a:lnTo>
                    <a:pt x="173" y="3424"/>
                  </a:lnTo>
                  <a:lnTo>
                    <a:pt x="219" y="3355"/>
                  </a:lnTo>
                  <a:lnTo>
                    <a:pt x="266" y="3286"/>
                  </a:lnTo>
                  <a:lnTo>
                    <a:pt x="314" y="3218"/>
                  </a:lnTo>
                  <a:lnTo>
                    <a:pt x="364" y="3150"/>
                  </a:lnTo>
                  <a:lnTo>
                    <a:pt x="415" y="3083"/>
                  </a:lnTo>
                  <a:lnTo>
                    <a:pt x="466" y="3016"/>
                  </a:lnTo>
                  <a:lnTo>
                    <a:pt x="520" y="2949"/>
                  </a:lnTo>
                  <a:lnTo>
                    <a:pt x="574" y="2883"/>
                  </a:lnTo>
                  <a:lnTo>
                    <a:pt x="629" y="2818"/>
                  </a:lnTo>
                  <a:lnTo>
                    <a:pt x="686" y="2752"/>
                  </a:lnTo>
                  <a:lnTo>
                    <a:pt x="743" y="2687"/>
                  </a:lnTo>
                  <a:lnTo>
                    <a:pt x="802" y="2623"/>
                  </a:lnTo>
                  <a:lnTo>
                    <a:pt x="861" y="2560"/>
                  </a:lnTo>
                  <a:lnTo>
                    <a:pt x="921" y="2496"/>
                  </a:lnTo>
                  <a:lnTo>
                    <a:pt x="983" y="2433"/>
                  </a:lnTo>
                  <a:lnTo>
                    <a:pt x="1047" y="2372"/>
                  </a:lnTo>
                  <a:lnTo>
                    <a:pt x="1110" y="2310"/>
                  </a:lnTo>
                  <a:lnTo>
                    <a:pt x="1176" y="2249"/>
                  </a:lnTo>
                  <a:lnTo>
                    <a:pt x="1242" y="2188"/>
                  </a:lnTo>
                  <a:lnTo>
                    <a:pt x="1308" y="2128"/>
                  </a:lnTo>
                  <a:lnTo>
                    <a:pt x="1376" y="2068"/>
                  </a:lnTo>
                  <a:lnTo>
                    <a:pt x="1446" y="2010"/>
                  </a:lnTo>
                  <a:lnTo>
                    <a:pt x="1515" y="1951"/>
                  </a:lnTo>
                  <a:lnTo>
                    <a:pt x="1586" y="1893"/>
                  </a:lnTo>
                  <a:lnTo>
                    <a:pt x="1658" y="1836"/>
                  </a:lnTo>
                  <a:lnTo>
                    <a:pt x="1731" y="1780"/>
                  </a:lnTo>
                  <a:lnTo>
                    <a:pt x="1805" y="1723"/>
                  </a:lnTo>
                  <a:lnTo>
                    <a:pt x="1880" y="1668"/>
                  </a:lnTo>
                  <a:lnTo>
                    <a:pt x="1956" y="1613"/>
                  </a:lnTo>
                  <a:lnTo>
                    <a:pt x="2032" y="1558"/>
                  </a:lnTo>
                  <a:lnTo>
                    <a:pt x="2110" y="1505"/>
                  </a:lnTo>
                  <a:lnTo>
                    <a:pt x="2189" y="1451"/>
                  </a:lnTo>
                  <a:lnTo>
                    <a:pt x="2268" y="1400"/>
                  </a:lnTo>
                  <a:lnTo>
                    <a:pt x="2349" y="1347"/>
                  </a:lnTo>
                  <a:lnTo>
                    <a:pt x="2430" y="1296"/>
                  </a:lnTo>
                  <a:lnTo>
                    <a:pt x="2512" y="1246"/>
                  </a:lnTo>
                  <a:lnTo>
                    <a:pt x="2595" y="1196"/>
                  </a:lnTo>
                  <a:lnTo>
                    <a:pt x="2679" y="1146"/>
                  </a:lnTo>
                  <a:lnTo>
                    <a:pt x="2764" y="1098"/>
                  </a:lnTo>
                  <a:lnTo>
                    <a:pt x="2850" y="1050"/>
                  </a:lnTo>
                  <a:lnTo>
                    <a:pt x="2936" y="1002"/>
                  </a:lnTo>
                  <a:lnTo>
                    <a:pt x="3024" y="956"/>
                  </a:lnTo>
                  <a:lnTo>
                    <a:pt x="3112" y="909"/>
                  </a:lnTo>
                  <a:lnTo>
                    <a:pt x="3201" y="865"/>
                  </a:lnTo>
                  <a:lnTo>
                    <a:pt x="3290" y="820"/>
                  </a:lnTo>
                  <a:lnTo>
                    <a:pt x="3380" y="776"/>
                  </a:lnTo>
                  <a:lnTo>
                    <a:pt x="3472" y="733"/>
                  </a:lnTo>
                  <a:lnTo>
                    <a:pt x="3564" y="691"/>
                  </a:lnTo>
                  <a:lnTo>
                    <a:pt x="3657" y="649"/>
                  </a:lnTo>
                  <a:lnTo>
                    <a:pt x="3751" y="608"/>
                  </a:lnTo>
                  <a:lnTo>
                    <a:pt x="3845" y="568"/>
                  </a:lnTo>
                  <a:lnTo>
                    <a:pt x="3940" y="528"/>
                  </a:lnTo>
                  <a:lnTo>
                    <a:pt x="4036" y="489"/>
                  </a:lnTo>
                  <a:lnTo>
                    <a:pt x="4132" y="452"/>
                  </a:lnTo>
                  <a:lnTo>
                    <a:pt x="4230" y="414"/>
                  </a:lnTo>
                  <a:lnTo>
                    <a:pt x="4328" y="378"/>
                  </a:lnTo>
                  <a:lnTo>
                    <a:pt x="4427" y="342"/>
                  </a:lnTo>
                  <a:lnTo>
                    <a:pt x="4525" y="306"/>
                  </a:lnTo>
                  <a:lnTo>
                    <a:pt x="4626" y="272"/>
                  </a:lnTo>
                  <a:lnTo>
                    <a:pt x="4726" y="240"/>
                  </a:lnTo>
                  <a:lnTo>
                    <a:pt x="4828" y="207"/>
                  </a:lnTo>
                  <a:lnTo>
                    <a:pt x="4930" y="175"/>
                  </a:lnTo>
                  <a:lnTo>
                    <a:pt x="5032" y="143"/>
                  </a:lnTo>
                  <a:lnTo>
                    <a:pt x="4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3212640" y="2057400"/>
              <a:ext cx="216000" cy="224280"/>
            </a:xfrm>
            <a:custGeom>
              <a:avLst/>
              <a:gdLst/>
              <a:ahLst/>
              <a:rect l="l" t="t" r="r" b="b"/>
              <a:pathLst>
                <a:path w="796" h="753">
                  <a:moveTo>
                    <a:pt x="0" y="0"/>
                  </a:moveTo>
                  <a:lnTo>
                    <a:pt x="796" y="174"/>
                  </a:lnTo>
                  <a:lnTo>
                    <a:pt x="224" y="753"/>
                  </a:lnTo>
                  <a:lnTo>
                    <a:pt x="0" y="0"/>
                  </a:lnTo>
                  <a:lnTo>
                    <a:pt x="796" y="1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5" name=""/>
          <p:cNvGrpSpPr/>
          <p:nvPr/>
        </p:nvGrpSpPr>
        <p:grpSpPr>
          <a:xfrm>
            <a:off x="1752480" y="4572000"/>
            <a:ext cx="1741320" cy="1320480"/>
            <a:chOff x="1752480" y="4572000"/>
            <a:chExt cx="1741320" cy="1320480"/>
          </a:xfrm>
        </p:grpSpPr>
        <p:sp>
          <p:nvSpPr>
            <p:cNvPr id="616" name=""/>
            <p:cNvSpPr/>
            <p:nvPr/>
          </p:nvSpPr>
          <p:spPr>
            <a:xfrm>
              <a:off x="1834920" y="4726440"/>
              <a:ext cx="1658880" cy="1166040"/>
            </a:xfrm>
            <a:custGeom>
              <a:avLst/>
              <a:gdLst/>
              <a:ahLst/>
              <a:rect l="l" t="t" r="r" b="b"/>
              <a:pathLst>
                <a:path w="5500" h="4384">
                  <a:moveTo>
                    <a:pt x="0" y="54"/>
                  </a:moveTo>
                  <a:lnTo>
                    <a:pt x="37" y="146"/>
                  </a:lnTo>
                  <a:lnTo>
                    <a:pt x="75" y="236"/>
                  </a:lnTo>
                  <a:lnTo>
                    <a:pt x="115" y="326"/>
                  </a:lnTo>
                  <a:lnTo>
                    <a:pt x="158" y="416"/>
                  </a:lnTo>
                  <a:lnTo>
                    <a:pt x="202" y="504"/>
                  </a:lnTo>
                  <a:lnTo>
                    <a:pt x="248" y="594"/>
                  </a:lnTo>
                  <a:lnTo>
                    <a:pt x="295" y="682"/>
                  </a:lnTo>
                  <a:lnTo>
                    <a:pt x="344" y="768"/>
                  </a:lnTo>
                  <a:lnTo>
                    <a:pt x="396" y="855"/>
                  </a:lnTo>
                  <a:lnTo>
                    <a:pt x="448" y="941"/>
                  </a:lnTo>
                  <a:lnTo>
                    <a:pt x="502" y="1026"/>
                  </a:lnTo>
                  <a:lnTo>
                    <a:pt x="559" y="1112"/>
                  </a:lnTo>
                  <a:lnTo>
                    <a:pt x="617" y="1195"/>
                  </a:lnTo>
                  <a:lnTo>
                    <a:pt x="677" y="1279"/>
                  </a:lnTo>
                  <a:lnTo>
                    <a:pt x="738" y="1362"/>
                  </a:lnTo>
                  <a:lnTo>
                    <a:pt x="802" y="1444"/>
                  </a:lnTo>
                  <a:lnTo>
                    <a:pt x="866" y="1525"/>
                  </a:lnTo>
                  <a:lnTo>
                    <a:pt x="932" y="1606"/>
                  </a:lnTo>
                  <a:lnTo>
                    <a:pt x="1000" y="1687"/>
                  </a:lnTo>
                  <a:lnTo>
                    <a:pt x="1069" y="1765"/>
                  </a:lnTo>
                  <a:lnTo>
                    <a:pt x="1141" y="1844"/>
                  </a:lnTo>
                  <a:lnTo>
                    <a:pt x="1212" y="1921"/>
                  </a:lnTo>
                  <a:lnTo>
                    <a:pt x="1286" y="1999"/>
                  </a:lnTo>
                  <a:lnTo>
                    <a:pt x="1362" y="2075"/>
                  </a:lnTo>
                  <a:lnTo>
                    <a:pt x="1440" y="2150"/>
                  </a:lnTo>
                  <a:lnTo>
                    <a:pt x="1517" y="2225"/>
                  </a:lnTo>
                  <a:lnTo>
                    <a:pt x="1598" y="2299"/>
                  </a:lnTo>
                  <a:lnTo>
                    <a:pt x="1679" y="2372"/>
                  </a:lnTo>
                  <a:lnTo>
                    <a:pt x="1762" y="2444"/>
                  </a:lnTo>
                  <a:lnTo>
                    <a:pt x="1847" y="2516"/>
                  </a:lnTo>
                  <a:lnTo>
                    <a:pt x="1932" y="2586"/>
                  </a:lnTo>
                  <a:lnTo>
                    <a:pt x="2019" y="2655"/>
                  </a:lnTo>
                  <a:lnTo>
                    <a:pt x="2108" y="2725"/>
                  </a:lnTo>
                  <a:lnTo>
                    <a:pt x="2198" y="2793"/>
                  </a:lnTo>
                  <a:lnTo>
                    <a:pt x="2289" y="2861"/>
                  </a:lnTo>
                  <a:lnTo>
                    <a:pt x="2382" y="2926"/>
                  </a:lnTo>
                  <a:lnTo>
                    <a:pt x="2476" y="2992"/>
                  </a:lnTo>
                  <a:lnTo>
                    <a:pt x="2571" y="3057"/>
                  </a:lnTo>
                  <a:lnTo>
                    <a:pt x="2668" y="3120"/>
                  </a:lnTo>
                  <a:lnTo>
                    <a:pt x="2765" y="3183"/>
                  </a:lnTo>
                  <a:lnTo>
                    <a:pt x="2864" y="3244"/>
                  </a:lnTo>
                  <a:lnTo>
                    <a:pt x="2965" y="3305"/>
                  </a:lnTo>
                  <a:lnTo>
                    <a:pt x="3067" y="3365"/>
                  </a:lnTo>
                  <a:lnTo>
                    <a:pt x="3169" y="3424"/>
                  </a:lnTo>
                  <a:lnTo>
                    <a:pt x="3273" y="3482"/>
                  </a:lnTo>
                  <a:lnTo>
                    <a:pt x="3379" y="3539"/>
                  </a:lnTo>
                  <a:lnTo>
                    <a:pt x="3485" y="3595"/>
                  </a:lnTo>
                  <a:lnTo>
                    <a:pt x="3592" y="3650"/>
                  </a:lnTo>
                  <a:lnTo>
                    <a:pt x="3702" y="3704"/>
                  </a:lnTo>
                  <a:lnTo>
                    <a:pt x="3811" y="3757"/>
                  </a:lnTo>
                  <a:lnTo>
                    <a:pt x="3922" y="3808"/>
                  </a:lnTo>
                  <a:lnTo>
                    <a:pt x="4034" y="3859"/>
                  </a:lnTo>
                  <a:lnTo>
                    <a:pt x="4147" y="3909"/>
                  </a:lnTo>
                  <a:lnTo>
                    <a:pt x="4261" y="3957"/>
                  </a:lnTo>
                  <a:lnTo>
                    <a:pt x="4376" y="4005"/>
                  </a:lnTo>
                  <a:lnTo>
                    <a:pt x="4492" y="4052"/>
                  </a:lnTo>
                  <a:lnTo>
                    <a:pt x="4610" y="4097"/>
                  </a:lnTo>
                  <a:lnTo>
                    <a:pt x="4728" y="4142"/>
                  </a:lnTo>
                  <a:lnTo>
                    <a:pt x="4848" y="4185"/>
                  </a:lnTo>
                  <a:lnTo>
                    <a:pt x="4967" y="4227"/>
                  </a:lnTo>
                  <a:lnTo>
                    <a:pt x="5088" y="4268"/>
                  </a:lnTo>
                  <a:lnTo>
                    <a:pt x="5210" y="4308"/>
                  </a:lnTo>
                  <a:lnTo>
                    <a:pt x="5333" y="4347"/>
                  </a:lnTo>
                  <a:lnTo>
                    <a:pt x="5458" y="4384"/>
                  </a:lnTo>
                  <a:lnTo>
                    <a:pt x="5500" y="4240"/>
                  </a:lnTo>
                  <a:lnTo>
                    <a:pt x="5378" y="4204"/>
                  </a:lnTo>
                  <a:lnTo>
                    <a:pt x="5256" y="4165"/>
                  </a:lnTo>
                  <a:lnTo>
                    <a:pt x="5135" y="4125"/>
                  </a:lnTo>
                  <a:lnTo>
                    <a:pt x="5017" y="4085"/>
                  </a:lnTo>
                  <a:lnTo>
                    <a:pt x="4897" y="4043"/>
                  </a:lnTo>
                  <a:lnTo>
                    <a:pt x="4780" y="4001"/>
                  </a:lnTo>
                  <a:lnTo>
                    <a:pt x="4664" y="3957"/>
                  </a:lnTo>
                  <a:lnTo>
                    <a:pt x="4547" y="3912"/>
                  </a:lnTo>
                  <a:lnTo>
                    <a:pt x="4432" y="3866"/>
                  </a:lnTo>
                  <a:lnTo>
                    <a:pt x="4319" y="3819"/>
                  </a:lnTo>
                  <a:lnTo>
                    <a:pt x="4206" y="3771"/>
                  </a:lnTo>
                  <a:lnTo>
                    <a:pt x="4095" y="3722"/>
                  </a:lnTo>
                  <a:lnTo>
                    <a:pt x="3984" y="3672"/>
                  </a:lnTo>
                  <a:lnTo>
                    <a:pt x="3875" y="3621"/>
                  </a:lnTo>
                  <a:lnTo>
                    <a:pt x="3767" y="3569"/>
                  </a:lnTo>
                  <a:lnTo>
                    <a:pt x="3660" y="3515"/>
                  </a:lnTo>
                  <a:lnTo>
                    <a:pt x="3554" y="3461"/>
                  </a:lnTo>
                  <a:lnTo>
                    <a:pt x="3449" y="3406"/>
                  </a:lnTo>
                  <a:lnTo>
                    <a:pt x="3346" y="3350"/>
                  </a:lnTo>
                  <a:lnTo>
                    <a:pt x="3243" y="3294"/>
                  </a:lnTo>
                  <a:lnTo>
                    <a:pt x="3142" y="3235"/>
                  </a:lnTo>
                  <a:lnTo>
                    <a:pt x="3042" y="3176"/>
                  </a:lnTo>
                  <a:lnTo>
                    <a:pt x="2944" y="3116"/>
                  </a:lnTo>
                  <a:lnTo>
                    <a:pt x="2845" y="3055"/>
                  </a:lnTo>
                  <a:lnTo>
                    <a:pt x="2749" y="2994"/>
                  </a:lnTo>
                  <a:lnTo>
                    <a:pt x="2655" y="2931"/>
                  </a:lnTo>
                  <a:lnTo>
                    <a:pt x="2561" y="2868"/>
                  </a:lnTo>
                  <a:lnTo>
                    <a:pt x="2469" y="2803"/>
                  </a:lnTo>
                  <a:lnTo>
                    <a:pt x="2377" y="2739"/>
                  </a:lnTo>
                  <a:lnTo>
                    <a:pt x="2288" y="2673"/>
                  </a:lnTo>
                  <a:lnTo>
                    <a:pt x="2200" y="2606"/>
                  </a:lnTo>
                  <a:lnTo>
                    <a:pt x="2113" y="2538"/>
                  </a:lnTo>
                  <a:lnTo>
                    <a:pt x="2027" y="2470"/>
                  </a:lnTo>
                  <a:lnTo>
                    <a:pt x="1943" y="2400"/>
                  </a:lnTo>
                  <a:lnTo>
                    <a:pt x="1860" y="2331"/>
                  </a:lnTo>
                  <a:lnTo>
                    <a:pt x="1779" y="2259"/>
                  </a:lnTo>
                  <a:lnTo>
                    <a:pt x="1699" y="2188"/>
                  </a:lnTo>
                  <a:lnTo>
                    <a:pt x="1620" y="2116"/>
                  </a:lnTo>
                  <a:lnTo>
                    <a:pt x="1543" y="2042"/>
                  </a:lnTo>
                  <a:lnTo>
                    <a:pt x="1468" y="1968"/>
                  </a:lnTo>
                  <a:lnTo>
                    <a:pt x="1394" y="1894"/>
                  </a:lnTo>
                  <a:lnTo>
                    <a:pt x="1321" y="1818"/>
                  </a:lnTo>
                  <a:lnTo>
                    <a:pt x="1251" y="1742"/>
                  </a:lnTo>
                  <a:lnTo>
                    <a:pt x="1182" y="1666"/>
                  </a:lnTo>
                  <a:lnTo>
                    <a:pt x="1114" y="1588"/>
                  </a:lnTo>
                  <a:lnTo>
                    <a:pt x="1047" y="1510"/>
                  </a:lnTo>
                  <a:lnTo>
                    <a:pt x="982" y="1431"/>
                  </a:lnTo>
                  <a:lnTo>
                    <a:pt x="920" y="1351"/>
                  </a:lnTo>
                  <a:lnTo>
                    <a:pt x="858" y="1271"/>
                  </a:lnTo>
                  <a:lnTo>
                    <a:pt x="798" y="1191"/>
                  </a:lnTo>
                  <a:lnTo>
                    <a:pt x="741" y="1110"/>
                  </a:lnTo>
                  <a:lnTo>
                    <a:pt x="684" y="1028"/>
                  </a:lnTo>
                  <a:lnTo>
                    <a:pt x="629" y="945"/>
                  </a:lnTo>
                  <a:lnTo>
                    <a:pt x="575" y="862"/>
                  </a:lnTo>
                  <a:lnTo>
                    <a:pt x="525" y="778"/>
                  </a:lnTo>
                  <a:lnTo>
                    <a:pt x="474" y="693"/>
                  </a:lnTo>
                  <a:lnTo>
                    <a:pt x="427" y="609"/>
                  </a:lnTo>
                  <a:lnTo>
                    <a:pt x="380" y="523"/>
                  </a:lnTo>
                  <a:lnTo>
                    <a:pt x="336" y="438"/>
                  </a:lnTo>
                  <a:lnTo>
                    <a:pt x="294" y="351"/>
                  </a:lnTo>
                  <a:lnTo>
                    <a:pt x="253" y="264"/>
                  </a:lnTo>
                  <a:lnTo>
                    <a:pt x="213" y="176"/>
                  </a:lnTo>
                  <a:lnTo>
                    <a:pt x="176" y="88"/>
                  </a:lnTo>
                  <a:lnTo>
                    <a:pt x="140"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752480" y="4572000"/>
              <a:ext cx="219600" cy="214200"/>
            </a:xfrm>
            <a:custGeom>
              <a:avLst/>
              <a:gdLst/>
              <a:ahLst/>
              <a:rect l="l" t="t" r="r" b="b"/>
              <a:pathLst>
                <a:path w="732" h="806">
                  <a:moveTo>
                    <a:pt x="0" y="806"/>
                  </a:moveTo>
                  <a:lnTo>
                    <a:pt x="107" y="0"/>
                  </a:lnTo>
                  <a:lnTo>
                    <a:pt x="732" y="521"/>
                  </a:lnTo>
                  <a:lnTo>
                    <a:pt x="0" y="806"/>
                  </a:lnTo>
                  <a:lnTo>
                    <a:pt x="107" y="0"/>
                  </a:lnTo>
                  <a:lnTo>
                    <a:pt x="0"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8" name=""/>
          <p:cNvGrpSpPr/>
          <p:nvPr/>
        </p:nvGrpSpPr>
        <p:grpSpPr>
          <a:xfrm>
            <a:off x="5791320" y="4502160"/>
            <a:ext cx="1828440" cy="1517400"/>
            <a:chOff x="5791320" y="4502160"/>
            <a:chExt cx="1828440" cy="1517400"/>
          </a:xfrm>
        </p:grpSpPr>
        <p:sp>
          <p:nvSpPr>
            <p:cNvPr id="619" name=""/>
            <p:cNvSpPr/>
            <p:nvPr/>
          </p:nvSpPr>
          <p:spPr>
            <a:xfrm>
              <a:off x="5965200" y="4502160"/>
              <a:ext cx="1654560" cy="1424880"/>
            </a:xfrm>
            <a:custGeom>
              <a:avLst/>
              <a:gdLst/>
              <a:ahLst/>
              <a:rect l="l" t="t" r="r" b="b"/>
              <a:pathLst>
                <a:path w="5800" h="4471">
                  <a:moveTo>
                    <a:pt x="40" y="4471"/>
                  </a:moveTo>
                  <a:lnTo>
                    <a:pt x="170" y="4435"/>
                  </a:lnTo>
                  <a:lnTo>
                    <a:pt x="300" y="4397"/>
                  </a:lnTo>
                  <a:lnTo>
                    <a:pt x="429" y="4359"/>
                  </a:lnTo>
                  <a:lnTo>
                    <a:pt x="557" y="4320"/>
                  </a:lnTo>
                  <a:lnTo>
                    <a:pt x="684" y="4279"/>
                  </a:lnTo>
                  <a:lnTo>
                    <a:pt x="810" y="4237"/>
                  </a:lnTo>
                  <a:lnTo>
                    <a:pt x="935" y="4193"/>
                  </a:lnTo>
                  <a:lnTo>
                    <a:pt x="1059" y="4147"/>
                  </a:lnTo>
                  <a:lnTo>
                    <a:pt x="1181" y="4102"/>
                  </a:lnTo>
                  <a:lnTo>
                    <a:pt x="1303" y="4055"/>
                  </a:lnTo>
                  <a:lnTo>
                    <a:pt x="1424" y="4007"/>
                  </a:lnTo>
                  <a:lnTo>
                    <a:pt x="1544" y="3957"/>
                  </a:lnTo>
                  <a:lnTo>
                    <a:pt x="1662" y="3906"/>
                  </a:lnTo>
                  <a:lnTo>
                    <a:pt x="1779" y="3854"/>
                  </a:lnTo>
                  <a:lnTo>
                    <a:pt x="1895" y="3801"/>
                  </a:lnTo>
                  <a:lnTo>
                    <a:pt x="2010" y="3747"/>
                  </a:lnTo>
                  <a:lnTo>
                    <a:pt x="2123" y="3692"/>
                  </a:lnTo>
                  <a:lnTo>
                    <a:pt x="2236" y="3636"/>
                  </a:lnTo>
                  <a:lnTo>
                    <a:pt x="2347" y="3579"/>
                  </a:lnTo>
                  <a:lnTo>
                    <a:pt x="2458" y="3521"/>
                  </a:lnTo>
                  <a:lnTo>
                    <a:pt x="2566" y="3461"/>
                  </a:lnTo>
                  <a:lnTo>
                    <a:pt x="2674" y="3400"/>
                  </a:lnTo>
                  <a:lnTo>
                    <a:pt x="2779" y="3339"/>
                  </a:lnTo>
                  <a:lnTo>
                    <a:pt x="2885" y="3276"/>
                  </a:lnTo>
                  <a:lnTo>
                    <a:pt x="2988" y="3213"/>
                  </a:lnTo>
                  <a:lnTo>
                    <a:pt x="3090" y="3148"/>
                  </a:lnTo>
                  <a:lnTo>
                    <a:pt x="3191" y="3082"/>
                  </a:lnTo>
                  <a:lnTo>
                    <a:pt x="3290" y="3016"/>
                  </a:lnTo>
                  <a:lnTo>
                    <a:pt x="3388" y="2949"/>
                  </a:lnTo>
                  <a:lnTo>
                    <a:pt x="3484" y="2880"/>
                  </a:lnTo>
                  <a:lnTo>
                    <a:pt x="3579" y="2810"/>
                  </a:lnTo>
                  <a:lnTo>
                    <a:pt x="3673" y="2740"/>
                  </a:lnTo>
                  <a:lnTo>
                    <a:pt x="3766" y="2668"/>
                  </a:lnTo>
                  <a:lnTo>
                    <a:pt x="3856" y="2597"/>
                  </a:lnTo>
                  <a:lnTo>
                    <a:pt x="3945" y="2523"/>
                  </a:lnTo>
                  <a:lnTo>
                    <a:pt x="4033" y="2449"/>
                  </a:lnTo>
                  <a:lnTo>
                    <a:pt x="4119" y="2374"/>
                  </a:lnTo>
                  <a:lnTo>
                    <a:pt x="4203" y="2298"/>
                  </a:lnTo>
                  <a:lnTo>
                    <a:pt x="4287" y="2222"/>
                  </a:lnTo>
                  <a:lnTo>
                    <a:pt x="4369" y="2144"/>
                  </a:lnTo>
                  <a:lnTo>
                    <a:pt x="4447" y="2066"/>
                  </a:lnTo>
                  <a:lnTo>
                    <a:pt x="4526" y="1986"/>
                  </a:lnTo>
                  <a:lnTo>
                    <a:pt x="4602" y="1906"/>
                  </a:lnTo>
                  <a:lnTo>
                    <a:pt x="4677" y="1825"/>
                  </a:lnTo>
                  <a:lnTo>
                    <a:pt x="4751" y="1744"/>
                  </a:lnTo>
                  <a:lnTo>
                    <a:pt x="4822" y="1661"/>
                  </a:lnTo>
                  <a:lnTo>
                    <a:pt x="4892" y="1578"/>
                  </a:lnTo>
                  <a:lnTo>
                    <a:pt x="4960" y="1493"/>
                  </a:lnTo>
                  <a:lnTo>
                    <a:pt x="5027" y="1409"/>
                  </a:lnTo>
                  <a:lnTo>
                    <a:pt x="5091" y="1323"/>
                  </a:lnTo>
                  <a:lnTo>
                    <a:pt x="5154" y="1237"/>
                  </a:lnTo>
                  <a:lnTo>
                    <a:pt x="5215" y="1151"/>
                  </a:lnTo>
                  <a:lnTo>
                    <a:pt x="5274" y="1063"/>
                  </a:lnTo>
                  <a:lnTo>
                    <a:pt x="5332" y="974"/>
                  </a:lnTo>
                  <a:lnTo>
                    <a:pt x="5387" y="884"/>
                  </a:lnTo>
                  <a:lnTo>
                    <a:pt x="5441" y="795"/>
                  </a:lnTo>
                  <a:lnTo>
                    <a:pt x="5493" y="705"/>
                  </a:lnTo>
                  <a:lnTo>
                    <a:pt x="5542" y="614"/>
                  </a:lnTo>
                  <a:lnTo>
                    <a:pt x="5590" y="522"/>
                  </a:lnTo>
                  <a:lnTo>
                    <a:pt x="5636" y="429"/>
                  </a:lnTo>
                  <a:lnTo>
                    <a:pt x="5680" y="337"/>
                  </a:lnTo>
                  <a:lnTo>
                    <a:pt x="5721" y="243"/>
                  </a:lnTo>
                  <a:lnTo>
                    <a:pt x="5762" y="149"/>
                  </a:lnTo>
                  <a:lnTo>
                    <a:pt x="5800" y="54"/>
                  </a:lnTo>
                  <a:lnTo>
                    <a:pt x="5660" y="0"/>
                  </a:lnTo>
                  <a:lnTo>
                    <a:pt x="5623" y="92"/>
                  </a:lnTo>
                  <a:lnTo>
                    <a:pt x="5584" y="183"/>
                  </a:lnTo>
                  <a:lnTo>
                    <a:pt x="5543" y="273"/>
                  </a:lnTo>
                  <a:lnTo>
                    <a:pt x="5501" y="364"/>
                  </a:lnTo>
                  <a:lnTo>
                    <a:pt x="5456" y="454"/>
                  </a:lnTo>
                  <a:lnTo>
                    <a:pt x="5409" y="543"/>
                  </a:lnTo>
                  <a:lnTo>
                    <a:pt x="5361" y="631"/>
                  </a:lnTo>
                  <a:lnTo>
                    <a:pt x="5311" y="719"/>
                  </a:lnTo>
                  <a:lnTo>
                    <a:pt x="5258" y="807"/>
                  </a:lnTo>
                  <a:lnTo>
                    <a:pt x="5204" y="894"/>
                  </a:lnTo>
                  <a:lnTo>
                    <a:pt x="5149" y="979"/>
                  </a:lnTo>
                  <a:lnTo>
                    <a:pt x="5091" y="1065"/>
                  </a:lnTo>
                  <a:lnTo>
                    <a:pt x="5032" y="1150"/>
                  </a:lnTo>
                  <a:lnTo>
                    <a:pt x="4971" y="1234"/>
                  </a:lnTo>
                  <a:lnTo>
                    <a:pt x="4907" y="1317"/>
                  </a:lnTo>
                  <a:lnTo>
                    <a:pt x="4843" y="1401"/>
                  </a:lnTo>
                  <a:lnTo>
                    <a:pt x="4776" y="1483"/>
                  </a:lnTo>
                  <a:lnTo>
                    <a:pt x="4708" y="1564"/>
                  </a:lnTo>
                  <a:lnTo>
                    <a:pt x="4637" y="1644"/>
                  </a:lnTo>
                  <a:lnTo>
                    <a:pt x="4566" y="1724"/>
                  </a:lnTo>
                  <a:lnTo>
                    <a:pt x="4493" y="1803"/>
                  </a:lnTo>
                  <a:lnTo>
                    <a:pt x="4418" y="1881"/>
                  </a:lnTo>
                  <a:lnTo>
                    <a:pt x="4342" y="1959"/>
                  </a:lnTo>
                  <a:lnTo>
                    <a:pt x="4263" y="2036"/>
                  </a:lnTo>
                  <a:lnTo>
                    <a:pt x="4183" y="2112"/>
                  </a:lnTo>
                  <a:lnTo>
                    <a:pt x="4102" y="2188"/>
                  </a:lnTo>
                  <a:lnTo>
                    <a:pt x="4019" y="2261"/>
                  </a:lnTo>
                  <a:lnTo>
                    <a:pt x="3935" y="2335"/>
                  </a:lnTo>
                  <a:lnTo>
                    <a:pt x="3849" y="2408"/>
                  </a:lnTo>
                  <a:lnTo>
                    <a:pt x="3761" y="2480"/>
                  </a:lnTo>
                  <a:lnTo>
                    <a:pt x="3672" y="2551"/>
                  </a:lnTo>
                  <a:lnTo>
                    <a:pt x="3582" y="2620"/>
                  </a:lnTo>
                  <a:lnTo>
                    <a:pt x="3490" y="2690"/>
                  </a:lnTo>
                  <a:lnTo>
                    <a:pt x="3396" y="2759"/>
                  </a:lnTo>
                  <a:lnTo>
                    <a:pt x="3302" y="2826"/>
                  </a:lnTo>
                  <a:lnTo>
                    <a:pt x="3206" y="2892"/>
                  </a:lnTo>
                  <a:lnTo>
                    <a:pt x="3108" y="2957"/>
                  </a:lnTo>
                  <a:lnTo>
                    <a:pt x="3009" y="3021"/>
                  </a:lnTo>
                  <a:lnTo>
                    <a:pt x="2908" y="3086"/>
                  </a:lnTo>
                  <a:lnTo>
                    <a:pt x="2806" y="3148"/>
                  </a:lnTo>
                  <a:lnTo>
                    <a:pt x="2703" y="3210"/>
                  </a:lnTo>
                  <a:lnTo>
                    <a:pt x="2599" y="3270"/>
                  </a:lnTo>
                  <a:lnTo>
                    <a:pt x="2493" y="3330"/>
                  </a:lnTo>
                  <a:lnTo>
                    <a:pt x="2386" y="3389"/>
                  </a:lnTo>
                  <a:lnTo>
                    <a:pt x="2278" y="3446"/>
                  </a:lnTo>
                  <a:lnTo>
                    <a:pt x="2168" y="3502"/>
                  </a:lnTo>
                  <a:lnTo>
                    <a:pt x="2058" y="3557"/>
                  </a:lnTo>
                  <a:lnTo>
                    <a:pt x="1945" y="3611"/>
                  </a:lnTo>
                  <a:lnTo>
                    <a:pt x="1832" y="3665"/>
                  </a:lnTo>
                  <a:lnTo>
                    <a:pt x="1718" y="3717"/>
                  </a:lnTo>
                  <a:lnTo>
                    <a:pt x="1603" y="3769"/>
                  </a:lnTo>
                  <a:lnTo>
                    <a:pt x="1485" y="3819"/>
                  </a:lnTo>
                  <a:lnTo>
                    <a:pt x="1368" y="3867"/>
                  </a:lnTo>
                  <a:lnTo>
                    <a:pt x="1248" y="3915"/>
                  </a:lnTo>
                  <a:lnTo>
                    <a:pt x="1129" y="3961"/>
                  </a:lnTo>
                  <a:lnTo>
                    <a:pt x="1007" y="4007"/>
                  </a:lnTo>
                  <a:lnTo>
                    <a:pt x="885" y="4051"/>
                  </a:lnTo>
                  <a:lnTo>
                    <a:pt x="761" y="4093"/>
                  </a:lnTo>
                  <a:lnTo>
                    <a:pt x="637" y="4136"/>
                  </a:lnTo>
                  <a:lnTo>
                    <a:pt x="512" y="4176"/>
                  </a:lnTo>
                  <a:lnTo>
                    <a:pt x="386" y="4215"/>
                  </a:lnTo>
                  <a:lnTo>
                    <a:pt x="258" y="4253"/>
                  </a:lnTo>
                  <a:lnTo>
                    <a:pt x="130" y="4291"/>
                  </a:lnTo>
                  <a:lnTo>
                    <a:pt x="0" y="4326"/>
                  </a:lnTo>
                  <a:lnTo>
                    <a:pt x="40" y="4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791320" y="5777640"/>
              <a:ext cx="225360" cy="241920"/>
            </a:xfrm>
            <a:custGeom>
              <a:avLst/>
              <a:gdLst/>
              <a:ahLst/>
              <a:rect l="l" t="t" r="r" b="b"/>
              <a:pathLst>
                <a:path w="792" h="759">
                  <a:moveTo>
                    <a:pt x="792" y="759"/>
                  </a:moveTo>
                  <a:lnTo>
                    <a:pt x="0" y="565"/>
                  </a:lnTo>
                  <a:lnTo>
                    <a:pt x="588" y="0"/>
                  </a:lnTo>
                  <a:lnTo>
                    <a:pt x="792" y="759"/>
                  </a:lnTo>
                  <a:lnTo>
                    <a:pt x="0" y="565"/>
                  </a:lnTo>
                  <a:lnTo>
                    <a:pt x="792"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4602240" y="4516560"/>
            <a:ext cx="47520" cy="209520"/>
          </a:xfrm>
          <a:custGeom>
            <a:avLst/>
            <a:gdLst/>
            <a:ahLst/>
            <a:rect l="l" t="t" r="r" b="b"/>
            <a:pathLst>
              <a:path w="151" h="660">
                <a:moveTo>
                  <a:pt x="75" y="660"/>
                </a:moveTo>
                <a:lnTo>
                  <a:pt x="151" y="660"/>
                </a:lnTo>
                <a:lnTo>
                  <a:pt x="151" y="0"/>
                </a:lnTo>
                <a:lnTo>
                  <a:pt x="0" y="0"/>
                </a:lnTo>
                <a:lnTo>
                  <a:pt x="0" y="660"/>
                </a:lnTo>
                <a:lnTo>
                  <a:pt x="75" y="6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4500720" y="4707000"/>
            <a:ext cx="249120" cy="226800"/>
          </a:xfrm>
          <a:custGeom>
            <a:avLst/>
            <a:gdLst/>
            <a:ahLst/>
            <a:rect l="l" t="t" r="r" b="b"/>
            <a:pathLst>
              <a:path w="787" h="717">
                <a:moveTo>
                  <a:pt x="787" y="0"/>
                </a:moveTo>
                <a:lnTo>
                  <a:pt x="393" y="717"/>
                </a:lnTo>
                <a:lnTo>
                  <a:pt x="0" y="0"/>
                </a:lnTo>
                <a:lnTo>
                  <a:pt x="787" y="0"/>
                </a:lnTo>
                <a:lnTo>
                  <a:pt x="393" y="717"/>
                </a:lnTo>
                <a:lnTo>
                  <a:pt x="7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4500720" y="2771640"/>
            <a:ext cx="249120" cy="228600"/>
          </a:xfrm>
          <a:custGeom>
            <a:avLst/>
            <a:gdLst/>
            <a:ahLst/>
            <a:rect l="l" t="t" r="r" b="b"/>
            <a:pathLst>
              <a:path w="787" h="716">
                <a:moveTo>
                  <a:pt x="787" y="716"/>
                </a:moveTo>
                <a:lnTo>
                  <a:pt x="393" y="0"/>
                </a:lnTo>
                <a:lnTo>
                  <a:pt x="0" y="716"/>
                </a:lnTo>
                <a:lnTo>
                  <a:pt x="787" y="716"/>
                </a:lnTo>
                <a:lnTo>
                  <a:pt x="393" y="0"/>
                </a:lnTo>
                <a:lnTo>
                  <a:pt x="787" y="7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602240" y="2979720"/>
            <a:ext cx="47520" cy="150840"/>
          </a:xfrm>
          <a:custGeom>
            <a:avLst/>
            <a:gdLst/>
            <a:ahLst/>
            <a:rect l="l" t="t" r="r" b="b"/>
            <a:pathLst>
              <a:path w="151" h="476">
                <a:moveTo>
                  <a:pt x="75" y="476"/>
                </a:moveTo>
                <a:lnTo>
                  <a:pt x="151" y="476"/>
                </a:lnTo>
                <a:lnTo>
                  <a:pt x="151" y="0"/>
                </a:lnTo>
                <a:lnTo>
                  <a:pt x="0" y="0"/>
                </a:lnTo>
                <a:lnTo>
                  <a:pt x="0" y="476"/>
                </a:lnTo>
                <a:lnTo>
                  <a:pt x="75"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932200" y="3843360"/>
            <a:ext cx="549360" cy="47520"/>
          </a:xfrm>
          <a:custGeom>
            <a:avLst/>
            <a:gdLst/>
            <a:ahLst/>
            <a:rect l="l" t="t" r="r" b="b"/>
            <a:pathLst>
              <a:path w="1728" h="150">
                <a:moveTo>
                  <a:pt x="0" y="75"/>
                </a:moveTo>
                <a:lnTo>
                  <a:pt x="0" y="150"/>
                </a:lnTo>
                <a:lnTo>
                  <a:pt x="1728" y="150"/>
                </a:lnTo>
                <a:lnTo>
                  <a:pt x="1728" y="0"/>
                </a:lnTo>
                <a:lnTo>
                  <a:pt x="0" y="0"/>
                </a:lnTo>
                <a:lnTo>
                  <a:pt x="0"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6" name=""/>
          <p:cNvSpPr/>
          <p:nvPr/>
        </p:nvSpPr>
        <p:spPr>
          <a:xfrm>
            <a:off x="2725560" y="3743280"/>
            <a:ext cx="227160" cy="249120"/>
          </a:xfrm>
          <a:custGeom>
            <a:avLst/>
            <a:gdLst/>
            <a:ahLst/>
            <a:rect l="l" t="t" r="r" b="b"/>
            <a:pathLst>
              <a:path w="717" h="787">
                <a:moveTo>
                  <a:pt x="717" y="787"/>
                </a:moveTo>
                <a:lnTo>
                  <a:pt x="0" y="393"/>
                </a:lnTo>
                <a:lnTo>
                  <a:pt x="717" y="0"/>
                </a:lnTo>
                <a:lnTo>
                  <a:pt x="717" y="787"/>
                </a:lnTo>
                <a:lnTo>
                  <a:pt x="0" y="393"/>
                </a:lnTo>
                <a:lnTo>
                  <a:pt x="717" y="7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5778360" y="3533760"/>
            <a:ext cx="382680" cy="47520"/>
          </a:xfrm>
          <a:custGeom>
            <a:avLst/>
            <a:gdLst/>
            <a:ahLst/>
            <a:rect l="l" t="t" r="r" b="b"/>
            <a:pathLst>
              <a:path w="1203" h="150">
                <a:moveTo>
                  <a:pt x="1203" y="75"/>
                </a:moveTo>
                <a:lnTo>
                  <a:pt x="1203" y="0"/>
                </a:lnTo>
                <a:lnTo>
                  <a:pt x="0" y="0"/>
                </a:lnTo>
                <a:lnTo>
                  <a:pt x="0" y="150"/>
                </a:lnTo>
                <a:lnTo>
                  <a:pt x="1203" y="150"/>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8" name=""/>
          <p:cNvSpPr/>
          <p:nvPr/>
        </p:nvSpPr>
        <p:spPr>
          <a:xfrm>
            <a:off x="6145200" y="3411360"/>
            <a:ext cx="293760" cy="292320"/>
          </a:xfrm>
          <a:custGeom>
            <a:avLst/>
            <a:gdLst/>
            <a:ahLst/>
            <a:rect l="l" t="t" r="r" b="b"/>
            <a:pathLst>
              <a:path w="922" h="922">
                <a:moveTo>
                  <a:pt x="922" y="461"/>
                </a:moveTo>
                <a:lnTo>
                  <a:pt x="0" y="0"/>
                </a:lnTo>
                <a:lnTo>
                  <a:pt x="0" y="922"/>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778360" y="4148280"/>
            <a:ext cx="382680" cy="47520"/>
          </a:xfrm>
          <a:custGeom>
            <a:avLst/>
            <a:gdLst/>
            <a:ahLst/>
            <a:rect l="l" t="t" r="r" b="b"/>
            <a:pathLst>
              <a:path w="1203" h="151">
                <a:moveTo>
                  <a:pt x="1203" y="75"/>
                </a:moveTo>
                <a:lnTo>
                  <a:pt x="1203" y="0"/>
                </a:lnTo>
                <a:lnTo>
                  <a:pt x="0" y="0"/>
                </a:lnTo>
                <a:lnTo>
                  <a:pt x="0" y="151"/>
                </a:lnTo>
                <a:lnTo>
                  <a:pt x="1203" y="151"/>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0" name=""/>
          <p:cNvSpPr/>
          <p:nvPr/>
        </p:nvSpPr>
        <p:spPr>
          <a:xfrm>
            <a:off x="6145200" y="4025880"/>
            <a:ext cx="293760" cy="291960"/>
          </a:xfrm>
          <a:custGeom>
            <a:avLst/>
            <a:gdLst/>
            <a:ahLst/>
            <a:rect l="l" t="t" r="r" b="b"/>
            <a:pathLst>
              <a:path w="922" h="923">
                <a:moveTo>
                  <a:pt x="922" y="461"/>
                </a:moveTo>
                <a:lnTo>
                  <a:pt x="0" y="0"/>
                </a:lnTo>
                <a:lnTo>
                  <a:pt x="0" y="923"/>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4" name="bmuk_sw" descr=""/>
          <p:cNvPicPr/>
          <p:nvPr/>
        </p:nvPicPr>
        <p:blipFill>
          <a:blip r:embed="rId1"/>
          <a:stretch/>
        </p:blipFill>
        <p:spPr>
          <a:xfrm>
            <a:off x="76320" y="0"/>
            <a:ext cx="1218960" cy="566640"/>
          </a:xfrm>
          <a:prstGeom prst="rect">
            <a:avLst/>
          </a:prstGeom>
          <a:ln w="0">
            <a:noFill/>
          </a:ln>
        </p:spPr>
      </p:pic>
      <p:sp>
        <p:nvSpPr>
          <p:cNvPr id="63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0" y="609480"/>
            <a:ext cx="26668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 in Schule</a:t>
            </a:r>
            <a:endParaRPr b="0" lang="en-US" sz="2200" spc="-1" strike="noStrike">
              <a:solidFill>
                <a:srgbClr val="000000"/>
              </a:solidFill>
              <a:latin typeface="Times New Roman"/>
            </a:endParaRPr>
          </a:p>
        </p:txBody>
      </p:sp>
      <p:grpSp>
        <p:nvGrpSpPr>
          <p:cNvPr id="644" name=""/>
          <p:cNvGrpSpPr/>
          <p:nvPr/>
        </p:nvGrpSpPr>
        <p:grpSpPr>
          <a:xfrm>
            <a:off x="1143000" y="913320"/>
            <a:ext cx="3505320" cy="459720"/>
            <a:chOff x="1143000" y="913320"/>
            <a:chExt cx="3505320" cy="459720"/>
          </a:xfrm>
        </p:grpSpPr>
        <p:sp>
          <p:nvSpPr>
            <p:cNvPr id="645" name=""/>
            <p:cNvSpPr/>
            <p:nvPr/>
          </p:nvSpPr>
          <p:spPr>
            <a:xfrm>
              <a:off x="1143000" y="990720"/>
              <a:ext cx="35053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1671840" y="913320"/>
              <a:ext cx="251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647" name=""/>
          <p:cNvGrpSpPr/>
          <p:nvPr/>
        </p:nvGrpSpPr>
        <p:grpSpPr>
          <a:xfrm>
            <a:off x="4648320" y="913320"/>
            <a:ext cx="4495680" cy="459720"/>
            <a:chOff x="4648320" y="913320"/>
            <a:chExt cx="4495680" cy="459720"/>
          </a:xfrm>
        </p:grpSpPr>
        <p:sp>
          <p:nvSpPr>
            <p:cNvPr id="648" name=""/>
            <p:cNvSpPr/>
            <p:nvPr/>
          </p:nvSpPr>
          <p:spPr>
            <a:xfrm>
              <a:off x="4648320" y="990720"/>
              <a:ext cx="4495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411160" y="913320"/>
              <a:ext cx="172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Times New Roman"/>
              </a:endParaRPr>
            </a:p>
          </p:txBody>
        </p:sp>
      </p:grpSp>
      <p:grpSp>
        <p:nvGrpSpPr>
          <p:cNvPr id="650" name=""/>
          <p:cNvGrpSpPr/>
          <p:nvPr/>
        </p:nvGrpSpPr>
        <p:grpSpPr>
          <a:xfrm>
            <a:off x="3479760" y="1371600"/>
            <a:ext cx="2297160" cy="1339560"/>
            <a:chOff x="3479760" y="1371600"/>
            <a:chExt cx="2297160" cy="1339560"/>
          </a:xfrm>
        </p:grpSpPr>
        <p:sp>
          <p:nvSpPr>
            <p:cNvPr id="651" name=""/>
            <p:cNvSpPr/>
            <p:nvPr/>
          </p:nvSpPr>
          <p:spPr>
            <a:xfrm>
              <a:off x="3479760" y="1371600"/>
              <a:ext cx="2297160" cy="1339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23920" y="1517040"/>
              <a:ext cx="16866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etzung</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kreter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ßnahmen</a:t>
              </a:r>
              <a:endParaRPr b="0" lang="en-US" sz="2000" spc="-1" strike="noStrike">
                <a:solidFill>
                  <a:srgbClr val="000000"/>
                </a:solidFill>
                <a:latin typeface="Times New Roman"/>
              </a:endParaRPr>
            </a:p>
          </p:txBody>
        </p:sp>
      </p:grpSp>
      <p:grpSp>
        <p:nvGrpSpPr>
          <p:cNvPr id="653" name=""/>
          <p:cNvGrpSpPr/>
          <p:nvPr/>
        </p:nvGrpSpPr>
        <p:grpSpPr>
          <a:xfrm>
            <a:off x="6448320" y="3860640"/>
            <a:ext cx="2558520" cy="669960"/>
            <a:chOff x="6448320" y="3860640"/>
            <a:chExt cx="2558520" cy="669960"/>
          </a:xfrm>
        </p:grpSpPr>
        <p:sp>
          <p:nvSpPr>
            <p:cNvPr id="654" name=""/>
            <p:cNvSpPr/>
            <p:nvPr/>
          </p:nvSpPr>
          <p:spPr>
            <a:xfrm>
              <a:off x="6448320" y="3860640"/>
              <a:ext cx="2543400" cy="669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476040" y="3964320"/>
              <a:ext cx="253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andsaufnahme</a:t>
              </a:r>
              <a:endParaRPr b="0" lang="en-US" sz="2000" spc="-1" strike="noStrike">
                <a:solidFill>
                  <a:srgbClr val="000000"/>
                </a:solidFill>
                <a:latin typeface="Times New Roman"/>
              </a:endParaRPr>
            </a:p>
          </p:txBody>
        </p:sp>
      </p:grpSp>
      <p:grpSp>
        <p:nvGrpSpPr>
          <p:cNvPr id="656" name=""/>
          <p:cNvGrpSpPr/>
          <p:nvPr/>
        </p:nvGrpSpPr>
        <p:grpSpPr>
          <a:xfrm>
            <a:off x="3479760" y="5103720"/>
            <a:ext cx="2297160" cy="1339920"/>
            <a:chOff x="3479760" y="5103720"/>
            <a:chExt cx="2297160" cy="1339920"/>
          </a:xfrm>
        </p:grpSpPr>
        <p:sp>
          <p:nvSpPr>
            <p:cNvPr id="657" name=""/>
            <p:cNvSpPr/>
            <p:nvPr/>
          </p:nvSpPr>
          <p:spPr>
            <a:xfrm>
              <a:off x="3479760" y="5103720"/>
              <a:ext cx="2297160" cy="1339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710160" y="5393520"/>
              <a:ext cx="1895400" cy="70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flexion</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Ergebnisse</a:t>
              </a:r>
              <a:endParaRPr b="0" lang="en-US" sz="2000" spc="-1" strike="noStrike">
                <a:solidFill>
                  <a:srgbClr val="000000"/>
                </a:solidFill>
                <a:latin typeface="Times New Roman"/>
              </a:endParaRPr>
            </a:p>
          </p:txBody>
        </p:sp>
      </p:grpSp>
      <p:grpSp>
        <p:nvGrpSpPr>
          <p:cNvPr id="659" name=""/>
          <p:cNvGrpSpPr/>
          <p:nvPr/>
        </p:nvGrpSpPr>
        <p:grpSpPr>
          <a:xfrm>
            <a:off x="635760" y="3189240"/>
            <a:ext cx="2322000" cy="1341360"/>
            <a:chOff x="635760" y="3189240"/>
            <a:chExt cx="2322000" cy="1341360"/>
          </a:xfrm>
        </p:grpSpPr>
        <p:sp>
          <p:nvSpPr>
            <p:cNvPr id="660" name=""/>
            <p:cNvSpPr/>
            <p:nvPr/>
          </p:nvSpPr>
          <p:spPr>
            <a:xfrm>
              <a:off x="713160" y="3189240"/>
              <a:ext cx="219240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35760" y="3349080"/>
              <a:ext cx="23220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ulprogramm</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ele und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haben</a:t>
              </a:r>
              <a:endParaRPr b="0" lang="en-US" sz="2000" spc="-1" strike="noStrike">
                <a:solidFill>
                  <a:srgbClr val="000000"/>
                </a:solidFill>
                <a:latin typeface="Times New Roman"/>
              </a:endParaRPr>
            </a:p>
          </p:txBody>
        </p:sp>
      </p:grpSp>
      <p:grpSp>
        <p:nvGrpSpPr>
          <p:cNvPr id="662" name=""/>
          <p:cNvGrpSpPr/>
          <p:nvPr/>
        </p:nvGrpSpPr>
        <p:grpSpPr>
          <a:xfrm>
            <a:off x="3479760" y="3189240"/>
            <a:ext cx="2297160" cy="1341360"/>
            <a:chOff x="3479760" y="3189240"/>
            <a:chExt cx="2297160" cy="1341360"/>
          </a:xfrm>
        </p:grpSpPr>
        <p:sp>
          <p:nvSpPr>
            <p:cNvPr id="663" name=""/>
            <p:cNvSpPr/>
            <p:nvPr/>
          </p:nvSpPr>
          <p:spPr>
            <a:xfrm>
              <a:off x="3479760" y="3189240"/>
              <a:ext cx="2297160" cy="134136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873600" y="3520800"/>
              <a:ext cx="1640880" cy="737280"/>
            </a:xfrm>
            <a:prstGeom prst="rect">
              <a:avLst/>
            </a:prstGeom>
            <a:solidFill>
              <a:srgbClr val="0033cc"/>
            </a:solidFill>
            <a:ln w="0">
              <a:noFill/>
            </a:ln>
          </p:spPr>
          <p:style>
            <a:lnRef idx="0"/>
            <a:fillRef idx="0"/>
            <a:effectRef idx="0"/>
            <a:fontRef idx="minor"/>
          </p:style>
          <p:txBody>
            <a:bodyPr wrap="none"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alitäts-</a:t>
              </a:r>
              <a:endParaRPr b="0" lang="en-US" sz="2200" spc="-1" strike="noStrike">
                <a:solidFill>
                  <a:srgbClr val="000000"/>
                </a:solidFill>
                <a:latin typeface="Times New Roman"/>
              </a:endParaRPr>
            </a:p>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iskussion</a:t>
              </a:r>
              <a:endParaRPr b="0" lang="en-US" sz="2200" spc="-1" strike="noStrike">
                <a:solidFill>
                  <a:srgbClr val="000000"/>
                </a:solidFill>
                <a:latin typeface="Times New Roman"/>
              </a:endParaRPr>
            </a:p>
          </p:txBody>
        </p:sp>
      </p:grpSp>
      <p:grpSp>
        <p:nvGrpSpPr>
          <p:cNvPr id="665" name=""/>
          <p:cNvGrpSpPr/>
          <p:nvPr/>
        </p:nvGrpSpPr>
        <p:grpSpPr>
          <a:xfrm>
            <a:off x="6448320" y="3189240"/>
            <a:ext cx="2543400" cy="671400"/>
            <a:chOff x="6448320" y="3189240"/>
            <a:chExt cx="2543400" cy="671400"/>
          </a:xfrm>
        </p:grpSpPr>
        <p:sp>
          <p:nvSpPr>
            <p:cNvPr id="666" name=""/>
            <p:cNvSpPr/>
            <p:nvPr/>
          </p:nvSpPr>
          <p:spPr>
            <a:xfrm>
              <a:off x="6448320" y="3189240"/>
              <a:ext cx="2543400" cy="671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749640" y="3400920"/>
              <a:ext cx="18709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Überprüfung</a:t>
              </a:r>
              <a:endParaRPr b="0" lang="en-US" sz="2200" spc="-1" strike="noStrike">
                <a:solidFill>
                  <a:srgbClr val="000000"/>
                </a:solidFill>
                <a:latin typeface="Times New Roman"/>
              </a:endParaRPr>
            </a:p>
          </p:txBody>
        </p:sp>
      </p:grpSp>
      <p:grpSp>
        <p:nvGrpSpPr>
          <p:cNvPr id="668" name=""/>
          <p:cNvGrpSpPr/>
          <p:nvPr/>
        </p:nvGrpSpPr>
        <p:grpSpPr>
          <a:xfrm>
            <a:off x="5778360" y="2044800"/>
            <a:ext cx="1612800" cy="1155240"/>
            <a:chOff x="5778360" y="2044800"/>
            <a:chExt cx="1612800" cy="1155240"/>
          </a:xfrm>
        </p:grpSpPr>
        <p:sp>
          <p:nvSpPr>
            <p:cNvPr id="669" name=""/>
            <p:cNvSpPr/>
            <p:nvPr/>
          </p:nvSpPr>
          <p:spPr>
            <a:xfrm>
              <a:off x="5778360" y="2044800"/>
              <a:ext cx="1499040" cy="966600"/>
            </a:xfrm>
            <a:custGeom>
              <a:avLst/>
              <a:gdLst/>
              <a:ahLst/>
              <a:rect l="l" t="t" r="r" b="b"/>
              <a:pathLst>
                <a:path w="5332" h="3582">
                  <a:moveTo>
                    <a:pt x="5332" y="3501"/>
                  </a:moveTo>
                  <a:lnTo>
                    <a:pt x="5283" y="3426"/>
                  </a:lnTo>
                  <a:lnTo>
                    <a:pt x="5233" y="3352"/>
                  </a:lnTo>
                  <a:lnTo>
                    <a:pt x="5183" y="3279"/>
                  </a:lnTo>
                  <a:lnTo>
                    <a:pt x="5130" y="3205"/>
                  </a:lnTo>
                  <a:lnTo>
                    <a:pt x="5077" y="3133"/>
                  </a:lnTo>
                  <a:lnTo>
                    <a:pt x="5022" y="3060"/>
                  </a:lnTo>
                  <a:lnTo>
                    <a:pt x="4967" y="2989"/>
                  </a:lnTo>
                  <a:lnTo>
                    <a:pt x="4910" y="2917"/>
                  </a:lnTo>
                  <a:lnTo>
                    <a:pt x="4851" y="2847"/>
                  </a:lnTo>
                  <a:lnTo>
                    <a:pt x="4791" y="2777"/>
                  </a:lnTo>
                  <a:lnTo>
                    <a:pt x="4730" y="2707"/>
                  </a:lnTo>
                  <a:lnTo>
                    <a:pt x="4669" y="2639"/>
                  </a:lnTo>
                  <a:lnTo>
                    <a:pt x="4605" y="2570"/>
                  </a:lnTo>
                  <a:lnTo>
                    <a:pt x="4541" y="2503"/>
                  </a:lnTo>
                  <a:lnTo>
                    <a:pt x="4476" y="2435"/>
                  </a:lnTo>
                  <a:lnTo>
                    <a:pt x="4409" y="2370"/>
                  </a:lnTo>
                  <a:lnTo>
                    <a:pt x="4341" y="2303"/>
                  </a:lnTo>
                  <a:lnTo>
                    <a:pt x="4271" y="2238"/>
                  </a:lnTo>
                  <a:lnTo>
                    <a:pt x="4201" y="2173"/>
                  </a:lnTo>
                  <a:lnTo>
                    <a:pt x="4131" y="2109"/>
                  </a:lnTo>
                  <a:lnTo>
                    <a:pt x="4058" y="2046"/>
                  </a:lnTo>
                  <a:lnTo>
                    <a:pt x="3984" y="1983"/>
                  </a:lnTo>
                  <a:lnTo>
                    <a:pt x="3909" y="1920"/>
                  </a:lnTo>
                  <a:lnTo>
                    <a:pt x="3834" y="1858"/>
                  </a:lnTo>
                  <a:lnTo>
                    <a:pt x="3756" y="1798"/>
                  </a:lnTo>
                  <a:lnTo>
                    <a:pt x="3679" y="1737"/>
                  </a:lnTo>
                  <a:lnTo>
                    <a:pt x="3600" y="1678"/>
                  </a:lnTo>
                  <a:lnTo>
                    <a:pt x="3521" y="1619"/>
                  </a:lnTo>
                  <a:lnTo>
                    <a:pt x="3440" y="1560"/>
                  </a:lnTo>
                  <a:lnTo>
                    <a:pt x="3358" y="1503"/>
                  </a:lnTo>
                  <a:lnTo>
                    <a:pt x="3274" y="1447"/>
                  </a:lnTo>
                  <a:lnTo>
                    <a:pt x="3191" y="1390"/>
                  </a:lnTo>
                  <a:lnTo>
                    <a:pt x="3105" y="1335"/>
                  </a:lnTo>
                  <a:lnTo>
                    <a:pt x="3020" y="1280"/>
                  </a:lnTo>
                  <a:lnTo>
                    <a:pt x="2933" y="1226"/>
                  </a:lnTo>
                  <a:lnTo>
                    <a:pt x="2845" y="1172"/>
                  </a:lnTo>
                  <a:lnTo>
                    <a:pt x="2757" y="1120"/>
                  </a:lnTo>
                  <a:lnTo>
                    <a:pt x="2667" y="1068"/>
                  </a:lnTo>
                  <a:lnTo>
                    <a:pt x="2576" y="1017"/>
                  </a:lnTo>
                  <a:lnTo>
                    <a:pt x="2485" y="967"/>
                  </a:lnTo>
                  <a:lnTo>
                    <a:pt x="2392" y="916"/>
                  </a:lnTo>
                  <a:lnTo>
                    <a:pt x="2299" y="868"/>
                  </a:lnTo>
                  <a:lnTo>
                    <a:pt x="2204" y="820"/>
                  </a:lnTo>
                  <a:lnTo>
                    <a:pt x="2109" y="773"/>
                  </a:lnTo>
                  <a:lnTo>
                    <a:pt x="2014" y="726"/>
                  </a:lnTo>
                  <a:lnTo>
                    <a:pt x="1917" y="681"/>
                  </a:lnTo>
                  <a:lnTo>
                    <a:pt x="1820" y="636"/>
                  </a:lnTo>
                  <a:lnTo>
                    <a:pt x="1721" y="592"/>
                  </a:lnTo>
                  <a:lnTo>
                    <a:pt x="1621" y="548"/>
                  </a:lnTo>
                  <a:lnTo>
                    <a:pt x="1522" y="506"/>
                  </a:lnTo>
                  <a:lnTo>
                    <a:pt x="1421" y="464"/>
                  </a:lnTo>
                  <a:lnTo>
                    <a:pt x="1319" y="424"/>
                  </a:lnTo>
                  <a:lnTo>
                    <a:pt x="1217" y="384"/>
                  </a:lnTo>
                  <a:lnTo>
                    <a:pt x="1113" y="344"/>
                  </a:lnTo>
                  <a:lnTo>
                    <a:pt x="1009" y="307"/>
                  </a:lnTo>
                  <a:lnTo>
                    <a:pt x="903" y="269"/>
                  </a:lnTo>
                  <a:lnTo>
                    <a:pt x="798" y="231"/>
                  </a:lnTo>
                  <a:lnTo>
                    <a:pt x="692" y="196"/>
                  </a:lnTo>
                  <a:lnTo>
                    <a:pt x="585" y="162"/>
                  </a:lnTo>
                  <a:lnTo>
                    <a:pt x="478" y="128"/>
                  </a:lnTo>
                  <a:lnTo>
                    <a:pt x="368" y="94"/>
                  </a:lnTo>
                  <a:lnTo>
                    <a:pt x="259" y="63"/>
                  </a:lnTo>
                  <a:lnTo>
                    <a:pt x="150" y="31"/>
                  </a:lnTo>
                  <a:lnTo>
                    <a:pt x="40" y="0"/>
                  </a:lnTo>
                  <a:lnTo>
                    <a:pt x="0" y="146"/>
                  </a:lnTo>
                  <a:lnTo>
                    <a:pt x="110" y="176"/>
                  </a:lnTo>
                  <a:lnTo>
                    <a:pt x="218" y="207"/>
                  </a:lnTo>
                  <a:lnTo>
                    <a:pt x="326" y="238"/>
                  </a:lnTo>
                  <a:lnTo>
                    <a:pt x="433" y="271"/>
                  </a:lnTo>
                  <a:lnTo>
                    <a:pt x="540" y="304"/>
                  </a:lnTo>
                  <a:lnTo>
                    <a:pt x="645" y="339"/>
                  </a:lnTo>
                  <a:lnTo>
                    <a:pt x="750" y="375"/>
                  </a:lnTo>
                  <a:lnTo>
                    <a:pt x="854" y="411"/>
                  </a:lnTo>
                  <a:lnTo>
                    <a:pt x="957" y="447"/>
                  </a:lnTo>
                  <a:lnTo>
                    <a:pt x="1061" y="485"/>
                  </a:lnTo>
                  <a:lnTo>
                    <a:pt x="1163" y="523"/>
                  </a:lnTo>
                  <a:lnTo>
                    <a:pt x="1264" y="563"/>
                  </a:lnTo>
                  <a:lnTo>
                    <a:pt x="1364" y="603"/>
                  </a:lnTo>
                  <a:lnTo>
                    <a:pt x="1464" y="644"/>
                  </a:lnTo>
                  <a:lnTo>
                    <a:pt x="1563" y="687"/>
                  </a:lnTo>
                  <a:lnTo>
                    <a:pt x="1660" y="729"/>
                  </a:lnTo>
                  <a:lnTo>
                    <a:pt x="1757" y="773"/>
                  </a:lnTo>
                  <a:lnTo>
                    <a:pt x="1854" y="817"/>
                  </a:lnTo>
                  <a:lnTo>
                    <a:pt x="1949" y="862"/>
                  </a:lnTo>
                  <a:lnTo>
                    <a:pt x="2044" y="908"/>
                  </a:lnTo>
                  <a:lnTo>
                    <a:pt x="2138" y="954"/>
                  </a:lnTo>
                  <a:lnTo>
                    <a:pt x="2230" y="1002"/>
                  </a:lnTo>
                  <a:lnTo>
                    <a:pt x="2322" y="1050"/>
                  </a:lnTo>
                  <a:lnTo>
                    <a:pt x="2413" y="1098"/>
                  </a:lnTo>
                  <a:lnTo>
                    <a:pt x="2504" y="1149"/>
                  </a:lnTo>
                  <a:lnTo>
                    <a:pt x="2593" y="1199"/>
                  </a:lnTo>
                  <a:lnTo>
                    <a:pt x="2681" y="1250"/>
                  </a:lnTo>
                  <a:lnTo>
                    <a:pt x="2769" y="1301"/>
                  </a:lnTo>
                  <a:lnTo>
                    <a:pt x="2854" y="1354"/>
                  </a:lnTo>
                  <a:lnTo>
                    <a:pt x="2940" y="1407"/>
                  </a:lnTo>
                  <a:lnTo>
                    <a:pt x="3024" y="1461"/>
                  </a:lnTo>
                  <a:lnTo>
                    <a:pt x="3108" y="1516"/>
                  </a:lnTo>
                  <a:lnTo>
                    <a:pt x="3191" y="1571"/>
                  </a:lnTo>
                  <a:lnTo>
                    <a:pt x="3272" y="1627"/>
                  </a:lnTo>
                  <a:lnTo>
                    <a:pt x="3353" y="1683"/>
                  </a:lnTo>
                  <a:lnTo>
                    <a:pt x="3433" y="1741"/>
                  </a:lnTo>
                  <a:lnTo>
                    <a:pt x="3510" y="1798"/>
                  </a:lnTo>
                  <a:lnTo>
                    <a:pt x="3587" y="1857"/>
                  </a:lnTo>
                  <a:lnTo>
                    <a:pt x="3665" y="1916"/>
                  </a:lnTo>
                  <a:lnTo>
                    <a:pt x="3740" y="1976"/>
                  </a:lnTo>
                  <a:lnTo>
                    <a:pt x="3814" y="2037"/>
                  </a:lnTo>
                  <a:lnTo>
                    <a:pt x="3887" y="2098"/>
                  </a:lnTo>
                  <a:lnTo>
                    <a:pt x="3959" y="2158"/>
                  </a:lnTo>
                  <a:lnTo>
                    <a:pt x="4030" y="2222"/>
                  </a:lnTo>
                  <a:lnTo>
                    <a:pt x="4100" y="2284"/>
                  </a:lnTo>
                  <a:lnTo>
                    <a:pt x="4169" y="2347"/>
                  </a:lnTo>
                  <a:lnTo>
                    <a:pt x="4236" y="2412"/>
                  </a:lnTo>
                  <a:lnTo>
                    <a:pt x="4303" y="2476"/>
                  </a:lnTo>
                  <a:lnTo>
                    <a:pt x="4369" y="2542"/>
                  </a:lnTo>
                  <a:lnTo>
                    <a:pt x="4432" y="2607"/>
                  </a:lnTo>
                  <a:lnTo>
                    <a:pt x="4495" y="2673"/>
                  </a:lnTo>
                  <a:lnTo>
                    <a:pt x="4558" y="2740"/>
                  </a:lnTo>
                  <a:lnTo>
                    <a:pt x="4619" y="2807"/>
                  </a:lnTo>
                  <a:lnTo>
                    <a:pt x="4677" y="2875"/>
                  </a:lnTo>
                  <a:lnTo>
                    <a:pt x="4736" y="2944"/>
                  </a:lnTo>
                  <a:lnTo>
                    <a:pt x="4793" y="3012"/>
                  </a:lnTo>
                  <a:lnTo>
                    <a:pt x="4849" y="3082"/>
                  </a:lnTo>
                  <a:lnTo>
                    <a:pt x="4904" y="3152"/>
                  </a:lnTo>
                  <a:lnTo>
                    <a:pt x="4957" y="3222"/>
                  </a:lnTo>
                  <a:lnTo>
                    <a:pt x="5009" y="3294"/>
                  </a:lnTo>
                  <a:lnTo>
                    <a:pt x="5060" y="3364"/>
                  </a:lnTo>
                  <a:lnTo>
                    <a:pt x="5109" y="3437"/>
                  </a:lnTo>
                  <a:lnTo>
                    <a:pt x="5158" y="3508"/>
                  </a:lnTo>
                  <a:lnTo>
                    <a:pt x="5204" y="3582"/>
                  </a:lnTo>
                  <a:lnTo>
                    <a:pt x="5332" y="3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143840" y="2923560"/>
              <a:ext cx="247320" cy="276480"/>
            </a:xfrm>
            <a:custGeom>
              <a:avLst/>
              <a:gdLst/>
              <a:ahLst/>
              <a:rect l="l" t="t" r="r" b="b"/>
              <a:pathLst>
                <a:path w="882" h="1025">
                  <a:moveTo>
                    <a:pt x="882" y="1025"/>
                  </a:moveTo>
                  <a:lnTo>
                    <a:pt x="778" y="0"/>
                  </a:lnTo>
                  <a:lnTo>
                    <a:pt x="0" y="494"/>
                  </a:lnTo>
                  <a:lnTo>
                    <a:pt x="882" y="1025"/>
                  </a:lnTo>
                  <a:lnTo>
                    <a:pt x="882"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1895400" y="2057400"/>
            <a:ext cx="1533240" cy="1123560"/>
            <a:chOff x="1895400" y="2057400"/>
            <a:chExt cx="1533240" cy="1123560"/>
          </a:xfrm>
        </p:grpSpPr>
        <p:sp>
          <p:nvSpPr>
            <p:cNvPr id="672" name=""/>
            <p:cNvSpPr/>
            <p:nvPr/>
          </p:nvSpPr>
          <p:spPr>
            <a:xfrm>
              <a:off x="1895400" y="2142000"/>
              <a:ext cx="1370160" cy="1038960"/>
            </a:xfrm>
            <a:custGeom>
              <a:avLst/>
              <a:gdLst/>
              <a:ahLst/>
              <a:rect l="l" t="t" r="r" b="b"/>
              <a:pathLst>
                <a:path w="5032" h="3494">
                  <a:moveTo>
                    <a:pt x="4990" y="0"/>
                  </a:moveTo>
                  <a:lnTo>
                    <a:pt x="4885" y="31"/>
                  </a:lnTo>
                  <a:lnTo>
                    <a:pt x="4782" y="64"/>
                  </a:lnTo>
                  <a:lnTo>
                    <a:pt x="4680" y="97"/>
                  </a:lnTo>
                  <a:lnTo>
                    <a:pt x="4578" y="131"/>
                  </a:lnTo>
                  <a:lnTo>
                    <a:pt x="4477" y="165"/>
                  </a:lnTo>
                  <a:lnTo>
                    <a:pt x="4376" y="200"/>
                  </a:lnTo>
                  <a:lnTo>
                    <a:pt x="4275" y="236"/>
                  </a:lnTo>
                  <a:lnTo>
                    <a:pt x="4177" y="274"/>
                  </a:lnTo>
                  <a:lnTo>
                    <a:pt x="4078" y="311"/>
                  </a:lnTo>
                  <a:lnTo>
                    <a:pt x="3980" y="350"/>
                  </a:lnTo>
                  <a:lnTo>
                    <a:pt x="3882" y="390"/>
                  </a:lnTo>
                  <a:lnTo>
                    <a:pt x="3786" y="430"/>
                  </a:lnTo>
                  <a:lnTo>
                    <a:pt x="3691" y="471"/>
                  </a:lnTo>
                  <a:lnTo>
                    <a:pt x="3596" y="512"/>
                  </a:lnTo>
                  <a:lnTo>
                    <a:pt x="3502" y="554"/>
                  </a:lnTo>
                  <a:lnTo>
                    <a:pt x="3408" y="597"/>
                  </a:lnTo>
                  <a:lnTo>
                    <a:pt x="3316" y="641"/>
                  </a:lnTo>
                  <a:lnTo>
                    <a:pt x="3224" y="685"/>
                  </a:lnTo>
                  <a:lnTo>
                    <a:pt x="3133" y="730"/>
                  </a:lnTo>
                  <a:lnTo>
                    <a:pt x="3042" y="777"/>
                  </a:lnTo>
                  <a:lnTo>
                    <a:pt x="2953" y="823"/>
                  </a:lnTo>
                  <a:lnTo>
                    <a:pt x="2865" y="871"/>
                  </a:lnTo>
                  <a:lnTo>
                    <a:pt x="2777" y="919"/>
                  </a:lnTo>
                  <a:lnTo>
                    <a:pt x="2690" y="967"/>
                  </a:lnTo>
                  <a:lnTo>
                    <a:pt x="2604" y="1016"/>
                  </a:lnTo>
                  <a:lnTo>
                    <a:pt x="2519" y="1067"/>
                  </a:lnTo>
                  <a:lnTo>
                    <a:pt x="2433" y="1117"/>
                  </a:lnTo>
                  <a:lnTo>
                    <a:pt x="2350" y="1169"/>
                  </a:lnTo>
                  <a:lnTo>
                    <a:pt x="2268" y="1221"/>
                  </a:lnTo>
                  <a:lnTo>
                    <a:pt x="2186" y="1273"/>
                  </a:lnTo>
                  <a:lnTo>
                    <a:pt x="2105" y="1327"/>
                  </a:lnTo>
                  <a:lnTo>
                    <a:pt x="2025" y="1381"/>
                  </a:lnTo>
                  <a:lnTo>
                    <a:pt x="1947" y="1436"/>
                  </a:lnTo>
                  <a:lnTo>
                    <a:pt x="1868" y="1491"/>
                  </a:lnTo>
                  <a:lnTo>
                    <a:pt x="1792" y="1546"/>
                  </a:lnTo>
                  <a:lnTo>
                    <a:pt x="1716" y="1604"/>
                  </a:lnTo>
                  <a:lnTo>
                    <a:pt x="1640" y="1660"/>
                  </a:lnTo>
                  <a:lnTo>
                    <a:pt x="1565" y="1717"/>
                  </a:lnTo>
                  <a:lnTo>
                    <a:pt x="1493" y="1776"/>
                  </a:lnTo>
                  <a:lnTo>
                    <a:pt x="1420" y="1835"/>
                  </a:lnTo>
                  <a:lnTo>
                    <a:pt x="1348" y="1895"/>
                  </a:lnTo>
                  <a:lnTo>
                    <a:pt x="1278" y="1954"/>
                  </a:lnTo>
                  <a:lnTo>
                    <a:pt x="1209" y="2015"/>
                  </a:lnTo>
                  <a:lnTo>
                    <a:pt x="1141" y="2076"/>
                  </a:lnTo>
                  <a:lnTo>
                    <a:pt x="1073" y="2139"/>
                  </a:lnTo>
                  <a:lnTo>
                    <a:pt x="1007" y="2201"/>
                  </a:lnTo>
                  <a:lnTo>
                    <a:pt x="941" y="2264"/>
                  </a:lnTo>
                  <a:lnTo>
                    <a:pt x="877" y="2327"/>
                  </a:lnTo>
                  <a:lnTo>
                    <a:pt x="815" y="2392"/>
                  </a:lnTo>
                  <a:lnTo>
                    <a:pt x="752" y="2456"/>
                  </a:lnTo>
                  <a:lnTo>
                    <a:pt x="691" y="2521"/>
                  </a:lnTo>
                  <a:lnTo>
                    <a:pt x="632" y="2587"/>
                  </a:lnTo>
                  <a:lnTo>
                    <a:pt x="573" y="2653"/>
                  </a:lnTo>
                  <a:lnTo>
                    <a:pt x="514" y="2719"/>
                  </a:lnTo>
                  <a:lnTo>
                    <a:pt x="458" y="2787"/>
                  </a:lnTo>
                  <a:lnTo>
                    <a:pt x="403" y="2855"/>
                  </a:lnTo>
                  <a:lnTo>
                    <a:pt x="348" y="2922"/>
                  </a:lnTo>
                  <a:lnTo>
                    <a:pt x="295" y="2991"/>
                  </a:lnTo>
                  <a:lnTo>
                    <a:pt x="243" y="3060"/>
                  </a:lnTo>
                  <a:lnTo>
                    <a:pt x="193" y="3130"/>
                  </a:lnTo>
                  <a:lnTo>
                    <a:pt x="142" y="3200"/>
                  </a:lnTo>
                  <a:lnTo>
                    <a:pt x="94" y="3270"/>
                  </a:lnTo>
                  <a:lnTo>
                    <a:pt x="46" y="3342"/>
                  </a:lnTo>
                  <a:lnTo>
                    <a:pt x="0" y="3413"/>
                  </a:lnTo>
                  <a:lnTo>
                    <a:pt x="127" y="3494"/>
                  </a:lnTo>
                  <a:lnTo>
                    <a:pt x="173" y="3424"/>
                  </a:lnTo>
                  <a:lnTo>
                    <a:pt x="219" y="3355"/>
                  </a:lnTo>
                  <a:lnTo>
                    <a:pt x="266" y="3286"/>
                  </a:lnTo>
                  <a:lnTo>
                    <a:pt x="314" y="3218"/>
                  </a:lnTo>
                  <a:lnTo>
                    <a:pt x="364" y="3150"/>
                  </a:lnTo>
                  <a:lnTo>
                    <a:pt x="415" y="3083"/>
                  </a:lnTo>
                  <a:lnTo>
                    <a:pt x="466" y="3016"/>
                  </a:lnTo>
                  <a:lnTo>
                    <a:pt x="520" y="2949"/>
                  </a:lnTo>
                  <a:lnTo>
                    <a:pt x="574" y="2883"/>
                  </a:lnTo>
                  <a:lnTo>
                    <a:pt x="629" y="2818"/>
                  </a:lnTo>
                  <a:lnTo>
                    <a:pt x="686" y="2752"/>
                  </a:lnTo>
                  <a:lnTo>
                    <a:pt x="743" y="2687"/>
                  </a:lnTo>
                  <a:lnTo>
                    <a:pt x="802" y="2623"/>
                  </a:lnTo>
                  <a:lnTo>
                    <a:pt x="861" y="2560"/>
                  </a:lnTo>
                  <a:lnTo>
                    <a:pt x="921" y="2496"/>
                  </a:lnTo>
                  <a:lnTo>
                    <a:pt x="983" y="2433"/>
                  </a:lnTo>
                  <a:lnTo>
                    <a:pt x="1047" y="2372"/>
                  </a:lnTo>
                  <a:lnTo>
                    <a:pt x="1110" y="2310"/>
                  </a:lnTo>
                  <a:lnTo>
                    <a:pt x="1176" y="2249"/>
                  </a:lnTo>
                  <a:lnTo>
                    <a:pt x="1242" y="2188"/>
                  </a:lnTo>
                  <a:lnTo>
                    <a:pt x="1308" y="2128"/>
                  </a:lnTo>
                  <a:lnTo>
                    <a:pt x="1376" y="2068"/>
                  </a:lnTo>
                  <a:lnTo>
                    <a:pt x="1446" y="2010"/>
                  </a:lnTo>
                  <a:lnTo>
                    <a:pt x="1515" y="1951"/>
                  </a:lnTo>
                  <a:lnTo>
                    <a:pt x="1586" y="1893"/>
                  </a:lnTo>
                  <a:lnTo>
                    <a:pt x="1658" y="1836"/>
                  </a:lnTo>
                  <a:lnTo>
                    <a:pt x="1731" y="1780"/>
                  </a:lnTo>
                  <a:lnTo>
                    <a:pt x="1805" y="1723"/>
                  </a:lnTo>
                  <a:lnTo>
                    <a:pt x="1880" y="1668"/>
                  </a:lnTo>
                  <a:lnTo>
                    <a:pt x="1956" y="1613"/>
                  </a:lnTo>
                  <a:lnTo>
                    <a:pt x="2032" y="1558"/>
                  </a:lnTo>
                  <a:lnTo>
                    <a:pt x="2110" y="1505"/>
                  </a:lnTo>
                  <a:lnTo>
                    <a:pt x="2189" y="1451"/>
                  </a:lnTo>
                  <a:lnTo>
                    <a:pt x="2268" y="1400"/>
                  </a:lnTo>
                  <a:lnTo>
                    <a:pt x="2349" y="1347"/>
                  </a:lnTo>
                  <a:lnTo>
                    <a:pt x="2430" y="1296"/>
                  </a:lnTo>
                  <a:lnTo>
                    <a:pt x="2512" y="1246"/>
                  </a:lnTo>
                  <a:lnTo>
                    <a:pt x="2595" y="1196"/>
                  </a:lnTo>
                  <a:lnTo>
                    <a:pt x="2679" y="1146"/>
                  </a:lnTo>
                  <a:lnTo>
                    <a:pt x="2764" y="1098"/>
                  </a:lnTo>
                  <a:lnTo>
                    <a:pt x="2850" y="1050"/>
                  </a:lnTo>
                  <a:lnTo>
                    <a:pt x="2936" y="1002"/>
                  </a:lnTo>
                  <a:lnTo>
                    <a:pt x="3024" y="956"/>
                  </a:lnTo>
                  <a:lnTo>
                    <a:pt x="3112" y="909"/>
                  </a:lnTo>
                  <a:lnTo>
                    <a:pt x="3201" y="865"/>
                  </a:lnTo>
                  <a:lnTo>
                    <a:pt x="3290" y="820"/>
                  </a:lnTo>
                  <a:lnTo>
                    <a:pt x="3380" y="776"/>
                  </a:lnTo>
                  <a:lnTo>
                    <a:pt x="3472" y="733"/>
                  </a:lnTo>
                  <a:lnTo>
                    <a:pt x="3564" y="691"/>
                  </a:lnTo>
                  <a:lnTo>
                    <a:pt x="3657" y="649"/>
                  </a:lnTo>
                  <a:lnTo>
                    <a:pt x="3751" y="608"/>
                  </a:lnTo>
                  <a:lnTo>
                    <a:pt x="3845" y="568"/>
                  </a:lnTo>
                  <a:lnTo>
                    <a:pt x="3940" y="528"/>
                  </a:lnTo>
                  <a:lnTo>
                    <a:pt x="4036" y="489"/>
                  </a:lnTo>
                  <a:lnTo>
                    <a:pt x="4132" y="452"/>
                  </a:lnTo>
                  <a:lnTo>
                    <a:pt x="4230" y="414"/>
                  </a:lnTo>
                  <a:lnTo>
                    <a:pt x="4328" y="378"/>
                  </a:lnTo>
                  <a:lnTo>
                    <a:pt x="4427" y="342"/>
                  </a:lnTo>
                  <a:lnTo>
                    <a:pt x="4525" y="306"/>
                  </a:lnTo>
                  <a:lnTo>
                    <a:pt x="4626" y="272"/>
                  </a:lnTo>
                  <a:lnTo>
                    <a:pt x="4726" y="240"/>
                  </a:lnTo>
                  <a:lnTo>
                    <a:pt x="4828" y="207"/>
                  </a:lnTo>
                  <a:lnTo>
                    <a:pt x="4930" y="175"/>
                  </a:lnTo>
                  <a:lnTo>
                    <a:pt x="5032" y="143"/>
                  </a:lnTo>
                  <a:lnTo>
                    <a:pt x="4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212640" y="2057400"/>
              <a:ext cx="216000" cy="224280"/>
            </a:xfrm>
            <a:custGeom>
              <a:avLst/>
              <a:gdLst/>
              <a:ahLst/>
              <a:rect l="l" t="t" r="r" b="b"/>
              <a:pathLst>
                <a:path w="796" h="753">
                  <a:moveTo>
                    <a:pt x="0" y="0"/>
                  </a:moveTo>
                  <a:lnTo>
                    <a:pt x="796" y="174"/>
                  </a:lnTo>
                  <a:lnTo>
                    <a:pt x="224" y="753"/>
                  </a:lnTo>
                  <a:lnTo>
                    <a:pt x="0" y="0"/>
                  </a:lnTo>
                  <a:lnTo>
                    <a:pt x="796" y="1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1752480" y="4572000"/>
            <a:ext cx="1741320" cy="1320480"/>
            <a:chOff x="1752480" y="4572000"/>
            <a:chExt cx="1741320" cy="1320480"/>
          </a:xfrm>
        </p:grpSpPr>
        <p:sp>
          <p:nvSpPr>
            <p:cNvPr id="675" name=""/>
            <p:cNvSpPr/>
            <p:nvPr/>
          </p:nvSpPr>
          <p:spPr>
            <a:xfrm>
              <a:off x="1834920" y="4726440"/>
              <a:ext cx="1658880" cy="1166040"/>
            </a:xfrm>
            <a:custGeom>
              <a:avLst/>
              <a:gdLst/>
              <a:ahLst/>
              <a:rect l="l" t="t" r="r" b="b"/>
              <a:pathLst>
                <a:path w="5500" h="4384">
                  <a:moveTo>
                    <a:pt x="0" y="54"/>
                  </a:moveTo>
                  <a:lnTo>
                    <a:pt x="37" y="146"/>
                  </a:lnTo>
                  <a:lnTo>
                    <a:pt x="75" y="236"/>
                  </a:lnTo>
                  <a:lnTo>
                    <a:pt x="115" y="326"/>
                  </a:lnTo>
                  <a:lnTo>
                    <a:pt x="158" y="416"/>
                  </a:lnTo>
                  <a:lnTo>
                    <a:pt x="202" y="504"/>
                  </a:lnTo>
                  <a:lnTo>
                    <a:pt x="248" y="594"/>
                  </a:lnTo>
                  <a:lnTo>
                    <a:pt x="295" y="682"/>
                  </a:lnTo>
                  <a:lnTo>
                    <a:pt x="344" y="768"/>
                  </a:lnTo>
                  <a:lnTo>
                    <a:pt x="396" y="855"/>
                  </a:lnTo>
                  <a:lnTo>
                    <a:pt x="448" y="941"/>
                  </a:lnTo>
                  <a:lnTo>
                    <a:pt x="502" y="1026"/>
                  </a:lnTo>
                  <a:lnTo>
                    <a:pt x="559" y="1112"/>
                  </a:lnTo>
                  <a:lnTo>
                    <a:pt x="617" y="1195"/>
                  </a:lnTo>
                  <a:lnTo>
                    <a:pt x="677" y="1279"/>
                  </a:lnTo>
                  <a:lnTo>
                    <a:pt x="738" y="1362"/>
                  </a:lnTo>
                  <a:lnTo>
                    <a:pt x="802" y="1444"/>
                  </a:lnTo>
                  <a:lnTo>
                    <a:pt x="866" y="1525"/>
                  </a:lnTo>
                  <a:lnTo>
                    <a:pt x="932" y="1606"/>
                  </a:lnTo>
                  <a:lnTo>
                    <a:pt x="1000" y="1687"/>
                  </a:lnTo>
                  <a:lnTo>
                    <a:pt x="1069" y="1765"/>
                  </a:lnTo>
                  <a:lnTo>
                    <a:pt x="1141" y="1844"/>
                  </a:lnTo>
                  <a:lnTo>
                    <a:pt x="1212" y="1921"/>
                  </a:lnTo>
                  <a:lnTo>
                    <a:pt x="1286" y="1999"/>
                  </a:lnTo>
                  <a:lnTo>
                    <a:pt x="1362" y="2075"/>
                  </a:lnTo>
                  <a:lnTo>
                    <a:pt x="1440" y="2150"/>
                  </a:lnTo>
                  <a:lnTo>
                    <a:pt x="1517" y="2225"/>
                  </a:lnTo>
                  <a:lnTo>
                    <a:pt x="1598" y="2299"/>
                  </a:lnTo>
                  <a:lnTo>
                    <a:pt x="1679" y="2372"/>
                  </a:lnTo>
                  <a:lnTo>
                    <a:pt x="1762" y="2444"/>
                  </a:lnTo>
                  <a:lnTo>
                    <a:pt x="1847" y="2516"/>
                  </a:lnTo>
                  <a:lnTo>
                    <a:pt x="1932" y="2586"/>
                  </a:lnTo>
                  <a:lnTo>
                    <a:pt x="2019" y="2655"/>
                  </a:lnTo>
                  <a:lnTo>
                    <a:pt x="2108" y="2725"/>
                  </a:lnTo>
                  <a:lnTo>
                    <a:pt x="2198" y="2793"/>
                  </a:lnTo>
                  <a:lnTo>
                    <a:pt x="2289" y="2861"/>
                  </a:lnTo>
                  <a:lnTo>
                    <a:pt x="2382" y="2926"/>
                  </a:lnTo>
                  <a:lnTo>
                    <a:pt x="2476" y="2992"/>
                  </a:lnTo>
                  <a:lnTo>
                    <a:pt x="2571" y="3057"/>
                  </a:lnTo>
                  <a:lnTo>
                    <a:pt x="2668" y="3120"/>
                  </a:lnTo>
                  <a:lnTo>
                    <a:pt x="2765" y="3183"/>
                  </a:lnTo>
                  <a:lnTo>
                    <a:pt x="2864" y="3244"/>
                  </a:lnTo>
                  <a:lnTo>
                    <a:pt x="2965" y="3305"/>
                  </a:lnTo>
                  <a:lnTo>
                    <a:pt x="3067" y="3365"/>
                  </a:lnTo>
                  <a:lnTo>
                    <a:pt x="3169" y="3424"/>
                  </a:lnTo>
                  <a:lnTo>
                    <a:pt x="3273" y="3482"/>
                  </a:lnTo>
                  <a:lnTo>
                    <a:pt x="3379" y="3539"/>
                  </a:lnTo>
                  <a:lnTo>
                    <a:pt x="3485" y="3595"/>
                  </a:lnTo>
                  <a:lnTo>
                    <a:pt x="3592" y="3650"/>
                  </a:lnTo>
                  <a:lnTo>
                    <a:pt x="3702" y="3704"/>
                  </a:lnTo>
                  <a:lnTo>
                    <a:pt x="3811" y="3757"/>
                  </a:lnTo>
                  <a:lnTo>
                    <a:pt x="3922" y="3808"/>
                  </a:lnTo>
                  <a:lnTo>
                    <a:pt x="4034" y="3859"/>
                  </a:lnTo>
                  <a:lnTo>
                    <a:pt x="4147" y="3909"/>
                  </a:lnTo>
                  <a:lnTo>
                    <a:pt x="4261" y="3957"/>
                  </a:lnTo>
                  <a:lnTo>
                    <a:pt x="4376" y="4005"/>
                  </a:lnTo>
                  <a:lnTo>
                    <a:pt x="4492" y="4052"/>
                  </a:lnTo>
                  <a:lnTo>
                    <a:pt x="4610" y="4097"/>
                  </a:lnTo>
                  <a:lnTo>
                    <a:pt x="4728" y="4142"/>
                  </a:lnTo>
                  <a:lnTo>
                    <a:pt x="4848" y="4185"/>
                  </a:lnTo>
                  <a:lnTo>
                    <a:pt x="4967" y="4227"/>
                  </a:lnTo>
                  <a:lnTo>
                    <a:pt x="5088" y="4268"/>
                  </a:lnTo>
                  <a:lnTo>
                    <a:pt x="5210" y="4308"/>
                  </a:lnTo>
                  <a:lnTo>
                    <a:pt x="5333" y="4347"/>
                  </a:lnTo>
                  <a:lnTo>
                    <a:pt x="5458" y="4384"/>
                  </a:lnTo>
                  <a:lnTo>
                    <a:pt x="5500" y="4240"/>
                  </a:lnTo>
                  <a:lnTo>
                    <a:pt x="5378" y="4204"/>
                  </a:lnTo>
                  <a:lnTo>
                    <a:pt x="5256" y="4165"/>
                  </a:lnTo>
                  <a:lnTo>
                    <a:pt x="5135" y="4125"/>
                  </a:lnTo>
                  <a:lnTo>
                    <a:pt x="5017" y="4085"/>
                  </a:lnTo>
                  <a:lnTo>
                    <a:pt x="4897" y="4043"/>
                  </a:lnTo>
                  <a:lnTo>
                    <a:pt x="4780" y="4001"/>
                  </a:lnTo>
                  <a:lnTo>
                    <a:pt x="4664" y="3957"/>
                  </a:lnTo>
                  <a:lnTo>
                    <a:pt x="4547" y="3912"/>
                  </a:lnTo>
                  <a:lnTo>
                    <a:pt x="4432" y="3866"/>
                  </a:lnTo>
                  <a:lnTo>
                    <a:pt x="4319" y="3819"/>
                  </a:lnTo>
                  <a:lnTo>
                    <a:pt x="4206" y="3771"/>
                  </a:lnTo>
                  <a:lnTo>
                    <a:pt x="4095" y="3722"/>
                  </a:lnTo>
                  <a:lnTo>
                    <a:pt x="3984" y="3672"/>
                  </a:lnTo>
                  <a:lnTo>
                    <a:pt x="3875" y="3621"/>
                  </a:lnTo>
                  <a:lnTo>
                    <a:pt x="3767" y="3569"/>
                  </a:lnTo>
                  <a:lnTo>
                    <a:pt x="3660" y="3515"/>
                  </a:lnTo>
                  <a:lnTo>
                    <a:pt x="3554" y="3461"/>
                  </a:lnTo>
                  <a:lnTo>
                    <a:pt x="3449" y="3406"/>
                  </a:lnTo>
                  <a:lnTo>
                    <a:pt x="3346" y="3350"/>
                  </a:lnTo>
                  <a:lnTo>
                    <a:pt x="3243" y="3294"/>
                  </a:lnTo>
                  <a:lnTo>
                    <a:pt x="3142" y="3235"/>
                  </a:lnTo>
                  <a:lnTo>
                    <a:pt x="3042" y="3176"/>
                  </a:lnTo>
                  <a:lnTo>
                    <a:pt x="2944" y="3116"/>
                  </a:lnTo>
                  <a:lnTo>
                    <a:pt x="2845" y="3055"/>
                  </a:lnTo>
                  <a:lnTo>
                    <a:pt x="2749" y="2994"/>
                  </a:lnTo>
                  <a:lnTo>
                    <a:pt x="2655" y="2931"/>
                  </a:lnTo>
                  <a:lnTo>
                    <a:pt x="2561" y="2868"/>
                  </a:lnTo>
                  <a:lnTo>
                    <a:pt x="2469" y="2803"/>
                  </a:lnTo>
                  <a:lnTo>
                    <a:pt x="2377" y="2739"/>
                  </a:lnTo>
                  <a:lnTo>
                    <a:pt x="2288" y="2673"/>
                  </a:lnTo>
                  <a:lnTo>
                    <a:pt x="2200" y="2606"/>
                  </a:lnTo>
                  <a:lnTo>
                    <a:pt x="2113" y="2538"/>
                  </a:lnTo>
                  <a:lnTo>
                    <a:pt x="2027" y="2470"/>
                  </a:lnTo>
                  <a:lnTo>
                    <a:pt x="1943" y="2400"/>
                  </a:lnTo>
                  <a:lnTo>
                    <a:pt x="1860" y="2331"/>
                  </a:lnTo>
                  <a:lnTo>
                    <a:pt x="1779" y="2259"/>
                  </a:lnTo>
                  <a:lnTo>
                    <a:pt x="1699" y="2188"/>
                  </a:lnTo>
                  <a:lnTo>
                    <a:pt x="1620" y="2116"/>
                  </a:lnTo>
                  <a:lnTo>
                    <a:pt x="1543" y="2042"/>
                  </a:lnTo>
                  <a:lnTo>
                    <a:pt x="1468" y="1968"/>
                  </a:lnTo>
                  <a:lnTo>
                    <a:pt x="1394" y="1894"/>
                  </a:lnTo>
                  <a:lnTo>
                    <a:pt x="1321" y="1818"/>
                  </a:lnTo>
                  <a:lnTo>
                    <a:pt x="1251" y="1742"/>
                  </a:lnTo>
                  <a:lnTo>
                    <a:pt x="1182" y="1666"/>
                  </a:lnTo>
                  <a:lnTo>
                    <a:pt x="1114" y="1588"/>
                  </a:lnTo>
                  <a:lnTo>
                    <a:pt x="1047" y="1510"/>
                  </a:lnTo>
                  <a:lnTo>
                    <a:pt x="982" y="1431"/>
                  </a:lnTo>
                  <a:lnTo>
                    <a:pt x="920" y="1351"/>
                  </a:lnTo>
                  <a:lnTo>
                    <a:pt x="858" y="1271"/>
                  </a:lnTo>
                  <a:lnTo>
                    <a:pt x="798" y="1191"/>
                  </a:lnTo>
                  <a:lnTo>
                    <a:pt x="741" y="1110"/>
                  </a:lnTo>
                  <a:lnTo>
                    <a:pt x="684" y="1028"/>
                  </a:lnTo>
                  <a:lnTo>
                    <a:pt x="629" y="945"/>
                  </a:lnTo>
                  <a:lnTo>
                    <a:pt x="575" y="862"/>
                  </a:lnTo>
                  <a:lnTo>
                    <a:pt x="525" y="778"/>
                  </a:lnTo>
                  <a:lnTo>
                    <a:pt x="474" y="693"/>
                  </a:lnTo>
                  <a:lnTo>
                    <a:pt x="427" y="609"/>
                  </a:lnTo>
                  <a:lnTo>
                    <a:pt x="380" y="523"/>
                  </a:lnTo>
                  <a:lnTo>
                    <a:pt x="336" y="438"/>
                  </a:lnTo>
                  <a:lnTo>
                    <a:pt x="294" y="351"/>
                  </a:lnTo>
                  <a:lnTo>
                    <a:pt x="253" y="264"/>
                  </a:lnTo>
                  <a:lnTo>
                    <a:pt x="213" y="176"/>
                  </a:lnTo>
                  <a:lnTo>
                    <a:pt x="176" y="88"/>
                  </a:lnTo>
                  <a:lnTo>
                    <a:pt x="140"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752480" y="4572000"/>
              <a:ext cx="219600" cy="214200"/>
            </a:xfrm>
            <a:custGeom>
              <a:avLst/>
              <a:gdLst/>
              <a:ahLst/>
              <a:rect l="l" t="t" r="r" b="b"/>
              <a:pathLst>
                <a:path w="732" h="806">
                  <a:moveTo>
                    <a:pt x="0" y="806"/>
                  </a:moveTo>
                  <a:lnTo>
                    <a:pt x="107" y="0"/>
                  </a:lnTo>
                  <a:lnTo>
                    <a:pt x="732" y="521"/>
                  </a:lnTo>
                  <a:lnTo>
                    <a:pt x="0" y="806"/>
                  </a:lnTo>
                  <a:lnTo>
                    <a:pt x="107" y="0"/>
                  </a:lnTo>
                  <a:lnTo>
                    <a:pt x="0"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5791320" y="4502160"/>
            <a:ext cx="1828440" cy="1517400"/>
            <a:chOff x="5791320" y="4502160"/>
            <a:chExt cx="1828440" cy="1517400"/>
          </a:xfrm>
        </p:grpSpPr>
        <p:sp>
          <p:nvSpPr>
            <p:cNvPr id="678" name=""/>
            <p:cNvSpPr/>
            <p:nvPr/>
          </p:nvSpPr>
          <p:spPr>
            <a:xfrm>
              <a:off x="5965200" y="4502160"/>
              <a:ext cx="1654560" cy="1424880"/>
            </a:xfrm>
            <a:custGeom>
              <a:avLst/>
              <a:gdLst/>
              <a:ahLst/>
              <a:rect l="l" t="t" r="r" b="b"/>
              <a:pathLst>
                <a:path w="5800" h="4471">
                  <a:moveTo>
                    <a:pt x="40" y="4471"/>
                  </a:moveTo>
                  <a:lnTo>
                    <a:pt x="170" y="4435"/>
                  </a:lnTo>
                  <a:lnTo>
                    <a:pt x="300" y="4397"/>
                  </a:lnTo>
                  <a:lnTo>
                    <a:pt x="429" y="4359"/>
                  </a:lnTo>
                  <a:lnTo>
                    <a:pt x="557" y="4320"/>
                  </a:lnTo>
                  <a:lnTo>
                    <a:pt x="684" y="4279"/>
                  </a:lnTo>
                  <a:lnTo>
                    <a:pt x="810" y="4237"/>
                  </a:lnTo>
                  <a:lnTo>
                    <a:pt x="935" y="4193"/>
                  </a:lnTo>
                  <a:lnTo>
                    <a:pt x="1059" y="4147"/>
                  </a:lnTo>
                  <a:lnTo>
                    <a:pt x="1181" y="4102"/>
                  </a:lnTo>
                  <a:lnTo>
                    <a:pt x="1303" y="4055"/>
                  </a:lnTo>
                  <a:lnTo>
                    <a:pt x="1424" y="4007"/>
                  </a:lnTo>
                  <a:lnTo>
                    <a:pt x="1544" y="3957"/>
                  </a:lnTo>
                  <a:lnTo>
                    <a:pt x="1662" y="3906"/>
                  </a:lnTo>
                  <a:lnTo>
                    <a:pt x="1779" y="3854"/>
                  </a:lnTo>
                  <a:lnTo>
                    <a:pt x="1895" y="3801"/>
                  </a:lnTo>
                  <a:lnTo>
                    <a:pt x="2010" y="3747"/>
                  </a:lnTo>
                  <a:lnTo>
                    <a:pt x="2123" y="3692"/>
                  </a:lnTo>
                  <a:lnTo>
                    <a:pt x="2236" y="3636"/>
                  </a:lnTo>
                  <a:lnTo>
                    <a:pt x="2347" y="3579"/>
                  </a:lnTo>
                  <a:lnTo>
                    <a:pt x="2458" y="3521"/>
                  </a:lnTo>
                  <a:lnTo>
                    <a:pt x="2566" y="3461"/>
                  </a:lnTo>
                  <a:lnTo>
                    <a:pt x="2674" y="3400"/>
                  </a:lnTo>
                  <a:lnTo>
                    <a:pt x="2779" y="3339"/>
                  </a:lnTo>
                  <a:lnTo>
                    <a:pt x="2885" y="3276"/>
                  </a:lnTo>
                  <a:lnTo>
                    <a:pt x="2988" y="3213"/>
                  </a:lnTo>
                  <a:lnTo>
                    <a:pt x="3090" y="3148"/>
                  </a:lnTo>
                  <a:lnTo>
                    <a:pt x="3191" y="3082"/>
                  </a:lnTo>
                  <a:lnTo>
                    <a:pt x="3290" y="3016"/>
                  </a:lnTo>
                  <a:lnTo>
                    <a:pt x="3388" y="2949"/>
                  </a:lnTo>
                  <a:lnTo>
                    <a:pt x="3484" y="2880"/>
                  </a:lnTo>
                  <a:lnTo>
                    <a:pt x="3579" y="2810"/>
                  </a:lnTo>
                  <a:lnTo>
                    <a:pt x="3673" y="2740"/>
                  </a:lnTo>
                  <a:lnTo>
                    <a:pt x="3766" y="2668"/>
                  </a:lnTo>
                  <a:lnTo>
                    <a:pt x="3856" y="2597"/>
                  </a:lnTo>
                  <a:lnTo>
                    <a:pt x="3945" y="2523"/>
                  </a:lnTo>
                  <a:lnTo>
                    <a:pt x="4033" y="2449"/>
                  </a:lnTo>
                  <a:lnTo>
                    <a:pt x="4119" y="2374"/>
                  </a:lnTo>
                  <a:lnTo>
                    <a:pt x="4203" y="2298"/>
                  </a:lnTo>
                  <a:lnTo>
                    <a:pt x="4287" y="2222"/>
                  </a:lnTo>
                  <a:lnTo>
                    <a:pt x="4369" y="2144"/>
                  </a:lnTo>
                  <a:lnTo>
                    <a:pt x="4447" y="2066"/>
                  </a:lnTo>
                  <a:lnTo>
                    <a:pt x="4526" y="1986"/>
                  </a:lnTo>
                  <a:lnTo>
                    <a:pt x="4602" y="1906"/>
                  </a:lnTo>
                  <a:lnTo>
                    <a:pt x="4677" y="1825"/>
                  </a:lnTo>
                  <a:lnTo>
                    <a:pt x="4751" y="1744"/>
                  </a:lnTo>
                  <a:lnTo>
                    <a:pt x="4822" y="1661"/>
                  </a:lnTo>
                  <a:lnTo>
                    <a:pt x="4892" y="1578"/>
                  </a:lnTo>
                  <a:lnTo>
                    <a:pt x="4960" y="1493"/>
                  </a:lnTo>
                  <a:lnTo>
                    <a:pt x="5027" y="1409"/>
                  </a:lnTo>
                  <a:lnTo>
                    <a:pt x="5091" y="1323"/>
                  </a:lnTo>
                  <a:lnTo>
                    <a:pt x="5154" y="1237"/>
                  </a:lnTo>
                  <a:lnTo>
                    <a:pt x="5215" y="1151"/>
                  </a:lnTo>
                  <a:lnTo>
                    <a:pt x="5274" y="1063"/>
                  </a:lnTo>
                  <a:lnTo>
                    <a:pt x="5332" y="974"/>
                  </a:lnTo>
                  <a:lnTo>
                    <a:pt x="5387" y="884"/>
                  </a:lnTo>
                  <a:lnTo>
                    <a:pt x="5441" y="795"/>
                  </a:lnTo>
                  <a:lnTo>
                    <a:pt x="5493" y="705"/>
                  </a:lnTo>
                  <a:lnTo>
                    <a:pt x="5542" y="614"/>
                  </a:lnTo>
                  <a:lnTo>
                    <a:pt x="5590" y="522"/>
                  </a:lnTo>
                  <a:lnTo>
                    <a:pt x="5636" y="429"/>
                  </a:lnTo>
                  <a:lnTo>
                    <a:pt x="5680" y="337"/>
                  </a:lnTo>
                  <a:lnTo>
                    <a:pt x="5721" y="243"/>
                  </a:lnTo>
                  <a:lnTo>
                    <a:pt x="5762" y="149"/>
                  </a:lnTo>
                  <a:lnTo>
                    <a:pt x="5800" y="54"/>
                  </a:lnTo>
                  <a:lnTo>
                    <a:pt x="5660" y="0"/>
                  </a:lnTo>
                  <a:lnTo>
                    <a:pt x="5623" y="92"/>
                  </a:lnTo>
                  <a:lnTo>
                    <a:pt x="5584" y="183"/>
                  </a:lnTo>
                  <a:lnTo>
                    <a:pt x="5543" y="273"/>
                  </a:lnTo>
                  <a:lnTo>
                    <a:pt x="5501" y="364"/>
                  </a:lnTo>
                  <a:lnTo>
                    <a:pt x="5456" y="454"/>
                  </a:lnTo>
                  <a:lnTo>
                    <a:pt x="5409" y="543"/>
                  </a:lnTo>
                  <a:lnTo>
                    <a:pt x="5361" y="631"/>
                  </a:lnTo>
                  <a:lnTo>
                    <a:pt x="5311" y="719"/>
                  </a:lnTo>
                  <a:lnTo>
                    <a:pt x="5258" y="807"/>
                  </a:lnTo>
                  <a:lnTo>
                    <a:pt x="5204" y="894"/>
                  </a:lnTo>
                  <a:lnTo>
                    <a:pt x="5149" y="979"/>
                  </a:lnTo>
                  <a:lnTo>
                    <a:pt x="5091" y="1065"/>
                  </a:lnTo>
                  <a:lnTo>
                    <a:pt x="5032" y="1150"/>
                  </a:lnTo>
                  <a:lnTo>
                    <a:pt x="4971" y="1234"/>
                  </a:lnTo>
                  <a:lnTo>
                    <a:pt x="4907" y="1317"/>
                  </a:lnTo>
                  <a:lnTo>
                    <a:pt x="4843" y="1401"/>
                  </a:lnTo>
                  <a:lnTo>
                    <a:pt x="4776" y="1483"/>
                  </a:lnTo>
                  <a:lnTo>
                    <a:pt x="4708" y="1564"/>
                  </a:lnTo>
                  <a:lnTo>
                    <a:pt x="4637" y="1644"/>
                  </a:lnTo>
                  <a:lnTo>
                    <a:pt x="4566" y="1724"/>
                  </a:lnTo>
                  <a:lnTo>
                    <a:pt x="4493" y="1803"/>
                  </a:lnTo>
                  <a:lnTo>
                    <a:pt x="4418" y="1881"/>
                  </a:lnTo>
                  <a:lnTo>
                    <a:pt x="4342" y="1959"/>
                  </a:lnTo>
                  <a:lnTo>
                    <a:pt x="4263" y="2036"/>
                  </a:lnTo>
                  <a:lnTo>
                    <a:pt x="4183" y="2112"/>
                  </a:lnTo>
                  <a:lnTo>
                    <a:pt x="4102" y="2188"/>
                  </a:lnTo>
                  <a:lnTo>
                    <a:pt x="4019" y="2261"/>
                  </a:lnTo>
                  <a:lnTo>
                    <a:pt x="3935" y="2335"/>
                  </a:lnTo>
                  <a:lnTo>
                    <a:pt x="3849" y="2408"/>
                  </a:lnTo>
                  <a:lnTo>
                    <a:pt x="3761" y="2480"/>
                  </a:lnTo>
                  <a:lnTo>
                    <a:pt x="3672" y="2551"/>
                  </a:lnTo>
                  <a:lnTo>
                    <a:pt x="3582" y="2620"/>
                  </a:lnTo>
                  <a:lnTo>
                    <a:pt x="3490" y="2690"/>
                  </a:lnTo>
                  <a:lnTo>
                    <a:pt x="3396" y="2759"/>
                  </a:lnTo>
                  <a:lnTo>
                    <a:pt x="3302" y="2826"/>
                  </a:lnTo>
                  <a:lnTo>
                    <a:pt x="3206" y="2892"/>
                  </a:lnTo>
                  <a:lnTo>
                    <a:pt x="3108" y="2957"/>
                  </a:lnTo>
                  <a:lnTo>
                    <a:pt x="3009" y="3021"/>
                  </a:lnTo>
                  <a:lnTo>
                    <a:pt x="2908" y="3086"/>
                  </a:lnTo>
                  <a:lnTo>
                    <a:pt x="2806" y="3148"/>
                  </a:lnTo>
                  <a:lnTo>
                    <a:pt x="2703" y="3210"/>
                  </a:lnTo>
                  <a:lnTo>
                    <a:pt x="2599" y="3270"/>
                  </a:lnTo>
                  <a:lnTo>
                    <a:pt x="2493" y="3330"/>
                  </a:lnTo>
                  <a:lnTo>
                    <a:pt x="2386" y="3389"/>
                  </a:lnTo>
                  <a:lnTo>
                    <a:pt x="2278" y="3446"/>
                  </a:lnTo>
                  <a:lnTo>
                    <a:pt x="2168" y="3502"/>
                  </a:lnTo>
                  <a:lnTo>
                    <a:pt x="2058" y="3557"/>
                  </a:lnTo>
                  <a:lnTo>
                    <a:pt x="1945" y="3611"/>
                  </a:lnTo>
                  <a:lnTo>
                    <a:pt x="1832" y="3665"/>
                  </a:lnTo>
                  <a:lnTo>
                    <a:pt x="1718" y="3717"/>
                  </a:lnTo>
                  <a:lnTo>
                    <a:pt x="1603" y="3769"/>
                  </a:lnTo>
                  <a:lnTo>
                    <a:pt x="1485" y="3819"/>
                  </a:lnTo>
                  <a:lnTo>
                    <a:pt x="1368" y="3867"/>
                  </a:lnTo>
                  <a:lnTo>
                    <a:pt x="1248" y="3915"/>
                  </a:lnTo>
                  <a:lnTo>
                    <a:pt x="1129" y="3961"/>
                  </a:lnTo>
                  <a:lnTo>
                    <a:pt x="1007" y="4007"/>
                  </a:lnTo>
                  <a:lnTo>
                    <a:pt x="885" y="4051"/>
                  </a:lnTo>
                  <a:lnTo>
                    <a:pt x="761" y="4093"/>
                  </a:lnTo>
                  <a:lnTo>
                    <a:pt x="637" y="4136"/>
                  </a:lnTo>
                  <a:lnTo>
                    <a:pt x="512" y="4176"/>
                  </a:lnTo>
                  <a:lnTo>
                    <a:pt x="386" y="4215"/>
                  </a:lnTo>
                  <a:lnTo>
                    <a:pt x="258" y="4253"/>
                  </a:lnTo>
                  <a:lnTo>
                    <a:pt x="130" y="4291"/>
                  </a:lnTo>
                  <a:lnTo>
                    <a:pt x="0" y="4326"/>
                  </a:lnTo>
                  <a:lnTo>
                    <a:pt x="40" y="4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791320" y="5777640"/>
              <a:ext cx="225360" cy="241920"/>
            </a:xfrm>
            <a:custGeom>
              <a:avLst/>
              <a:gdLst/>
              <a:ahLst/>
              <a:rect l="l" t="t" r="r" b="b"/>
              <a:pathLst>
                <a:path w="792" h="759">
                  <a:moveTo>
                    <a:pt x="792" y="759"/>
                  </a:moveTo>
                  <a:lnTo>
                    <a:pt x="0" y="565"/>
                  </a:lnTo>
                  <a:lnTo>
                    <a:pt x="588" y="0"/>
                  </a:lnTo>
                  <a:lnTo>
                    <a:pt x="792" y="759"/>
                  </a:lnTo>
                  <a:lnTo>
                    <a:pt x="0" y="565"/>
                  </a:lnTo>
                  <a:lnTo>
                    <a:pt x="792"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
          <p:cNvSpPr/>
          <p:nvPr/>
        </p:nvSpPr>
        <p:spPr>
          <a:xfrm>
            <a:off x="4602240" y="4516560"/>
            <a:ext cx="47520" cy="209520"/>
          </a:xfrm>
          <a:custGeom>
            <a:avLst/>
            <a:gdLst/>
            <a:ahLst/>
            <a:rect l="l" t="t" r="r" b="b"/>
            <a:pathLst>
              <a:path w="151" h="660">
                <a:moveTo>
                  <a:pt x="75" y="660"/>
                </a:moveTo>
                <a:lnTo>
                  <a:pt x="151" y="660"/>
                </a:lnTo>
                <a:lnTo>
                  <a:pt x="151" y="0"/>
                </a:lnTo>
                <a:lnTo>
                  <a:pt x="0" y="0"/>
                </a:lnTo>
                <a:lnTo>
                  <a:pt x="0" y="660"/>
                </a:lnTo>
                <a:lnTo>
                  <a:pt x="75" y="6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4500720" y="4707000"/>
            <a:ext cx="249120" cy="226800"/>
          </a:xfrm>
          <a:custGeom>
            <a:avLst/>
            <a:gdLst/>
            <a:ahLst/>
            <a:rect l="l" t="t" r="r" b="b"/>
            <a:pathLst>
              <a:path w="787" h="717">
                <a:moveTo>
                  <a:pt x="787" y="0"/>
                </a:moveTo>
                <a:lnTo>
                  <a:pt x="393" y="717"/>
                </a:lnTo>
                <a:lnTo>
                  <a:pt x="0" y="0"/>
                </a:lnTo>
                <a:lnTo>
                  <a:pt x="787" y="0"/>
                </a:lnTo>
                <a:lnTo>
                  <a:pt x="393" y="717"/>
                </a:lnTo>
                <a:lnTo>
                  <a:pt x="7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500720" y="2771640"/>
            <a:ext cx="249120" cy="228600"/>
          </a:xfrm>
          <a:custGeom>
            <a:avLst/>
            <a:gdLst/>
            <a:ahLst/>
            <a:rect l="l" t="t" r="r" b="b"/>
            <a:pathLst>
              <a:path w="787" h="716">
                <a:moveTo>
                  <a:pt x="787" y="716"/>
                </a:moveTo>
                <a:lnTo>
                  <a:pt x="393" y="0"/>
                </a:lnTo>
                <a:lnTo>
                  <a:pt x="0" y="716"/>
                </a:lnTo>
                <a:lnTo>
                  <a:pt x="787" y="716"/>
                </a:lnTo>
                <a:lnTo>
                  <a:pt x="393" y="0"/>
                </a:lnTo>
                <a:lnTo>
                  <a:pt x="787" y="7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602240" y="2979720"/>
            <a:ext cx="47520" cy="150840"/>
          </a:xfrm>
          <a:custGeom>
            <a:avLst/>
            <a:gdLst/>
            <a:ahLst/>
            <a:rect l="l" t="t" r="r" b="b"/>
            <a:pathLst>
              <a:path w="151" h="476">
                <a:moveTo>
                  <a:pt x="75" y="476"/>
                </a:moveTo>
                <a:lnTo>
                  <a:pt x="151" y="476"/>
                </a:lnTo>
                <a:lnTo>
                  <a:pt x="151" y="0"/>
                </a:lnTo>
                <a:lnTo>
                  <a:pt x="0" y="0"/>
                </a:lnTo>
                <a:lnTo>
                  <a:pt x="0" y="476"/>
                </a:lnTo>
                <a:lnTo>
                  <a:pt x="75"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932200" y="3843360"/>
            <a:ext cx="549360" cy="47520"/>
          </a:xfrm>
          <a:custGeom>
            <a:avLst/>
            <a:gdLst/>
            <a:ahLst/>
            <a:rect l="l" t="t" r="r" b="b"/>
            <a:pathLst>
              <a:path w="1728" h="150">
                <a:moveTo>
                  <a:pt x="0" y="75"/>
                </a:moveTo>
                <a:lnTo>
                  <a:pt x="0" y="150"/>
                </a:lnTo>
                <a:lnTo>
                  <a:pt x="1728" y="150"/>
                </a:lnTo>
                <a:lnTo>
                  <a:pt x="1728" y="0"/>
                </a:lnTo>
                <a:lnTo>
                  <a:pt x="0" y="0"/>
                </a:lnTo>
                <a:lnTo>
                  <a:pt x="0"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5" name=""/>
          <p:cNvSpPr/>
          <p:nvPr/>
        </p:nvSpPr>
        <p:spPr>
          <a:xfrm>
            <a:off x="2897280" y="3743280"/>
            <a:ext cx="226800" cy="249120"/>
          </a:xfrm>
          <a:custGeom>
            <a:avLst/>
            <a:gdLst/>
            <a:ahLst/>
            <a:rect l="l" t="t" r="r" b="b"/>
            <a:pathLst>
              <a:path w="717" h="787">
                <a:moveTo>
                  <a:pt x="717" y="787"/>
                </a:moveTo>
                <a:lnTo>
                  <a:pt x="0" y="393"/>
                </a:lnTo>
                <a:lnTo>
                  <a:pt x="717" y="0"/>
                </a:lnTo>
                <a:lnTo>
                  <a:pt x="717" y="787"/>
                </a:lnTo>
                <a:lnTo>
                  <a:pt x="0" y="393"/>
                </a:lnTo>
                <a:lnTo>
                  <a:pt x="717" y="7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5778360" y="3533760"/>
            <a:ext cx="382680" cy="47520"/>
          </a:xfrm>
          <a:custGeom>
            <a:avLst/>
            <a:gdLst/>
            <a:ahLst/>
            <a:rect l="l" t="t" r="r" b="b"/>
            <a:pathLst>
              <a:path w="1203" h="150">
                <a:moveTo>
                  <a:pt x="1203" y="75"/>
                </a:moveTo>
                <a:lnTo>
                  <a:pt x="1203" y="0"/>
                </a:lnTo>
                <a:lnTo>
                  <a:pt x="0" y="0"/>
                </a:lnTo>
                <a:lnTo>
                  <a:pt x="0" y="150"/>
                </a:lnTo>
                <a:lnTo>
                  <a:pt x="1203" y="150"/>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7" name=""/>
          <p:cNvSpPr/>
          <p:nvPr/>
        </p:nvSpPr>
        <p:spPr>
          <a:xfrm>
            <a:off x="6145200" y="3411360"/>
            <a:ext cx="293760" cy="292320"/>
          </a:xfrm>
          <a:custGeom>
            <a:avLst/>
            <a:gdLst/>
            <a:ahLst/>
            <a:rect l="l" t="t" r="r" b="b"/>
            <a:pathLst>
              <a:path w="922" h="922">
                <a:moveTo>
                  <a:pt x="922" y="461"/>
                </a:moveTo>
                <a:lnTo>
                  <a:pt x="0" y="0"/>
                </a:lnTo>
                <a:lnTo>
                  <a:pt x="0" y="922"/>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5778360" y="4148280"/>
            <a:ext cx="382680" cy="47520"/>
          </a:xfrm>
          <a:custGeom>
            <a:avLst/>
            <a:gdLst/>
            <a:ahLst/>
            <a:rect l="l" t="t" r="r" b="b"/>
            <a:pathLst>
              <a:path w="1203" h="151">
                <a:moveTo>
                  <a:pt x="1203" y="75"/>
                </a:moveTo>
                <a:lnTo>
                  <a:pt x="1203" y="0"/>
                </a:lnTo>
                <a:lnTo>
                  <a:pt x="0" y="0"/>
                </a:lnTo>
                <a:lnTo>
                  <a:pt x="0" y="151"/>
                </a:lnTo>
                <a:lnTo>
                  <a:pt x="1203" y="151"/>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6145200" y="4025880"/>
            <a:ext cx="293760" cy="291960"/>
          </a:xfrm>
          <a:custGeom>
            <a:avLst/>
            <a:gdLst/>
            <a:ahLst/>
            <a:rect l="l" t="t" r="r" b="b"/>
            <a:pathLst>
              <a:path w="922" h="923">
                <a:moveTo>
                  <a:pt x="922" y="461"/>
                </a:moveTo>
                <a:lnTo>
                  <a:pt x="0" y="0"/>
                </a:lnTo>
                <a:lnTo>
                  <a:pt x="0" y="923"/>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2" name=""/>
          <p:cNvGrpSpPr/>
          <p:nvPr/>
        </p:nvGrpSpPr>
        <p:grpSpPr>
          <a:xfrm>
            <a:off x="762120" y="1371240"/>
            <a:ext cx="5959800" cy="546120"/>
            <a:chOff x="762120" y="1371240"/>
            <a:chExt cx="5959800" cy="546120"/>
          </a:xfrm>
        </p:grpSpPr>
        <p:sp>
          <p:nvSpPr>
            <p:cNvPr id="693" name=""/>
            <p:cNvSpPr/>
            <p:nvPr/>
          </p:nvSpPr>
          <p:spPr>
            <a:xfrm flipV="1">
              <a:off x="762120" y="1370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1769400" y="1413360"/>
              <a:ext cx="4952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verstehen wir unter "Bildung"?</a:t>
              </a:r>
              <a:endParaRPr b="0" lang="en-US" sz="2400" spc="-1" strike="noStrike">
                <a:solidFill>
                  <a:srgbClr val="000000"/>
                </a:solidFill>
                <a:latin typeface="Times New Roman"/>
              </a:endParaRPr>
            </a:p>
          </p:txBody>
        </p:sp>
      </p:grpSp>
      <p:grpSp>
        <p:nvGrpSpPr>
          <p:cNvPr id="695" name=""/>
          <p:cNvGrpSpPr/>
          <p:nvPr/>
        </p:nvGrpSpPr>
        <p:grpSpPr>
          <a:xfrm>
            <a:off x="762120" y="2120400"/>
            <a:ext cx="6014520" cy="546120"/>
            <a:chOff x="762120" y="2120400"/>
            <a:chExt cx="6014520" cy="546120"/>
          </a:xfrm>
        </p:grpSpPr>
        <p:sp>
          <p:nvSpPr>
            <p:cNvPr id="696" name=""/>
            <p:cNvSpPr/>
            <p:nvPr/>
          </p:nvSpPr>
          <p:spPr>
            <a:xfrm flipV="1">
              <a:off x="762120" y="2120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1755720" y="2149920"/>
              <a:ext cx="5020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macht eine "gute Schule" aus?</a:t>
              </a:r>
              <a:endParaRPr b="0" lang="en-US" sz="2400" spc="-1" strike="noStrike">
                <a:solidFill>
                  <a:srgbClr val="000000"/>
                </a:solidFill>
                <a:latin typeface="Times New Roman"/>
              </a:endParaRPr>
            </a:p>
          </p:txBody>
        </p:sp>
      </p:grpSp>
      <p:grpSp>
        <p:nvGrpSpPr>
          <p:cNvPr id="698" name=""/>
          <p:cNvGrpSpPr/>
          <p:nvPr/>
        </p:nvGrpSpPr>
        <p:grpSpPr>
          <a:xfrm>
            <a:off x="762120" y="2805480"/>
            <a:ext cx="4781520" cy="546840"/>
            <a:chOff x="762120" y="2805480"/>
            <a:chExt cx="4781520" cy="546840"/>
          </a:xfrm>
        </p:grpSpPr>
        <p:sp>
          <p:nvSpPr>
            <p:cNvPr id="699" name=""/>
            <p:cNvSpPr/>
            <p:nvPr/>
          </p:nvSpPr>
          <p:spPr>
            <a:xfrm flipV="1">
              <a:off x="762120" y="28058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758600" y="2805480"/>
              <a:ext cx="378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d wir eine gute Schule?</a:t>
              </a:r>
              <a:endParaRPr b="0" lang="en-US" sz="2400" spc="-1" strike="noStrike">
                <a:solidFill>
                  <a:srgbClr val="000000"/>
                </a:solidFill>
                <a:latin typeface="Times New Roman"/>
              </a:endParaRPr>
            </a:p>
          </p:txBody>
        </p:sp>
      </p:grpSp>
      <p:sp>
        <p:nvSpPr>
          <p:cNvPr id="70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2" name=""/>
          <p:cNvGrpSpPr/>
          <p:nvPr/>
        </p:nvGrpSpPr>
        <p:grpSpPr>
          <a:xfrm>
            <a:off x="762120" y="3504960"/>
            <a:ext cx="4320000" cy="546120"/>
            <a:chOff x="762120" y="3504960"/>
            <a:chExt cx="4320000" cy="546120"/>
          </a:xfrm>
        </p:grpSpPr>
        <p:sp>
          <p:nvSpPr>
            <p:cNvPr id="703" name=""/>
            <p:cNvSpPr/>
            <p:nvPr/>
          </p:nvSpPr>
          <p:spPr>
            <a:xfrm flipV="1">
              <a:off x="762120" y="35046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1769400" y="3547080"/>
              <a:ext cx="3312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her wissen wir das?</a:t>
              </a:r>
              <a:endParaRPr b="0" lang="en-US" sz="2400" spc="-1" strike="noStrike">
                <a:solidFill>
                  <a:srgbClr val="000000"/>
                </a:solidFill>
                <a:latin typeface="Times New Roman"/>
              </a:endParaRPr>
            </a:p>
          </p:txBody>
        </p:sp>
      </p:grpSp>
      <p:grpSp>
        <p:nvGrpSpPr>
          <p:cNvPr id="705" name=""/>
          <p:cNvGrpSpPr/>
          <p:nvPr/>
        </p:nvGrpSpPr>
        <p:grpSpPr>
          <a:xfrm>
            <a:off x="762120" y="4189680"/>
            <a:ext cx="7272720" cy="825480"/>
            <a:chOff x="762120" y="4189680"/>
            <a:chExt cx="7272720" cy="825480"/>
          </a:xfrm>
        </p:grpSpPr>
        <p:sp>
          <p:nvSpPr>
            <p:cNvPr id="706" name=""/>
            <p:cNvSpPr/>
            <p:nvPr/>
          </p:nvSpPr>
          <p:spPr>
            <a:xfrm flipV="1">
              <a:off x="762120" y="4342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756440" y="4189680"/>
              <a:ext cx="6278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tun wir, um eine gute Schule zu bleib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zw. eine bessere zu werden?</a:t>
              </a:r>
              <a:endParaRPr b="0" lang="en-US" sz="2400" spc="-1" strike="noStrike">
                <a:solidFill>
                  <a:srgbClr val="000000"/>
                </a:solidFill>
                <a:latin typeface="Times New Roman"/>
              </a:endParaRPr>
            </a:p>
          </p:txBody>
        </p:sp>
      </p:grpSp>
      <p:grpSp>
        <p:nvGrpSpPr>
          <p:cNvPr id="708" name=""/>
          <p:cNvGrpSpPr/>
          <p:nvPr/>
        </p:nvGrpSpPr>
        <p:grpSpPr>
          <a:xfrm>
            <a:off x="762120" y="5256360"/>
            <a:ext cx="5155200" cy="825480"/>
            <a:chOff x="762120" y="5256360"/>
            <a:chExt cx="5155200" cy="825480"/>
          </a:xfrm>
        </p:grpSpPr>
        <p:sp>
          <p:nvSpPr>
            <p:cNvPr id="709" name=""/>
            <p:cNvSpPr/>
            <p:nvPr/>
          </p:nvSpPr>
          <p:spPr>
            <a:xfrm flipV="1">
              <a:off x="762120" y="5350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756080" y="5256360"/>
              <a:ext cx="4161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ran werden wir erkenn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s wir erfolgreich sind?</a:t>
              </a:r>
              <a:endParaRPr b="0" lang="en-US" sz="2400" spc="-1" strike="noStrike">
                <a:solidFill>
                  <a:srgbClr val="000000"/>
                </a:solidFill>
                <a:latin typeface="Times New Roman"/>
              </a:endParaRPr>
            </a:p>
          </p:txBody>
        </p:sp>
      </p:grpSp>
      <p:sp>
        <p:nvSpPr>
          <p:cNvPr id="71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2" name="bmuk_sw" descr=""/>
          <p:cNvPicPr/>
          <p:nvPr/>
        </p:nvPicPr>
        <p:blipFill>
          <a:blip r:embed="rId1"/>
          <a:stretch/>
        </p:blipFill>
        <p:spPr>
          <a:xfrm>
            <a:off x="76320" y="0"/>
            <a:ext cx="1218960" cy="566640"/>
          </a:xfrm>
          <a:prstGeom prst="rect">
            <a:avLst/>
          </a:prstGeom>
          <a:ln w="0">
            <a:noFill/>
          </a:ln>
        </p:spPr>
      </p:pic>
      <p:sp>
        <p:nvSpPr>
          <p:cNvPr id="71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0" y="609480"/>
            <a:ext cx="297180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0" y="60948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sdiskuss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3" name="bmuk_sw" descr=""/>
          <p:cNvPicPr/>
          <p:nvPr/>
        </p:nvPicPr>
        <p:blipFill>
          <a:blip r:embed="rId1"/>
          <a:stretch/>
        </p:blipFill>
        <p:spPr>
          <a:xfrm>
            <a:off x="76320" y="0"/>
            <a:ext cx="1218960" cy="566640"/>
          </a:xfrm>
          <a:prstGeom prst="rect">
            <a:avLst/>
          </a:prstGeom>
          <a:ln w="0">
            <a:noFill/>
          </a:ln>
        </p:spPr>
      </p:pic>
      <p:sp>
        <p:nvSpPr>
          <p:cNvPr id="72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0" y="609480"/>
            <a:ext cx="26668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 in Schule</a:t>
            </a:r>
            <a:endParaRPr b="0" lang="en-US" sz="2200" spc="-1" strike="noStrike">
              <a:solidFill>
                <a:srgbClr val="000000"/>
              </a:solidFill>
              <a:latin typeface="Times New Roman"/>
            </a:endParaRPr>
          </a:p>
        </p:txBody>
      </p:sp>
      <p:grpSp>
        <p:nvGrpSpPr>
          <p:cNvPr id="733" name=""/>
          <p:cNvGrpSpPr/>
          <p:nvPr/>
        </p:nvGrpSpPr>
        <p:grpSpPr>
          <a:xfrm>
            <a:off x="1143000" y="913320"/>
            <a:ext cx="3505320" cy="459720"/>
            <a:chOff x="1143000" y="913320"/>
            <a:chExt cx="3505320" cy="459720"/>
          </a:xfrm>
        </p:grpSpPr>
        <p:sp>
          <p:nvSpPr>
            <p:cNvPr id="734" name=""/>
            <p:cNvSpPr/>
            <p:nvPr/>
          </p:nvSpPr>
          <p:spPr>
            <a:xfrm>
              <a:off x="1143000" y="990720"/>
              <a:ext cx="35053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1671840" y="913320"/>
              <a:ext cx="251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736" name=""/>
          <p:cNvGrpSpPr/>
          <p:nvPr/>
        </p:nvGrpSpPr>
        <p:grpSpPr>
          <a:xfrm>
            <a:off x="4648320" y="913320"/>
            <a:ext cx="4495680" cy="459720"/>
            <a:chOff x="4648320" y="913320"/>
            <a:chExt cx="4495680" cy="459720"/>
          </a:xfrm>
        </p:grpSpPr>
        <p:sp>
          <p:nvSpPr>
            <p:cNvPr id="737" name=""/>
            <p:cNvSpPr/>
            <p:nvPr/>
          </p:nvSpPr>
          <p:spPr>
            <a:xfrm>
              <a:off x="4648320" y="990720"/>
              <a:ext cx="4495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411160" y="913320"/>
              <a:ext cx="172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Times New Roman"/>
              </a:endParaRPr>
            </a:p>
          </p:txBody>
        </p:sp>
      </p:grpSp>
      <p:grpSp>
        <p:nvGrpSpPr>
          <p:cNvPr id="739" name=""/>
          <p:cNvGrpSpPr/>
          <p:nvPr/>
        </p:nvGrpSpPr>
        <p:grpSpPr>
          <a:xfrm>
            <a:off x="3479760" y="1371600"/>
            <a:ext cx="2297160" cy="1339560"/>
            <a:chOff x="3479760" y="1371600"/>
            <a:chExt cx="2297160" cy="1339560"/>
          </a:xfrm>
        </p:grpSpPr>
        <p:sp>
          <p:nvSpPr>
            <p:cNvPr id="740" name=""/>
            <p:cNvSpPr/>
            <p:nvPr/>
          </p:nvSpPr>
          <p:spPr>
            <a:xfrm>
              <a:off x="3479760" y="1371600"/>
              <a:ext cx="2297160" cy="1339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823920" y="1517040"/>
              <a:ext cx="16866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etzung</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kreter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ßnahmen</a:t>
              </a:r>
              <a:endParaRPr b="0" lang="en-US" sz="2000" spc="-1" strike="noStrike">
                <a:solidFill>
                  <a:srgbClr val="000000"/>
                </a:solidFill>
                <a:latin typeface="Times New Roman"/>
              </a:endParaRPr>
            </a:p>
          </p:txBody>
        </p:sp>
      </p:grpSp>
      <p:grpSp>
        <p:nvGrpSpPr>
          <p:cNvPr id="742" name=""/>
          <p:cNvGrpSpPr/>
          <p:nvPr/>
        </p:nvGrpSpPr>
        <p:grpSpPr>
          <a:xfrm>
            <a:off x="6448320" y="3860640"/>
            <a:ext cx="2558520" cy="669960"/>
            <a:chOff x="6448320" y="3860640"/>
            <a:chExt cx="2558520" cy="669960"/>
          </a:xfrm>
        </p:grpSpPr>
        <p:sp>
          <p:nvSpPr>
            <p:cNvPr id="743" name=""/>
            <p:cNvSpPr/>
            <p:nvPr/>
          </p:nvSpPr>
          <p:spPr>
            <a:xfrm>
              <a:off x="6448320" y="3860640"/>
              <a:ext cx="2543400" cy="66996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476040" y="3964320"/>
              <a:ext cx="2530800" cy="398880"/>
            </a:xfrm>
            <a:prstGeom prst="rect">
              <a:avLst/>
            </a:prstGeom>
            <a:solidFill>
              <a:srgbClr val="0033cc"/>
            </a:solid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standsaufnahme</a:t>
              </a:r>
              <a:endParaRPr b="0" lang="en-US" sz="2000" spc="-1" strike="noStrike">
                <a:solidFill>
                  <a:srgbClr val="000000"/>
                </a:solidFill>
                <a:latin typeface="Times New Roman"/>
              </a:endParaRPr>
            </a:p>
          </p:txBody>
        </p:sp>
      </p:grpSp>
      <p:grpSp>
        <p:nvGrpSpPr>
          <p:cNvPr id="745" name=""/>
          <p:cNvGrpSpPr/>
          <p:nvPr/>
        </p:nvGrpSpPr>
        <p:grpSpPr>
          <a:xfrm>
            <a:off x="3479760" y="5103720"/>
            <a:ext cx="2297160" cy="1339920"/>
            <a:chOff x="3479760" y="5103720"/>
            <a:chExt cx="2297160" cy="1339920"/>
          </a:xfrm>
        </p:grpSpPr>
        <p:sp>
          <p:nvSpPr>
            <p:cNvPr id="746" name=""/>
            <p:cNvSpPr/>
            <p:nvPr/>
          </p:nvSpPr>
          <p:spPr>
            <a:xfrm>
              <a:off x="3479760" y="5103720"/>
              <a:ext cx="2297160" cy="1339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3710160" y="5393520"/>
              <a:ext cx="1895400" cy="70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flexion</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Ergebnisse</a:t>
              </a:r>
              <a:endParaRPr b="0" lang="en-US" sz="2000" spc="-1" strike="noStrike">
                <a:solidFill>
                  <a:srgbClr val="000000"/>
                </a:solidFill>
                <a:latin typeface="Times New Roman"/>
              </a:endParaRPr>
            </a:p>
          </p:txBody>
        </p:sp>
      </p:grpSp>
      <p:grpSp>
        <p:nvGrpSpPr>
          <p:cNvPr id="748" name=""/>
          <p:cNvGrpSpPr/>
          <p:nvPr/>
        </p:nvGrpSpPr>
        <p:grpSpPr>
          <a:xfrm>
            <a:off x="583560" y="3189240"/>
            <a:ext cx="2323080" cy="1341360"/>
            <a:chOff x="583560" y="3189240"/>
            <a:chExt cx="2323080" cy="1341360"/>
          </a:xfrm>
        </p:grpSpPr>
        <p:sp>
          <p:nvSpPr>
            <p:cNvPr id="749" name=""/>
            <p:cNvSpPr/>
            <p:nvPr/>
          </p:nvSpPr>
          <p:spPr>
            <a:xfrm>
              <a:off x="60948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83560" y="3349080"/>
              <a:ext cx="23220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ulprogramm</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ele und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haben</a:t>
              </a:r>
              <a:endParaRPr b="0" lang="en-US" sz="2000" spc="-1" strike="noStrike">
                <a:solidFill>
                  <a:srgbClr val="000000"/>
                </a:solidFill>
                <a:latin typeface="Times New Roman"/>
              </a:endParaRPr>
            </a:p>
          </p:txBody>
        </p:sp>
      </p:grpSp>
      <p:grpSp>
        <p:nvGrpSpPr>
          <p:cNvPr id="751" name=""/>
          <p:cNvGrpSpPr/>
          <p:nvPr/>
        </p:nvGrpSpPr>
        <p:grpSpPr>
          <a:xfrm>
            <a:off x="3479760" y="3189240"/>
            <a:ext cx="2297160" cy="1341360"/>
            <a:chOff x="3479760" y="3189240"/>
            <a:chExt cx="2297160" cy="1341360"/>
          </a:xfrm>
        </p:grpSpPr>
        <p:sp>
          <p:nvSpPr>
            <p:cNvPr id="752" name=""/>
            <p:cNvSpPr/>
            <p:nvPr/>
          </p:nvSpPr>
          <p:spPr>
            <a:xfrm>
              <a:off x="347976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3873600" y="3520800"/>
              <a:ext cx="1640880" cy="73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a:t>
              </a:r>
              <a:endParaRPr b="0" lang="en-US" sz="2200" spc="-1" strike="noStrike">
                <a:solidFill>
                  <a:srgbClr val="000000"/>
                </a:solidFill>
                <a:latin typeface="Times New Roman"/>
              </a:endParaRPr>
            </a:p>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kussion</a:t>
              </a:r>
              <a:endParaRPr b="0" lang="en-US" sz="2200" spc="-1" strike="noStrike">
                <a:solidFill>
                  <a:srgbClr val="000000"/>
                </a:solidFill>
                <a:latin typeface="Times New Roman"/>
              </a:endParaRPr>
            </a:p>
          </p:txBody>
        </p:sp>
      </p:grpSp>
      <p:grpSp>
        <p:nvGrpSpPr>
          <p:cNvPr id="754" name=""/>
          <p:cNvGrpSpPr/>
          <p:nvPr/>
        </p:nvGrpSpPr>
        <p:grpSpPr>
          <a:xfrm>
            <a:off x="6448320" y="3189240"/>
            <a:ext cx="2543400" cy="671400"/>
            <a:chOff x="6448320" y="3189240"/>
            <a:chExt cx="2543400" cy="671400"/>
          </a:xfrm>
        </p:grpSpPr>
        <p:sp>
          <p:nvSpPr>
            <p:cNvPr id="755" name=""/>
            <p:cNvSpPr/>
            <p:nvPr/>
          </p:nvSpPr>
          <p:spPr>
            <a:xfrm>
              <a:off x="6448320" y="3189240"/>
              <a:ext cx="2543400" cy="671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6749640" y="3400920"/>
              <a:ext cx="18709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Überprüfung</a:t>
              </a:r>
              <a:endParaRPr b="0" lang="en-US" sz="2200" spc="-1" strike="noStrike">
                <a:solidFill>
                  <a:srgbClr val="000000"/>
                </a:solidFill>
                <a:latin typeface="Times New Roman"/>
              </a:endParaRPr>
            </a:p>
          </p:txBody>
        </p:sp>
      </p:grpSp>
      <p:grpSp>
        <p:nvGrpSpPr>
          <p:cNvPr id="757" name=""/>
          <p:cNvGrpSpPr/>
          <p:nvPr/>
        </p:nvGrpSpPr>
        <p:grpSpPr>
          <a:xfrm>
            <a:off x="5778360" y="2044800"/>
            <a:ext cx="1612800" cy="1155240"/>
            <a:chOff x="5778360" y="2044800"/>
            <a:chExt cx="1612800" cy="1155240"/>
          </a:xfrm>
        </p:grpSpPr>
        <p:sp>
          <p:nvSpPr>
            <p:cNvPr id="758" name=""/>
            <p:cNvSpPr/>
            <p:nvPr/>
          </p:nvSpPr>
          <p:spPr>
            <a:xfrm>
              <a:off x="5778360" y="2044800"/>
              <a:ext cx="1499040" cy="966600"/>
            </a:xfrm>
            <a:custGeom>
              <a:avLst/>
              <a:gdLst/>
              <a:ahLst/>
              <a:rect l="l" t="t" r="r" b="b"/>
              <a:pathLst>
                <a:path w="5332" h="3582">
                  <a:moveTo>
                    <a:pt x="5332" y="3501"/>
                  </a:moveTo>
                  <a:lnTo>
                    <a:pt x="5283" y="3426"/>
                  </a:lnTo>
                  <a:lnTo>
                    <a:pt x="5233" y="3352"/>
                  </a:lnTo>
                  <a:lnTo>
                    <a:pt x="5183" y="3279"/>
                  </a:lnTo>
                  <a:lnTo>
                    <a:pt x="5130" y="3205"/>
                  </a:lnTo>
                  <a:lnTo>
                    <a:pt x="5077" y="3133"/>
                  </a:lnTo>
                  <a:lnTo>
                    <a:pt x="5022" y="3060"/>
                  </a:lnTo>
                  <a:lnTo>
                    <a:pt x="4967" y="2989"/>
                  </a:lnTo>
                  <a:lnTo>
                    <a:pt x="4910" y="2917"/>
                  </a:lnTo>
                  <a:lnTo>
                    <a:pt x="4851" y="2847"/>
                  </a:lnTo>
                  <a:lnTo>
                    <a:pt x="4791" y="2777"/>
                  </a:lnTo>
                  <a:lnTo>
                    <a:pt x="4730" y="2707"/>
                  </a:lnTo>
                  <a:lnTo>
                    <a:pt x="4669" y="2639"/>
                  </a:lnTo>
                  <a:lnTo>
                    <a:pt x="4605" y="2570"/>
                  </a:lnTo>
                  <a:lnTo>
                    <a:pt x="4541" y="2503"/>
                  </a:lnTo>
                  <a:lnTo>
                    <a:pt x="4476" y="2435"/>
                  </a:lnTo>
                  <a:lnTo>
                    <a:pt x="4409" y="2370"/>
                  </a:lnTo>
                  <a:lnTo>
                    <a:pt x="4341" y="2303"/>
                  </a:lnTo>
                  <a:lnTo>
                    <a:pt x="4271" y="2238"/>
                  </a:lnTo>
                  <a:lnTo>
                    <a:pt x="4201" y="2173"/>
                  </a:lnTo>
                  <a:lnTo>
                    <a:pt x="4131" y="2109"/>
                  </a:lnTo>
                  <a:lnTo>
                    <a:pt x="4058" y="2046"/>
                  </a:lnTo>
                  <a:lnTo>
                    <a:pt x="3984" y="1983"/>
                  </a:lnTo>
                  <a:lnTo>
                    <a:pt x="3909" y="1920"/>
                  </a:lnTo>
                  <a:lnTo>
                    <a:pt x="3834" y="1858"/>
                  </a:lnTo>
                  <a:lnTo>
                    <a:pt x="3756" y="1798"/>
                  </a:lnTo>
                  <a:lnTo>
                    <a:pt x="3679" y="1737"/>
                  </a:lnTo>
                  <a:lnTo>
                    <a:pt x="3600" y="1678"/>
                  </a:lnTo>
                  <a:lnTo>
                    <a:pt x="3521" y="1619"/>
                  </a:lnTo>
                  <a:lnTo>
                    <a:pt x="3440" y="1560"/>
                  </a:lnTo>
                  <a:lnTo>
                    <a:pt x="3358" y="1503"/>
                  </a:lnTo>
                  <a:lnTo>
                    <a:pt x="3274" y="1447"/>
                  </a:lnTo>
                  <a:lnTo>
                    <a:pt x="3191" y="1390"/>
                  </a:lnTo>
                  <a:lnTo>
                    <a:pt x="3105" y="1335"/>
                  </a:lnTo>
                  <a:lnTo>
                    <a:pt x="3020" y="1280"/>
                  </a:lnTo>
                  <a:lnTo>
                    <a:pt x="2933" y="1226"/>
                  </a:lnTo>
                  <a:lnTo>
                    <a:pt x="2845" y="1172"/>
                  </a:lnTo>
                  <a:lnTo>
                    <a:pt x="2757" y="1120"/>
                  </a:lnTo>
                  <a:lnTo>
                    <a:pt x="2667" y="1068"/>
                  </a:lnTo>
                  <a:lnTo>
                    <a:pt x="2576" y="1017"/>
                  </a:lnTo>
                  <a:lnTo>
                    <a:pt x="2485" y="967"/>
                  </a:lnTo>
                  <a:lnTo>
                    <a:pt x="2392" y="916"/>
                  </a:lnTo>
                  <a:lnTo>
                    <a:pt x="2299" y="868"/>
                  </a:lnTo>
                  <a:lnTo>
                    <a:pt x="2204" y="820"/>
                  </a:lnTo>
                  <a:lnTo>
                    <a:pt x="2109" y="773"/>
                  </a:lnTo>
                  <a:lnTo>
                    <a:pt x="2014" y="726"/>
                  </a:lnTo>
                  <a:lnTo>
                    <a:pt x="1917" y="681"/>
                  </a:lnTo>
                  <a:lnTo>
                    <a:pt x="1820" y="636"/>
                  </a:lnTo>
                  <a:lnTo>
                    <a:pt x="1721" y="592"/>
                  </a:lnTo>
                  <a:lnTo>
                    <a:pt x="1621" y="548"/>
                  </a:lnTo>
                  <a:lnTo>
                    <a:pt x="1522" y="506"/>
                  </a:lnTo>
                  <a:lnTo>
                    <a:pt x="1421" y="464"/>
                  </a:lnTo>
                  <a:lnTo>
                    <a:pt x="1319" y="424"/>
                  </a:lnTo>
                  <a:lnTo>
                    <a:pt x="1217" y="384"/>
                  </a:lnTo>
                  <a:lnTo>
                    <a:pt x="1113" y="344"/>
                  </a:lnTo>
                  <a:lnTo>
                    <a:pt x="1009" y="307"/>
                  </a:lnTo>
                  <a:lnTo>
                    <a:pt x="903" y="269"/>
                  </a:lnTo>
                  <a:lnTo>
                    <a:pt x="798" y="231"/>
                  </a:lnTo>
                  <a:lnTo>
                    <a:pt x="692" y="196"/>
                  </a:lnTo>
                  <a:lnTo>
                    <a:pt x="585" y="162"/>
                  </a:lnTo>
                  <a:lnTo>
                    <a:pt x="478" y="128"/>
                  </a:lnTo>
                  <a:lnTo>
                    <a:pt x="368" y="94"/>
                  </a:lnTo>
                  <a:lnTo>
                    <a:pt x="259" y="63"/>
                  </a:lnTo>
                  <a:lnTo>
                    <a:pt x="150" y="31"/>
                  </a:lnTo>
                  <a:lnTo>
                    <a:pt x="40" y="0"/>
                  </a:lnTo>
                  <a:lnTo>
                    <a:pt x="0" y="146"/>
                  </a:lnTo>
                  <a:lnTo>
                    <a:pt x="110" y="176"/>
                  </a:lnTo>
                  <a:lnTo>
                    <a:pt x="218" y="207"/>
                  </a:lnTo>
                  <a:lnTo>
                    <a:pt x="326" y="238"/>
                  </a:lnTo>
                  <a:lnTo>
                    <a:pt x="433" y="271"/>
                  </a:lnTo>
                  <a:lnTo>
                    <a:pt x="540" y="304"/>
                  </a:lnTo>
                  <a:lnTo>
                    <a:pt x="645" y="339"/>
                  </a:lnTo>
                  <a:lnTo>
                    <a:pt x="750" y="375"/>
                  </a:lnTo>
                  <a:lnTo>
                    <a:pt x="854" y="411"/>
                  </a:lnTo>
                  <a:lnTo>
                    <a:pt x="957" y="447"/>
                  </a:lnTo>
                  <a:lnTo>
                    <a:pt x="1061" y="485"/>
                  </a:lnTo>
                  <a:lnTo>
                    <a:pt x="1163" y="523"/>
                  </a:lnTo>
                  <a:lnTo>
                    <a:pt x="1264" y="563"/>
                  </a:lnTo>
                  <a:lnTo>
                    <a:pt x="1364" y="603"/>
                  </a:lnTo>
                  <a:lnTo>
                    <a:pt x="1464" y="644"/>
                  </a:lnTo>
                  <a:lnTo>
                    <a:pt x="1563" y="687"/>
                  </a:lnTo>
                  <a:lnTo>
                    <a:pt x="1660" y="729"/>
                  </a:lnTo>
                  <a:lnTo>
                    <a:pt x="1757" y="773"/>
                  </a:lnTo>
                  <a:lnTo>
                    <a:pt x="1854" y="817"/>
                  </a:lnTo>
                  <a:lnTo>
                    <a:pt x="1949" y="862"/>
                  </a:lnTo>
                  <a:lnTo>
                    <a:pt x="2044" y="908"/>
                  </a:lnTo>
                  <a:lnTo>
                    <a:pt x="2138" y="954"/>
                  </a:lnTo>
                  <a:lnTo>
                    <a:pt x="2230" y="1002"/>
                  </a:lnTo>
                  <a:lnTo>
                    <a:pt x="2322" y="1050"/>
                  </a:lnTo>
                  <a:lnTo>
                    <a:pt x="2413" y="1098"/>
                  </a:lnTo>
                  <a:lnTo>
                    <a:pt x="2504" y="1149"/>
                  </a:lnTo>
                  <a:lnTo>
                    <a:pt x="2593" y="1199"/>
                  </a:lnTo>
                  <a:lnTo>
                    <a:pt x="2681" y="1250"/>
                  </a:lnTo>
                  <a:lnTo>
                    <a:pt x="2769" y="1301"/>
                  </a:lnTo>
                  <a:lnTo>
                    <a:pt x="2854" y="1354"/>
                  </a:lnTo>
                  <a:lnTo>
                    <a:pt x="2940" y="1407"/>
                  </a:lnTo>
                  <a:lnTo>
                    <a:pt x="3024" y="1461"/>
                  </a:lnTo>
                  <a:lnTo>
                    <a:pt x="3108" y="1516"/>
                  </a:lnTo>
                  <a:lnTo>
                    <a:pt x="3191" y="1571"/>
                  </a:lnTo>
                  <a:lnTo>
                    <a:pt x="3272" y="1627"/>
                  </a:lnTo>
                  <a:lnTo>
                    <a:pt x="3353" y="1683"/>
                  </a:lnTo>
                  <a:lnTo>
                    <a:pt x="3433" y="1741"/>
                  </a:lnTo>
                  <a:lnTo>
                    <a:pt x="3510" y="1798"/>
                  </a:lnTo>
                  <a:lnTo>
                    <a:pt x="3587" y="1857"/>
                  </a:lnTo>
                  <a:lnTo>
                    <a:pt x="3665" y="1916"/>
                  </a:lnTo>
                  <a:lnTo>
                    <a:pt x="3740" y="1976"/>
                  </a:lnTo>
                  <a:lnTo>
                    <a:pt x="3814" y="2037"/>
                  </a:lnTo>
                  <a:lnTo>
                    <a:pt x="3887" y="2098"/>
                  </a:lnTo>
                  <a:lnTo>
                    <a:pt x="3959" y="2158"/>
                  </a:lnTo>
                  <a:lnTo>
                    <a:pt x="4030" y="2222"/>
                  </a:lnTo>
                  <a:lnTo>
                    <a:pt x="4100" y="2284"/>
                  </a:lnTo>
                  <a:lnTo>
                    <a:pt x="4169" y="2347"/>
                  </a:lnTo>
                  <a:lnTo>
                    <a:pt x="4236" y="2412"/>
                  </a:lnTo>
                  <a:lnTo>
                    <a:pt x="4303" y="2476"/>
                  </a:lnTo>
                  <a:lnTo>
                    <a:pt x="4369" y="2542"/>
                  </a:lnTo>
                  <a:lnTo>
                    <a:pt x="4432" y="2607"/>
                  </a:lnTo>
                  <a:lnTo>
                    <a:pt x="4495" y="2673"/>
                  </a:lnTo>
                  <a:lnTo>
                    <a:pt x="4558" y="2740"/>
                  </a:lnTo>
                  <a:lnTo>
                    <a:pt x="4619" y="2807"/>
                  </a:lnTo>
                  <a:lnTo>
                    <a:pt x="4677" y="2875"/>
                  </a:lnTo>
                  <a:lnTo>
                    <a:pt x="4736" y="2944"/>
                  </a:lnTo>
                  <a:lnTo>
                    <a:pt x="4793" y="3012"/>
                  </a:lnTo>
                  <a:lnTo>
                    <a:pt x="4849" y="3082"/>
                  </a:lnTo>
                  <a:lnTo>
                    <a:pt x="4904" y="3152"/>
                  </a:lnTo>
                  <a:lnTo>
                    <a:pt x="4957" y="3222"/>
                  </a:lnTo>
                  <a:lnTo>
                    <a:pt x="5009" y="3294"/>
                  </a:lnTo>
                  <a:lnTo>
                    <a:pt x="5060" y="3364"/>
                  </a:lnTo>
                  <a:lnTo>
                    <a:pt x="5109" y="3437"/>
                  </a:lnTo>
                  <a:lnTo>
                    <a:pt x="5158" y="3508"/>
                  </a:lnTo>
                  <a:lnTo>
                    <a:pt x="5204" y="3582"/>
                  </a:lnTo>
                  <a:lnTo>
                    <a:pt x="5332" y="3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143840" y="2923560"/>
              <a:ext cx="247320" cy="276480"/>
            </a:xfrm>
            <a:custGeom>
              <a:avLst/>
              <a:gdLst/>
              <a:ahLst/>
              <a:rect l="l" t="t" r="r" b="b"/>
              <a:pathLst>
                <a:path w="882" h="1025">
                  <a:moveTo>
                    <a:pt x="882" y="1025"/>
                  </a:moveTo>
                  <a:lnTo>
                    <a:pt x="778" y="0"/>
                  </a:lnTo>
                  <a:lnTo>
                    <a:pt x="0" y="494"/>
                  </a:lnTo>
                  <a:lnTo>
                    <a:pt x="882" y="1025"/>
                  </a:lnTo>
                  <a:lnTo>
                    <a:pt x="882"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0" name=""/>
          <p:cNvGrpSpPr/>
          <p:nvPr/>
        </p:nvGrpSpPr>
        <p:grpSpPr>
          <a:xfrm>
            <a:off x="1895400" y="2057400"/>
            <a:ext cx="1533240" cy="1123560"/>
            <a:chOff x="1895400" y="2057400"/>
            <a:chExt cx="1533240" cy="1123560"/>
          </a:xfrm>
        </p:grpSpPr>
        <p:sp>
          <p:nvSpPr>
            <p:cNvPr id="761" name=""/>
            <p:cNvSpPr/>
            <p:nvPr/>
          </p:nvSpPr>
          <p:spPr>
            <a:xfrm>
              <a:off x="1895400" y="2142000"/>
              <a:ext cx="1370160" cy="1038960"/>
            </a:xfrm>
            <a:custGeom>
              <a:avLst/>
              <a:gdLst/>
              <a:ahLst/>
              <a:rect l="l" t="t" r="r" b="b"/>
              <a:pathLst>
                <a:path w="5032" h="3494">
                  <a:moveTo>
                    <a:pt x="4990" y="0"/>
                  </a:moveTo>
                  <a:lnTo>
                    <a:pt x="4885" y="31"/>
                  </a:lnTo>
                  <a:lnTo>
                    <a:pt x="4782" y="64"/>
                  </a:lnTo>
                  <a:lnTo>
                    <a:pt x="4680" y="97"/>
                  </a:lnTo>
                  <a:lnTo>
                    <a:pt x="4578" y="131"/>
                  </a:lnTo>
                  <a:lnTo>
                    <a:pt x="4477" y="165"/>
                  </a:lnTo>
                  <a:lnTo>
                    <a:pt x="4376" y="200"/>
                  </a:lnTo>
                  <a:lnTo>
                    <a:pt x="4275" y="236"/>
                  </a:lnTo>
                  <a:lnTo>
                    <a:pt x="4177" y="274"/>
                  </a:lnTo>
                  <a:lnTo>
                    <a:pt x="4078" y="311"/>
                  </a:lnTo>
                  <a:lnTo>
                    <a:pt x="3980" y="350"/>
                  </a:lnTo>
                  <a:lnTo>
                    <a:pt x="3882" y="390"/>
                  </a:lnTo>
                  <a:lnTo>
                    <a:pt x="3786" y="430"/>
                  </a:lnTo>
                  <a:lnTo>
                    <a:pt x="3691" y="471"/>
                  </a:lnTo>
                  <a:lnTo>
                    <a:pt x="3596" y="512"/>
                  </a:lnTo>
                  <a:lnTo>
                    <a:pt x="3502" y="554"/>
                  </a:lnTo>
                  <a:lnTo>
                    <a:pt x="3408" y="597"/>
                  </a:lnTo>
                  <a:lnTo>
                    <a:pt x="3316" y="641"/>
                  </a:lnTo>
                  <a:lnTo>
                    <a:pt x="3224" y="685"/>
                  </a:lnTo>
                  <a:lnTo>
                    <a:pt x="3133" y="730"/>
                  </a:lnTo>
                  <a:lnTo>
                    <a:pt x="3042" y="777"/>
                  </a:lnTo>
                  <a:lnTo>
                    <a:pt x="2953" y="823"/>
                  </a:lnTo>
                  <a:lnTo>
                    <a:pt x="2865" y="871"/>
                  </a:lnTo>
                  <a:lnTo>
                    <a:pt x="2777" y="919"/>
                  </a:lnTo>
                  <a:lnTo>
                    <a:pt x="2690" y="967"/>
                  </a:lnTo>
                  <a:lnTo>
                    <a:pt x="2604" y="1016"/>
                  </a:lnTo>
                  <a:lnTo>
                    <a:pt x="2519" y="1067"/>
                  </a:lnTo>
                  <a:lnTo>
                    <a:pt x="2433" y="1117"/>
                  </a:lnTo>
                  <a:lnTo>
                    <a:pt x="2350" y="1169"/>
                  </a:lnTo>
                  <a:lnTo>
                    <a:pt x="2268" y="1221"/>
                  </a:lnTo>
                  <a:lnTo>
                    <a:pt x="2186" y="1273"/>
                  </a:lnTo>
                  <a:lnTo>
                    <a:pt x="2105" y="1327"/>
                  </a:lnTo>
                  <a:lnTo>
                    <a:pt x="2025" y="1381"/>
                  </a:lnTo>
                  <a:lnTo>
                    <a:pt x="1947" y="1436"/>
                  </a:lnTo>
                  <a:lnTo>
                    <a:pt x="1868" y="1491"/>
                  </a:lnTo>
                  <a:lnTo>
                    <a:pt x="1792" y="1546"/>
                  </a:lnTo>
                  <a:lnTo>
                    <a:pt x="1716" y="1604"/>
                  </a:lnTo>
                  <a:lnTo>
                    <a:pt x="1640" y="1660"/>
                  </a:lnTo>
                  <a:lnTo>
                    <a:pt x="1565" y="1717"/>
                  </a:lnTo>
                  <a:lnTo>
                    <a:pt x="1493" y="1776"/>
                  </a:lnTo>
                  <a:lnTo>
                    <a:pt x="1420" y="1835"/>
                  </a:lnTo>
                  <a:lnTo>
                    <a:pt x="1348" y="1895"/>
                  </a:lnTo>
                  <a:lnTo>
                    <a:pt x="1278" y="1954"/>
                  </a:lnTo>
                  <a:lnTo>
                    <a:pt x="1209" y="2015"/>
                  </a:lnTo>
                  <a:lnTo>
                    <a:pt x="1141" y="2076"/>
                  </a:lnTo>
                  <a:lnTo>
                    <a:pt x="1073" y="2139"/>
                  </a:lnTo>
                  <a:lnTo>
                    <a:pt x="1007" y="2201"/>
                  </a:lnTo>
                  <a:lnTo>
                    <a:pt x="941" y="2264"/>
                  </a:lnTo>
                  <a:lnTo>
                    <a:pt x="877" y="2327"/>
                  </a:lnTo>
                  <a:lnTo>
                    <a:pt x="815" y="2392"/>
                  </a:lnTo>
                  <a:lnTo>
                    <a:pt x="752" y="2456"/>
                  </a:lnTo>
                  <a:lnTo>
                    <a:pt x="691" y="2521"/>
                  </a:lnTo>
                  <a:lnTo>
                    <a:pt x="632" y="2587"/>
                  </a:lnTo>
                  <a:lnTo>
                    <a:pt x="573" y="2653"/>
                  </a:lnTo>
                  <a:lnTo>
                    <a:pt x="514" y="2719"/>
                  </a:lnTo>
                  <a:lnTo>
                    <a:pt x="458" y="2787"/>
                  </a:lnTo>
                  <a:lnTo>
                    <a:pt x="403" y="2855"/>
                  </a:lnTo>
                  <a:lnTo>
                    <a:pt x="348" y="2922"/>
                  </a:lnTo>
                  <a:lnTo>
                    <a:pt x="295" y="2991"/>
                  </a:lnTo>
                  <a:lnTo>
                    <a:pt x="243" y="3060"/>
                  </a:lnTo>
                  <a:lnTo>
                    <a:pt x="193" y="3130"/>
                  </a:lnTo>
                  <a:lnTo>
                    <a:pt x="142" y="3200"/>
                  </a:lnTo>
                  <a:lnTo>
                    <a:pt x="94" y="3270"/>
                  </a:lnTo>
                  <a:lnTo>
                    <a:pt x="46" y="3342"/>
                  </a:lnTo>
                  <a:lnTo>
                    <a:pt x="0" y="3413"/>
                  </a:lnTo>
                  <a:lnTo>
                    <a:pt x="127" y="3494"/>
                  </a:lnTo>
                  <a:lnTo>
                    <a:pt x="173" y="3424"/>
                  </a:lnTo>
                  <a:lnTo>
                    <a:pt x="219" y="3355"/>
                  </a:lnTo>
                  <a:lnTo>
                    <a:pt x="266" y="3286"/>
                  </a:lnTo>
                  <a:lnTo>
                    <a:pt x="314" y="3218"/>
                  </a:lnTo>
                  <a:lnTo>
                    <a:pt x="364" y="3150"/>
                  </a:lnTo>
                  <a:lnTo>
                    <a:pt x="415" y="3083"/>
                  </a:lnTo>
                  <a:lnTo>
                    <a:pt x="466" y="3016"/>
                  </a:lnTo>
                  <a:lnTo>
                    <a:pt x="520" y="2949"/>
                  </a:lnTo>
                  <a:lnTo>
                    <a:pt x="574" y="2883"/>
                  </a:lnTo>
                  <a:lnTo>
                    <a:pt x="629" y="2818"/>
                  </a:lnTo>
                  <a:lnTo>
                    <a:pt x="686" y="2752"/>
                  </a:lnTo>
                  <a:lnTo>
                    <a:pt x="743" y="2687"/>
                  </a:lnTo>
                  <a:lnTo>
                    <a:pt x="802" y="2623"/>
                  </a:lnTo>
                  <a:lnTo>
                    <a:pt x="861" y="2560"/>
                  </a:lnTo>
                  <a:lnTo>
                    <a:pt x="921" y="2496"/>
                  </a:lnTo>
                  <a:lnTo>
                    <a:pt x="983" y="2433"/>
                  </a:lnTo>
                  <a:lnTo>
                    <a:pt x="1047" y="2372"/>
                  </a:lnTo>
                  <a:lnTo>
                    <a:pt x="1110" y="2310"/>
                  </a:lnTo>
                  <a:lnTo>
                    <a:pt x="1176" y="2249"/>
                  </a:lnTo>
                  <a:lnTo>
                    <a:pt x="1242" y="2188"/>
                  </a:lnTo>
                  <a:lnTo>
                    <a:pt x="1308" y="2128"/>
                  </a:lnTo>
                  <a:lnTo>
                    <a:pt x="1376" y="2068"/>
                  </a:lnTo>
                  <a:lnTo>
                    <a:pt x="1446" y="2010"/>
                  </a:lnTo>
                  <a:lnTo>
                    <a:pt x="1515" y="1951"/>
                  </a:lnTo>
                  <a:lnTo>
                    <a:pt x="1586" y="1893"/>
                  </a:lnTo>
                  <a:lnTo>
                    <a:pt x="1658" y="1836"/>
                  </a:lnTo>
                  <a:lnTo>
                    <a:pt x="1731" y="1780"/>
                  </a:lnTo>
                  <a:lnTo>
                    <a:pt x="1805" y="1723"/>
                  </a:lnTo>
                  <a:lnTo>
                    <a:pt x="1880" y="1668"/>
                  </a:lnTo>
                  <a:lnTo>
                    <a:pt x="1956" y="1613"/>
                  </a:lnTo>
                  <a:lnTo>
                    <a:pt x="2032" y="1558"/>
                  </a:lnTo>
                  <a:lnTo>
                    <a:pt x="2110" y="1505"/>
                  </a:lnTo>
                  <a:lnTo>
                    <a:pt x="2189" y="1451"/>
                  </a:lnTo>
                  <a:lnTo>
                    <a:pt x="2268" y="1400"/>
                  </a:lnTo>
                  <a:lnTo>
                    <a:pt x="2349" y="1347"/>
                  </a:lnTo>
                  <a:lnTo>
                    <a:pt x="2430" y="1296"/>
                  </a:lnTo>
                  <a:lnTo>
                    <a:pt x="2512" y="1246"/>
                  </a:lnTo>
                  <a:lnTo>
                    <a:pt x="2595" y="1196"/>
                  </a:lnTo>
                  <a:lnTo>
                    <a:pt x="2679" y="1146"/>
                  </a:lnTo>
                  <a:lnTo>
                    <a:pt x="2764" y="1098"/>
                  </a:lnTo>
                  <a:lnTo>
                    <a:pt x="2850" y="1050"/>
                  </a:lnTo>
                  <a:lnTo>
                    <a:pt x="2936" y="1002"/>
                  </a:lnTo>
                  <a:lnTo>
                    <a:pt x="3024" y="956"/>
                  </a:lnTo>
                  <a:lnTo>
                    <a:pt x="3112" y="909"/>
                  </a:lnTo>
                  <a:lnTo>
                    <a:pt x="3201" y="865"/>
                  </a:lnTo>
                  <a:lnTo>
                    <a:pt x="3290" y="820"/>
                  </a:lnTo>
                  <a:lnTo>
                    <a:pt x="3380" y="776"/>
                  </a:lnTo>
                  <a:lnTo>
                    <a:pt x="3472" y="733"/>
                  </a:lnTo>
                  <a:lnTo>
                    <a:pt x="3564" y="691"/>
                  </a:lnTo>
                  <a:lnTo>
                    <a:pt x="3657" y="649"/>
                  </a:lnTo>
                  <a:lnTo>
                    <a:pt x="3751" y="608"/>
                  </a:lnTo>
                  <a:lnTo>
                    <a:pt x="3845" y="568"/>
                  </a:lnTo>
                  <a:lnTo>
                    <a:pt x="3940" y="528"/>
                  </a:lnTo>
                  <a:lnTo>
                    <a:pt x="4036" y="489"/>
                  </a:lnTo>
                  <a:lnTo>
                    <a:pt x="4132" y="452"/>
                  </a:lnTo>
                  <a:lnTo>
                    <a:pt x="4230" y="414"/>
                  </a:lnTo>
                  <a:lnTo>
                    <a:pt x="4328" y="378"/>
                  </a:lnTo>
                  <a:lnTo>
                    <a:pt x="4427" y="342"/>
                  </a:lnTo>
                  <a:lnTo>
                    <a:pt x="4525" y="306"/>
                  </a:lnTo>
                  <a:lnTo>
                    <a:pt x="4626" y="272"/>
                  </a:lnTo>
                  <a:lnTo>
                    <a:pt x="4726" y="240"/>
                  </a:lnTo>
                  <a:lnTo>
                    <a:pt x="4828" y="207"/>
                  </a:lnTo>
                  <a:lnTo>
                    <a:pt x="4930" y="175"/>
                  </a:lnTo>
                  <a:lnTo>
                    <a:pt x="5032" y="143"/>
                  </a:lnTo>
                  <a:lnTo>
                    <a:pt x="4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212640" y="2057400"/>
              <a:ext cx="216000" cy="224280"/>
            </a:xfrm>
            <a:custGeom>
              <a:avLst/>
              <a:gdLst/>
              <a:ahLst/>
              <a:rect l="l" t="t" r="r" b="b"/>
              <a:pathLst>
                <a:path w="796" h="753">
                  <a:moveTo>
                    <a:pt x="0" y="0"/>
                  </a:moveTo>
                  <a:lnTo>
                    <a:pt x="796" y="174"/>
                  </a:lnTo>
                  <a:lnTo>
                    <a:pt x="224" y="753"/>
                  </a:lnTo>
                  <a:lnTo>
                    <a:pt x="0" y="0"/>
                  </a:lnTo>
                  <a:lnTo>
                    <a:pt x="796" y="1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3" name=""/>
          <p:cNvGrpSpPr/>
          <p:nvPr/>
        </p:nvGrpSpPr>
        <p:grpSpPr>
          <a:xfrm>
            <a:off x="1752480" y="4572000"/>
            <a:ext cx="1741320" cy="1320480"/>
            <a:chOff x="1752480" y="4572000"/>
            <a:chExt cx="1741320" cy="1320480"/>
          </a:xfrm>
        </p:grpSpPr>
        <p:sp>
          <p:nvSpPr>
            <p:cNvPr id="764" name=""/>
            <p:cNvSpPr/>
            <p:nvPr/>
          </p:nvSpPr>
          <p:spPr>
            <a:xfrm>
              <a:off x="1834920" y="4726440"/>
              <a:ext cx="1658880" cy="1166040"/>
            </a:xfrm>
            <a:custGeom>
              <a:avLst/>
              <a:gdLst/>
              <a:ahLst/>
              <a:rect l="l" t="t" r="r" b="b"/>
              <a:pathLst>
                <a:path w="5500" h="4384">
                  <a:moveTo>
                    <a:pt x="0" y="54"/>
                  </a:moveTo>
                  <a:lnTo>
                    <a:pt x="37" y="146"/>
                  </a:lnTo>
                  <a:lnTo>
                    <a:pt x="75" y="236"/>
                  </a:lnTo>
                  <a:lnTo>
                    <a:pt x="115" y="326"/>
                  </a:lnTo>
                  <a:lnTo>
                    <a:pt x="158" y="416"/>
                  </a:lnTo>
                  <a:lnTo>
                    <a:pt x="202" y="504"/>
                  </a:lnTo>
                  <a:lnTo>
                    <a:pt x="248" y="594"/>
                  </a:lnTo>
                  <a:lnTo>
                    <a:pt x="295" y="682"/>
                  </a:lnTo>
                  <a:lnTo>
                    <a:pt x="344" y="768"/>
                  </a:lnTo>
                  <a:lnTo>
                    <a:pt x="396" y="855"/>
                  </a:lnTo>
                  <a:lnTo>
                    <a:pt x="448" y="941"/>
                  </a:lnTo>
                  <a:lnTo>
                    <a:pt x="502" y="1026"/>
                  </a:lnTo>
                  <a:lnTo>
                    <a:pt x="559" y="1112"/>
                  </a:lnTo>
                  <a:lnTo>
                    <a:pt x="617" y="1195"/>
                  </a:lnTo>
                  <a:lnTo>
                    <a:pt x="677" y="1279"/>
                  </a:lnTo>
                  <a:lnTo>
                    <a:pt x="738" y="1362"/>
                  </a:lnTo>
                  <a:lnTo>
                    <a:pt x="802" y="1444"/>
                  </a:lnTo>
                  <a:lnTo>
                    <a:pt x="866" y="1525"/>
                  </a:lnTo>
                  <a:lnTo>
                    <a:pt x="932" y="1606"/>
                  </a:lnTo>
                  <a:lnTo>
                    <a:pt x="1000" y="1687"/>
                  </a:lnTo>
                  <a:lnTo>
                    <a:pt x="1069" y="1765"/>
                  </a:lnTo>
                  <a:lnTo>
                    <a:pt x="1141" y="1844"/>
                  </a:lnTo>
                  <a:lnTo>
                    <a:pt x="1212" y="1921"/>
                  </a:lnTo>
                  <a:lnTo>
                    <a:pt x="1286" y="1999"/>
                  </a:lnTo>
                  <a:lnTo>
                    <a:pt x="1362" y="2075"/>
                  </a:lnTo>
                  <a:lnTo>
                    <a:pt x="1440" y="2150"/>
                  </a:lnTo>
                  <a:lnTo>
                    <a:pt x="1517" y="2225"/>
                  </a:lnTo>
                  <a:lnTo>
                    <a:pt x="1598" y="2299"/>
                  </a:lnTo>
                  <a:lnTo>
                    <a:pt x="1679" y="2372"/>
                  </a:lnTo>
                  <a:lnTo>
                    <a:pt x="1762" y="2444"/>
                  </a:lnTo>
                  <a:lnTo>
                    <a:pt x="1847" y="2516"/>
                  </a:lnTo>
                  <a:lnTo>
                    <a:pt x="1932" y="2586"/>
                  </a:lnTo>
                  <a:lnTo>
                    <a:pt x="2019" y="2655"/>
                  </a:lnTo>
                  <a:lnTo>
                    <a:pt x="2108" y="2725"/>
                  </a:lnTo>
                  <a:lnTo>
                    <a:pt x="2198" y="2793"/>
                  </a:lnTo>
                  <a:lnTo>
                    <a:pt x="2289" y="2861"/>
                  </a:lnTo>
                  <a:lnTo>
                    <a:pt x="2382" y="2926"/>
                  </a:lnTo>
                  <a:lnTo>
                    <a:pt x="2476" y="2992"/>
                  </a:lnTo>
                  <a:lnTo>
                    <a:pt x="2571" y="3057"/>
                  </a:lnTo>
                  <a:lnTo>
                    <a:pt x="2668" y="3120"/>
                  </a:lnTo>
                  <a:lnTo>
                    <a:pt x="2765" y="3183"/>
                  </a:lnTo>
                  <a:lnTo>
                    <a:pt x="2864" y="3244"/>
                  </a:lnTo>
                  <a:lnTo>
                    <a:pt x="2965" y="3305"/>
                  </a:lnTo>
                  <a:lnTo>
                    <a:pt x="3067" y="3365"/>
                  </a:lnTo>
                  <a:lnTo>
                    <a:pt x="3169" y="3424"/>
                  </a:lnTo>
                  <a:lnTo>
                    <a:pt x="3273" y="3482"/>
                  </a:lnTo>
                  <a:lnTo>
                    <a:pt x="3379" y="3539"/>
                  </a:lnTo>
                  <a:lnTo>
                    <a:pt x="3485" y="3595"/>
                  </a:lnTo>
                  <a:lnTo>
                    <a:pt x="3592" y="3650"/>
                  </a:lnTo>
                  <a:lnTo>
                    <a:pt x="3702" y="3704"/>
                  </a:lnTo>
                  <a:lnTo>
                    <a:pt x="3811" y="3757"/>
                  </a:lnTo>
                  <a:lnTo>
                    <a:pt x="3922" y="3808"/>
                  </a:lnTo>
                  <a:lnTo>
                    <a:pt x="4034" y="3859"/>
                  </a:lnTo>
                  <a:lnTo>
                    <a:pt x="4147" y="3909"/>
                  </a:lnTo>
                  <a:lnTo>
                    <a:pt x="4261" y="3957"/>
                  </a:lnTo>
                  <a:lnTo>
                    <a:pt x="4376" y="4005"/>
                  </a:lnTo>
                  <a:lnTo>
                    <a:pt x="4492" y="4052"/>
                  </a:lnTo>
                  <a:lnTo>
                    <a:pt x="4610" y="4097"/>
                  </a:lnTo>
                  <a:lnTo>
                    <a:pt x="4728" y="4142"/>
                  </a:lnTo>
                  <a:lnTo>
                    <a:pt x="4848" y="4185"/>
                  </a:lnTo>
                  <a:lnTo>
                    <a:pt x="4967" y="4227"/>
                  </a:lnTo>
                  <a:lnTo>
                    <a:pt x="5088" y="4268"/>
                  </a:lnTo>
                  <a:lnTo>
                    <a:pt x="5210" y="4308"/>
                  </a:lnTo>
                  <a:lnTo>
                    <a:pt x="5333" y="4347"/>
                  </a:lnTo>
                  <a:lnTo>
                    <a:pt x="5458" y="4384"/>
                  </a:lnTo>
                  <a:lnTo>
                    <a:pt x="5500" y="4240"/>
                  </a:lnTo>
                  <a:lnTo>
                    <a:pt x="5378" y="4204"/>
                  </a:lnTo>
                  <a:lnTo>
                    <a:pt x="5256" y="4165"/>
                  </a:lnTo>
                  <a:lnTo>
                    <a:pt x="5135" y="4125"/>
                  </a:lnTo>
                  <a:lnTo>
                    <a:pt x="5017" y="4085"/>
                  </a:lnTo>
                  <a:lnTo>
                    <a:pt x="4897" y="4043"/>
                  </a:lnTo>
                  <a:lnTo>
                    <a:pt x="4780" y="4001"/>
                  </a:lnTo>
                  <a:lnTo>
                    <a:pt x="4664" y="3957"/>
                  </a:lnTo>
                  <a:lnTo>
                    <a:pt x="4547" y="3912"/>
                  </a:lnTo>
                  <a:lnTo>
                    <a:pt x="4432" y="3866"/>
                  </a:lnTo>
                  <a:lnTo>
                    <a:pt x="4319" y="3819"/>
                  </a:lnTo>
                  <a:lnTo>
                    <a:pt x="4206" y="3771"/>
                  </a:lnTo>
                  <a:lnTo>
                    <a:pt x="4095" y="3722"/>
                  </a:lnTo>
                  <a:lnTo>
                    <a:pt x="3984" y="3672"/>
                  </a:lnTo>
                  <a:lnTo>
                    <a:pt x="3875" y="3621"/>
                  </a:lnTo>
                  <a:lnTo>
                    <a:pt x="3767" y="3569"/>
                  </a:lnTo>
                  <a:lnTo>
                    <a:pt x="3660" y="3515"/>
                  </a:lnTo>
                  <a:lnTo>
                    <a:pt x="3554" y="3461"/>
                  </a:lnTo>
                  <a:lnTo>
                    <a:pt x="3449" y="3406"/>
                  </a:lnTo>
                  <a:lnTo>
                    <a:pt x="3346" y="3350"/>
                  </a:lnTo>
                  <a:lnTo>
                    <a:pt x="3243" y="3294"/>
                  </a:lnTo>
                  <a:lnTo>
                    <a:pt x="3142" y="3235"/>
                  </a:lnTo>
                  <a:lnTo>
                    <a:pt x="3042" y="3176"/>
                  </a:lnTo>
                  <a:lnTo>
                    <a:pt x="2944" y="3116"/>
                  </a:lnTo>
                  <a:lnTo>
                    <a:pt x="2845" y="3055"/>
                  </a:lnTo>
                  <a:lnTo>
                    <a:pt x="2749" y="2994"/>
                  </a:lnTo>
                  <a:lnTo>
                    <a:pt x="2655" y="2931"/>
                  </a:lnTo>
                  <a:lnTo>
                    <a:pt x="2561" y="2868"/>
                  </a:lnTo>
                  <a:lnTo>
                    <a:pt x="2469" y="2803"/>
                  </a:lnTo>
                  <a:lnTo>
                    <a:pt x="2377" y="2739"/>
                  </a:lnTo>
                  <a:lnTo>
                    <a:pt x="2288" y="2673"/>
                  </a:lnTo>
                  <a:lnTo>
                    <a:pt x="2200" y="2606"/>
                  </a:lnTo>
                  <a:lnTo>
                    <a:pt x="2113" y="2538"/>
                  </a:lnTo>
                  <a:lnTo>
                    <a:pt x="2027" y="2470"/>
                  </a:lnTo>
                  <a:lnTo>
                    <a:pt x="1943" y="2400"/>
                  </a:lnTo>
                  <a:lnTo>
                    <a:pt x="1860" y="2331"/>
                  </a:lnTo>
                  <a:lnTo>
                    <a:pt x="1779" y="2259"/>
                  </a:lnTo>
                  <a:lnTo>
                    <a:pt x="1699" y="2188"/>
                  </a:lnTo>
                  <a:lnTo>
                    <a:pt x="1620" y="2116"/>
                  </a:lnTo>
                  <a:lnTo>
                    <a:pt x="1543" y="2042"/>
                  </a:lnTo>
                  <a:lnTo>
                    <a:pt x="1468" y="1968"/>
                  </a:lnTo>
                  <a:lnTo>
                    <a:pt x="1394" y="1894"/>
                  </a:lnTo>
                  <a:lnTo>
                    <a:pt x="1321" y="1818"/>
                  </a:lnTo>
                  <a:lnTo>
                    <a:pt x="1251" y="1742"/>
                  </a:lnTo>
                  <a:lnTo>
                    <a:pt x="1182" y="1666"/>
                  </a:lnTo>
                  <a:lnTo>
                    <a:pt x="1114" y="1588"/>
                  </a:lnTo>
                  <a:lnTo>
                    <a:pt x="1047" y="1510"/>
                  </a:lnTo>
                  <a:lnTo>
                    <a:pt x="982" y="1431"/>
                  </a:lnTo>
                  <a:lnTo>
                    <a:pt x="920" y="1351"/>
                  </a:lnTo>
                  <a:lnTo>
                    <a:pt x="858" y="1271"/>
                  </a:lnTo>
                  <a:lnTo>
                    <a:pt x="798" y="1191"/>
                  </a:lnTo>
                  <a:lnTo>
                    <a:pt x="741" y="1110"/>
                  </a:lnTo>
                  <a:lnTo>
                    <a:pt x="684" y="1028"/>
                  </a:lnTo>
                  <a:lnTo>
                    <a:pt x="629" y="945"/>
                  </a:lnTo>
                  <a:lnTo>
                    <a:pt x="575" y="862"/>
                  </a:lnTo>
                  <a:lnTo>
                    <a:pt x="525" y="778"/>
                  </a:lnTo>
                  <a:lnTo>
                    <a:pt x="474" y="693"/>
                  </a:lnTo>
                  <a:lnTo>
                    <a:pt x="427" y="609"/>
                  </a:lnTo>
                  <a:lnTo>
                    <a:pt x="380" y="523"/>
                  </a:lnTo>
                  <a:lnTo>
                    <a:pt x="336" y="438"/>
                  </a:lnTo>
                  <a:lnTo>
                    <a:pt x="294" y="351"/>
                  </a:lnTo>
                  <a:lnTo>
                    <a:pt x="253" y="264"/>
                  </a:lnTo>
                  <a:lnTo>
                    <a:pt x="213" y="176"/>
                  </a:lnTo>
                  <a:lnTo>
                    <a:pt x="176" y="88"/>
                  </a:lnTo>
                  <a:lnTo>
                    <a:pt x="140"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752480" y="4572000"/>
              <a:ext cx="219600" cy="214200"/>
            </a:xfrm>
            <a:custGeom>
              <a:avLst/>
              <a:gdLst/>
              <a:ahLst/>
              <a:rect l="l" t="t" r="r" b="b"/>
              <a:pathLst>
                <a:path w="732" h="806">
                  <a:moveTo>
                    <a:pt x="0" y="806"/>
                  </a:moveTo>
                  <a:lnTo>
                    <a:pt x="107" y="0"/>
                  </a:lnTo>
                  <a:lnTo>
                    <a:pt x="732" y="521"/>
                  </a:lnTo>
                  <a:lnTo>
                    <a:pt x="0" y="806"/>
                  </a:lnTo>
                  <a:lnTo>
                    <a:pt x="107" y="0"/>
                  </a:lnTo>
                  <a:lnTo>
                    <a:pt x="0"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6" name=""/>
          <p:cNvGrpSpPr/>
          <p:nvPr/>
        </p:nvGrpSpPr>
        <p:grpSpPr>
          <a:xfrm>
            <a:off x="5791320" y="4502160"/>
            <a:ext cx="1828440" cy="1517400"/>
            <a:chOff x="5791320" y="4502160"/>
            <a:chExt cx="1828440" cy="1517400"/>
          </a:xfrm>
        </p:grpSpPr>
        <p:sp>
          <p:nvSpPr>
            <p:cNvPr id="767" name=""/>
            <p:cNvSpPr/>
            <p:nvPr/>
          </p:nvSpPr>
          <p:spPr>
            <a:xfrm>
              <a:off x="5965200" y="4502160"/>
              <a:ext cx="1654560" cy="1424880"/>
            </a:xfrm>
            <a:custGeom>
              <a:avLst/>
              <a:gdLst/>
              <a:ahLst/>
              <a:rect l="l" t="t" r="r" b="b"/>
              <a:pathLst>
                <a:path w="5800" h="4471">
                  <a:moveTo>
                    <a:pt x="40" y="4471"/>
                  </a:moveTo>
                  <a:lnTo>
                    <a:pt x="170" y="4435"/>
                  </a:lnTo>
                  <a:lnTo>
                    <a:pt x="300" y="4397"/>
                  </a:lnTo>
                  <a:lnTo>
                    <a:pt x="429" y="4359"/>
                  </a:lnTo>
                  <a:lnTo>
                    <a:pt x="557" y="4320"/>
                  </a:lnTo>
                  <a:lnTo>
                    <a:pt x="684" y="4279"/>
                  </a:lnTo>
                  <a:lnTo>
                    <a:pt x="810" y="4237"/>
                  </a:lnTo>
                  <a:lnTo>
                    <a:pt x="935" y="4193"/>
                  </a:lnTo>
                  <a:lnTo>
                    <a:pt x="1059" y="4147"/>
                  </a:lnTo>
                  <a:lnTo>
                    <a:pt x="1181" y="4102"/>
                  </a:lnTo>
                  <a:lnTo>
                    <a:pt x="1303" y="4055"/>
                  </a:lnTo>
                  <a:lnTo>
                    <a:pt x="1424" y="4007"/>
                  </a:lnTo>
                  <a:lnTo>
                    <a:pt x="1544" y="3957"/>
                  </a:lnTo>
                  <a:lnTo>
                    <a:pt x="1662" y="3906"/>
                  </a:lnTo>
                  <a:lnTo>
                    <a:pt x="1779" y="3854"/>
                  </a:lnTo>
                  <a:lnTo>
                    <a:pt x="1895" y="3801"/>
                  </a:lnTo>
                  <a:lnTo>
                    <a:pt x="2010" y="3747"/>
                  </a:lnTo>
                  <a:lnTo>
                    <a:pt x="2123" y="3692"/>
                  </a:lnTo>
                  <a:lnTo>
                    <a:pt x="2236" y="3636"/>
                  </a:lnTo>
                  <a:lnTo>
                    <a:pt x="2347" y="3579"/>
                  </a:lnTo>
                  <a:lnTo>
                    <a:pt x="2458" y="3521"/>
                  </a:lnTo>
                  <a:lnTo>
                    <a:pt x="2566" y="3461"/>
                  </a:lnTo>
                  <a:lnTo>
                    <a:pt x="2674" y="3400"/>
                  </a:lnTo>
                  <a:lnTo>
                    <a:pt x="2779" y="3339"/>
                  </a:lnTo>
                  <a:lnTo>
                    <a:pt x="2885" y="3276"/>
                  </a:lnTo>
                  <a:lnTo>
                    <a:pt x="2988" y="3213"/>
                  </a:lnTo>
                  <a:lnTo>
                    <a:pt x="3090" y="3148"/>
                  </a:lnTo>
                  <a:lnTo>
                    <a:pt x="3191" y="3082"/>
                  </a:lnTo>
                  <a:lnTo>
                    <a:pt x="3290" y="3016"/>
                  </a:lnTo>
                  <a:lnTo>
                    <a:pt x="3388" y="2949"/>
                  </a:lnTo>
                  <a:lnTo>
                    <a:pt x="3484" y="2880"/>
                  </a:lnTo>
                  <a:lnTo>
                    <a:pt x="3579" y="2810"/>
                  </a:lnTo>
                  <a:lnTo>
                    <a:pt x="3673" y="2740"/>
                  </a:lnTo>
                  <a:lnTo>
                    <a:pt x="3766" y="2668"/>
                  </a:lnTo>
                  <a:lnTo>
                    <a:pt x="3856" y="2597"/>
                  </a:lnTo>
                  <a:lnTo>
                    <a:pt x="3945" y="2523"/>
                  </a:lnTo>
                  <a:lnTo>
                    <a:pt x="4033" y="2449"/>
                  </a:lnTo>
                  <a:lnTo>
                    <a:pt x="4119" y="2374"/>
                  </a:lnTo>
                  <a:lnTo>
                    <a:pt x="4203" y="2298"/>
                  </a:lnTo>
                  <a:lnTo>
                    <a:pt x="4287" y="2222"/>
                  </a:lnTo>
                  <a:lnTo>
                    <a:pt x="4369" y="2144"/>
                  </a:lnTo>
                  <a:lnTo>
                    <a:pt x="4447" y="2066"/>
                  </a:lnTo>
                  <a:lnTo>
                    <a:pt x="4526" y="1986"/>
                  </a:lnTo>
                  <a:lnTo>
                    <a:pt x="4602" y="1906"/>
                  </a:lnTo>
                  <a:lnTo>
                    <a:pt x="4677" y="1825"/>
                  </a:lnTo>
                  <a:lnTo>
                    <a:pt x="4751" y="1744"/>
                  </a:lnTo>
                  <a:lnTo>
                    <a:pt x="4822" y="1661"/>
                  </a:lnTo>
                  <a:lnTo>
                    <a:pt x="4892" y="1578"/>
                  </a:lnTo>
                  <a:lnTo>
                    <a:pt x="4960" y="1493"/>
                  </a:lnTo>
                  <a:lnTo>
                    <a:pt x="5027" y="1409"/>
                  </a:lnTo>
                  <a:lnTo>
                    <a:pt x="5091" y="1323"/>
                  </a:lnTo>
                  <a:lnTo>
                    <a:pt x="5154" y="1237"/>
                  </a:lnTo>
                  <a:lnTo>
                    <a:pt x="5215" y="1151"/>
                  </a:lnTo>
                  <a:lnTo>
                    <a:pt x="5274" y="1063"/>
                  </a:lnTo>
                  <a:lnTo>
                    <a:pt x="5332" y="974"/>
                  </a:lnTo>
                  <a:lnTo>
                    <a:pt x="5387" y="884"/>
                  </a:lnTo>
                  <a:lnTo>
                    <a:pt x="5441" y="795"/>
                  </a:lnTo>
                  <a:lnTo>
                    <a:pt x="5493" y="705"/>
                  </a:lnTo>
                  <a:lnTo>
                    <a:pt x="5542" y="614"/>
                  </a:lnTo>
                  <a:lnTo>
                    <a:pt x="5590" y="522"/>
                  </a:lnTo>
                  <a:lnTo>
                    <a:pt x="5636" y="429"/>
                  </a:lnTo>
                  <a:lnTo>
                    <a:pt x="5680" y="337"/>
                  </a:lnTo>
                  <a:lnTo>
                    <a:pt x="5721" y="243"/>
                  </a:lnTo>
                  <a:lnTo>
                    <a:pt x="5762" y="149"/>
                  </a:lnTo>
                  <a:lnTo>
                    <a:pt x="5800" y="54"/>
                  </a:lnTo>
                  <a:lnTo>
                    <a:pt x="5660" y="0"/>
                  </a:lnTo>
                  <a:lnTo>
                    <a:pt x="5623" y="92"/>
                  </a:lnTo>
                  <a:lnTo>
                    <a:pt x="5584" y="183"/>
                  </a:lnTo>
                  <a:lnTo>
                    <a:pt x="5543" y="273"/>
                  </a:lnTo>
                  <a:lnTo>
                    <a:pt x="5501" y="364"/>
                  </a:lnTo>
                  <a:lnTo>
                    <a:pt x="5456" y="454"/>
                  </a:lnTo>
                  <a:lnTo>
                    <a:pt x="5409" y="543"/>
                  </a:lnTo>
                  <a:lnTo>
                    <a:pt x="5361" y="631"/>
                  </a:lnTo>
                  <a:lnTo>
                    <a:pt x="5311" y="719"/>
                  </a:lnTo>
                  <a:lnTo>
                    <a:pt x="5258" y="807"/>
                  </a:lnTo>
                  <a:lnTo>
                    <a:pt x="5204" y="894"/>
                  </a:lnTo>
                  <a:lnTo>
                    <a:pt x="5149" y="979"/>
                  </a:lnTo>
                  <a:lnTo>
                    <a:pt x="5091" y="1065"/>
                  </a:lnTo>
                  <a:lnTo>
                    <a:pt x="5032" y="1150"/>
                  </a:lnTo>
                  <a:lnTo>
                    <a:pt x="4971" y="1234"/>
                  </a:lnTo>
                  <a:lnTo>
                    <a:pt x="4907" y="1317"/>
                  </a:lnTo>
                  <a:lnTo>
                    <a:pt x="4843" y="1401"/>
                  </a:lnTo>
                  <a:lnTo>
                    <a:pt x="4776" y="1483"/>
                  </a:lnTo>
                  <a:lnTo>
                    <a:pt x="4708" y="1564"/>
                  </a:lnTo>
                  <a:lnTo>
                    <a:pt x="4637" y="1644"/>
                  </a:lnTo>
                  <a:lnTo>
                    <a:pt x="4566" y="1724"/>
                  </a:lnTo>
                  <a:lnTo>
                    <a:pt x="4493" y="1803"/>
                  </a:lnTo>
                  <a:lnTo>
                    <a:pt x="4418" y="1881"/>
                  </a:lnTo>
                  <a:lnTo>
                    <a:pt x="4342" y="1959"/>
                  </a:lnTo>
                  <a:lnTo>
                    <a:pt x="4263" y="2036"/>
                  </a:lnTo>
                  <a:lnTo>
                    <a:pt x="4183" y="2112"/>
                  </a:lnTo>
                  <a:lnTo>
                    <a:pt x="4102" y="2188"/>
                  </a:lnTo>
                  <a:lnTo>
                    <a:pt x="4019" y="2261"/>
                  </a:lnTo>
                  <a:lnTo>
                    <a:pt x="3935" y="2335"/>
                  </a:lnTo>
                  <a:lnTo>
                    <a:pt x="3849" y="2408"/>
                  </a:lnTo>
                  <a:lnTo>
                    <a:pt x="3761" y="2480"/>
                  </a:lnTo>
                  <a:lnTo>
                    <a:pt x="3672" y="2551"/>
                  </a:lnTo>
                  <a:lnTo>
                    <a:pt x="3582" y="2620"/>
                  </a:lnTo>
                  <a:lnTo>
                    <a:pt x="3490" y="2690"/>
                  </a:lnTo>
                  <a:lnTo>
                    <a:pt x="3396" y="2759"/>
                  </a:lnTo>
                  <a:lnTo>
                    <a:pt x="3302" y="2826"/>
                  </a:lnTo>
                  <a:lnTo>
                    <a:pt x="3206" y="2892"/>
                  </a:lnTo>
                  <a:lnTo>
                    <a:pt x="3108" y="2957"/>
                  </a:lnTo>
                  <a:lnTo>
                    <a:pt x="3009" y="3021"/>
                  </a:lnTo>
                  <a:lnTo>
                    <a:pt x="2908" y="3086"/>
                  </a:lnTo>
                  <a:lnTo>
                    <a:pt x="2806" y="3148"/>
                  </a:lnTo>
                  <a:lnTo>
                    <a:pt x="2703" y="3210"/>
                  </a:lnTo>
                  <a:lnTo>
                    <a:pt x="2599" y="3270"/>
                  </a:lnTo>
                  <a:lnTo>
                    <a:pt x="2493" y="3330"/>
                  </a:lnTo>
                  <a:lnTo>
                    <a:pt x="2386" y="3389"/>
                  </a:lnTo>
                  <a:lnTo>
                    <a:pt x="2278" y="3446"/>
                  </a:lnTo>
                  <a:lnTo>
                    <a:pt x="2168" y="3502"/>
                  </a:lnTo>
                  <a:lnTo>
                    <a:pt x="2058" y="3557"/>
                  </a:lnTo>
                  <a:lnTo>
                    <a:pt x="1945" y="3611"/>
                  </a:lnTo>
                  <a:lnTo>
                    <a:pt x="1832" y="3665"/>
                  </a:lnTo>
                  <a:lnTo>
                    <a:pt x="1718" y="3717"/>
                  </a:lnTo>
                  <a:lnTo>
                    <a:pt x="1603" y="3769"/>
                  </a:lnTo>
                  <a:lnTo>
                    <a:pt x="1485" y="3819"/>
                  </a:lnTo>
                  <a:lnTo>
                    <a:pt x="1368" y="3867"/>
                  </a:lnTo>
                  <a:lnTo>
                    <a:pt x="1248" y="3915"/>
                  </a:lnTo>
                  <a:lnTo>
                    <a:pt x="1129" y="3961"/>
                  </a:lnTo>
                  <a:lnTo>
                    <a:pt x="1007" y="4007"/>
                  </a:lnTo>
                  <a:lnTo>
                    <a:pt x="885" y="4051"/>
                  </a:lnTo>
                  <a:lnTo>
                    <a:pt x="761" y="4093"/>
                  </a:lnTo>
                  <a:lnTo>
                    <a:pt x="637" y="4136"/>
                  </a:lnTo>
                  <a:lnTo>
                    <a:pt x="512" y="4176"/>
                  </a:lnTo>
                  <a:lnTo>
                    <a:pt x="386" y="4215"/>
                  </a:lnTo>
                  <a:lnTo>
                    <a:pt x="258" y="4253"/>
                  </a:lnTo>
                  <a:lnTo>
                    <a:pt x="130" y="4291"/>
                  </a:lnTo>
                  <a:lnTo>
                    <a:pt x="0" y="4326"/>
                  </a:lnTo>
                  <a:lnTo>
                    <a:pt x="40" y="4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791320" y="5777640"/>
              <a:ext cx="225360" cy="241920"/>
            </a:xfrm>
            <a:custGeom>
              <a:avLst/>
              <a:gdLst/>
              <a:ahLst/>
              <a:rect l="l" t="t" r="r" b="b"/>
              <a:pathLst>
                <a:path w="792" h="759">
                  <a:moveTo>
                    <a:pt x="792" y="759"/>
                  </a:moveTo>
                  <a:lnTo>
                    <a:pt x="0" y="565"/>
                  </a:lnTo>
                  <a:lnTo>
                    <a:pt x="588" y="0"/>
                  </a:lnTo>
                  <a:lnTo>
                    <a:pt x="792" y="759"/>
                  </a:lnTo>
                  <a:lnTo>
                    <a:pt x="0" y="565"/>
                  </a:lnTo>
                  <a:lnTo>
                    <a:pt x="792"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
          <p:cNvSpPr/>
          <p:nvPr/>
        </p:nvSpPr>
        <p:spPr>
          <a:xfrm>
            <a:off x="4602240" y="4516560"/>
            <a:ext cx="47520" cy="209520"/>
          </a:xfrm>
          <a:custGeom>
            <a:avLst/>
            <a:gdLst/>
            <a:ahLst/>
            <a:rect l="l" t="t" r="r" b="b"/>
            <a:pathLst>
              <a:path w="151" h="660">
                <a:moveTo>
                  <a:pt x="75" y="660"/>
                </a:moveTo>
                <a:lnTo>
                  <a:pt x="151" y="660"/>
                </a:lnTo>
                <a:lnTo>
                  <a:pt x="151" y="0"/>
                </a:lnTo>
                <a:lnTo>
                  <a:pt x="0" y="0"/>
                </a:lnTo>
                <a:lnTo>
                  <a:pt x="0" y="660"/>
                </a:lnTo>
                <a:lnTo>
                  <a:pt x="75" y="6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500720" y="4707000"/>
            <a:ext cx="249120" cy="226800"/>
          </a:xfrm>
          <a:custGeom>
            <a:avLst/>
            <a:gdLst/>
            <a:ahLst/>
            <a:rect l="l" t="t" r="r" b="b"/>
            <a:pathLst>
              <a:path w="787" h="717">
                <a:moveTo>
                  <a:pt x="787" y="0"/>
                </a:moveTo>
                <a:lnTo>
                  <a:pt x="393" y="717"/>
                </a:lnTo>
                <a:lnTo>
                  <a:pt x="0" y="0"/>
                </a:lnTo>
                <a:lnTo>
                  <a:pt x="787" y="0"/>
                </a:lnTo>
                <a:lnTo>
                  <a:pt x="393" y="717"/>
                </a:lnTo>
                <a:lnTo>
                  <a:pt x="7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500720" y="2771640"/>
            <a:ext cx="249120" cy="228600"/>
          </a:xfrm>
          <a:custGeom>
            <a:avLst/>
            <a:gdLst/>
            <a:ahLst/>
            <a:rect l="l" t="t" r="r" b="b"/>
            <a:pathLst>
              <a:path w="787" h="716">
                <a:moveTo>
                  <a:pt x="787" y="716"/>
                </a:moveTo>
                <a:lnTo>
                  <a:pt x="393" y="0"/>
                </a:lnTo>
                <a:lnTo>
                  <a:pt x="0" y="716"/>
                </a:lnTo>
                <a:lnTo>
                  <a:pt x="787" y="716"/>
                </a:lnTo>
                <a:lnTo>
                  <a:pt x="393" y="0"/>
                </a:lnTo>
                <a:lnTo>
                  <a:pt x="787" y="7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602240" y="2979720"/>
            <a:ext cx="47520" cy="150840"/>
          </a:xfrm>
          <a:custGeom>
            <a:avLst/>
            <a:gdLst/>
            <a:ahLst/>
            <a:rect l="l" t="t" r="r" b="b"/>
            <a:pathLst>
              <a:path w="151" h="476">
                <a:moveTo>
                  <a:pt x="75" y="476"/>
                </a:moveTo>
                <a:lnTo>
                  <a:pt x="151" y="476"/>
                </a:lnTo>
                <a:lnTo>
                  <a:pt x="151" y="0"/>
                </a:lnTo>
                <a:lnTo>
                  <a:pt x="0" y="0"/>
                </a:lnTo>
                <a:lnTo>
                  <a:pt x="0" y="476"/>
                </a:lnTo>
                <a:lnTo>
                  <a:pt x="75"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932200" y="3843360"/>
            <a:ext cx="549360" cy="47520"/>
          </a:xfrm>
          <a:custGeom>
            <a:avLst/>
            <a:gdLst/>
            <a:ahLst/>
            <a:rect l="l" t="t" r="r" b="b"/>
            <a:pathLst>
              <a:path w="1728" h="150">
                <a:moveTo>
                  <a:pt x="0" y="75"/>
                </a:moveTo>
                <a:lnTo>
                  <a:pt x="0" y="150"/>
                </a:lnTo>
                <a:lnTo>
                  <a:pt x="1728" y="150"/>
                </a:lnTo>
                <a:lnTo>
                  <a:pt x="1728" y="0"/>
                </a:lnTo>
                <a:lnTo>
                  <a:pt x="0" y="0"/>
                </a:lnTo>
                <a:lnTo>
                  <a:pt x="0"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4" name=""/>
          <p:cNvSpPr/>
          <p:nvPr/>
        </p:nvSpPr>
        <p:spPr>
          <a:xfrm>
            <a:off x="2897280" y="3743280"/>
            <a:ext cx="226800" cy="249120"/>
          </a:xfrm>
          <a:custGeom>
            <a:avLst/>
            <a:gdLst/>
            <a:ahLst/>
            <a:rect l="l" t="t" r="r" b="b"/>
            <a:pathLst>
              <a:path w="717" h="787">
                <a:moveTo>
                  <a:pt x="717" y="787"/>
                </a:moveTo>
                <a:lnTo>
                  <a:pt x="0" y="393"/>
                </a:lnTo>
                <a:lnTo>
                  <a:pt x="717" y="0"/>
                </a:lnTo>
                <a:lnTo>
                  <a:pt x="717" y="787"/>
                </a:lnTo>
                <a:lnTo>
                  <a:pt x="0" y="393"/>
                </a:lnTo>
                <a:lnTo>
                  <a:pt x="717" y="7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778360" y="3533760"/>
            <a:ext cx="382680" cy="47520"/>
          </a:xfrm>
          <a:custGeom>
            <a:avLst/>
            <a:gdLst/>
            <a:ahLst/>
            <a:rect l="l" t="t" r="r" b="b"/>
            <a:pathLst>
              <a:path w="1203" h="150">
                <a:moveTo>
                  <a:pt x="1203" y="75"/>
                </a:moveTo>
                <a:lnTo>
                  <a:pt x="1203" y="0"/>
                </a:lnTo>
                <a:lnTo>
                  <a:pt x="0" y="0"/>
                </a:lnTo>
                <a:lnTo>
                  <a:pt x="0" y="150"/>
                </a:lnTo>
                <a:lnTo>
                  <a:pt x="1203" y="150"/>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6" name=""/>
          <p:cNvSpPr/>
          <p:nvPr/>
        </p:nvSpPr>
        <p:spPr>
          <a:xfrm>
            <a:off x="6145200" y="3411360"/>
            <a:ext cx="293760" cy="292320"/>
          </a:xfrm>
          <a:custGeom>
            <a:avLst/>
            <a:gdLst/>
            <a:ahLst/>
            <a:rect l="l" t="t" r="r" b="b"/>
            <a:pathLst>
              <a:path w="922" h="922">
                <a:moveTo>
                  <a:pt x="922" y="461"/>
                </a:moveTo>
                <a:lnTo>
                  <a:pt x="0" y="0"/>
                </a:lnTo>
                <a:lnTo>
                  <a:pt x="0" y="922"/>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778360" y="4148280"/>
            <a:ext cx="382680" cy="47520"/>
          </a:xfrm>
          <a:custGeom>
            <a:avLst/>
            <a:gdLst/>
            <a:ahLst/>
            <a:rect l="l" t="t" r="r" b="b"/>
            <a:pathLst>
              <a:path w="1203" h="151">
                <a:moveTo>
                  <a:pt x="1203" y="75"/>
                </a:moveTo>
                <a:lnTo>
                  <a:pt x="1203" y="0"/>
                </a:lnTo>
                <a:lnTo>
                  <a:pt x="0" y="0"/>
                </a:lnTo>
                <a:lnTo>
                  <a:pt x="0" y="151"/>
                </a:lnTo>
                <a:lnTo>
                  <a:pt x="1203" y="151"/>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8" name=""/>
          <p:cNvSpPr/>
          <p:nvPr/>
        </p:nvSpPr>
        <p:spPr>
          <a:xfrm>
            <a:off x="6145200" y="4025880"/>
            <a:ext cx="293760" cy="291960"/>
          </a:xfrm>
          <a:custGeom>
            <a:avLst/>
            <a:gdLst/>
            <a:ahLst/>
            <a:rect l="l" t="t" r="r" b="b"/>
            <a:pathLst>
              <a:path w="922" h="923">
                <a:moveTo>
                  <a:pt x="922" y="461"/>
                </a:moveTo>
                <a:lnTo>
                  <a:pt x="0" y="0"/>
                </a:lnTo>
                <a:lnTo>
                  <a:pt x="0" y="923"/>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1" name=""/>
          <p:cNvGrpSpPr/>
          <p:nvPr/>
        </p:nvGrpSpPr>
        <p:grpSpPr>
          <a:xfrm>
            <a:off x="762120" y="1370160"/>
            <a:ext cx="5676120" cy="825480"/>
            <a:chOff x="762120" y="1370160"/>
            <a:chExt cx="5676120" cy="825480"/>
          </a:xfrm>
        </p:grpSpPr>
        <p:sp>
          <p:nvSpPr>
            <p:cNvPr id="782" name=""/>
            <p:cNvSpPr/>
            <p:nvPr/>
          </p:nvSpPr>
          <p:spPr>
            <a:xfrm flipV="1">
              <a:off x="762120" y="15109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770840" y="1370160"/>
              <a:ext cx="4667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lärung der Verantwortlichkei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ür die Durchführung</a:t>
              </a:r>
              <a:endParaRPr b="0" lang="en-US" sz="2400" spc="-1" strike="noStrike">
                <a:solidFill>
                  <a:srgbClr val="000000"/>
                </a:solidFill>
                <a:latin typeface="Times New Roman"/>
              </a:endParaRPr>
            </a:p>
          </p:txBody>
        </p:sp>
      </p:grpSp>
      <p:grpSp>
        <p:nvGrpSpPr>
          <p:cNvPr id="784" name=""/>
          <p:cNvGrpSpPr/>
          <p:nvPr/>
        </p:nvGrpSpPr>
        <p:grpSpPr>
          <a:xfrm>
            <a:off x="762120" y="2361960"/>
            <a:ext cx="7052040" cy="546120"/>
            <a:chOff x="762120" y="2361960"/>
            <a:chExt cx="7052040" cy="546120"/>
          </a:xfrm>
        </p:grpSpPr>
        <p:sp>
          <p:nvSpPr>
            <p:cNvPr id="785" name=""/>
            <p:cNvSpPr/>
            <p:nvPr/>
          </p:nvSpPr>
          <p:spPr>
            <a:xfrm flipV="1">
              <a:off x="762120" y="23616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761480" y="2391480"/>
              <a:ext cx="6052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estlegung von inhaltlichen Schwerpunkten</a:t>
              </a:r>
              <a:endParaRPr b="0" lang="en-US" sz="2400" spc="-1" strike="noStrike">
                <a:solidFill>
                  <a:srgbClr val="000000"/>
                </a:solidFill>
                <a:latin typeface="Times New Roman"/>
              </a:endParaRPr>
            </a:p>
          </p:txBody>
        </p:sp>
      </p:grpSp>
      <p:grpSp>
        <p:nvGrpSpPr>
          <p:cNvPr id="787" name=""/>
          <p:cNvGrpSpPr/>
          <p:nvPr/>
        </p:nvGrpSpPr>
        <p:grpSpPr>
          <a:xfrm>
            <a:off x="762120" y="3123720"/>
            <a:ext cx="6510960" cy="546120"/>
            <a:chOff x="762120" y="3123720"/>
            <a:chExt cx="6510960" cy="546120"/>
          </a:xfrm>
        </p:grpSpPr>
        <p:sp>
          <p:nvSpPr>
            <p:cNvPr id="788" name=""/>
            <p:cNvSpPr/>
            <p:nvPr/>
          </p:nvSpPr>
          <p:spPr>
            <a:xfrm flipV="1">
              <a:off x="762120" y="31233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1758240" y="3135960"/>
              <a:ext cx="551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stimmung relevanter Personenkreise</a:t>
              </a:r>
              <a:endParaRPr b="0" lang="en-US" sz="2400" spc="-1" strike="noStrike">
                <a:solidFill>
                  <a:srgbClr val="000000"/>
                </a:solidFill>
                <a:latin typeface="Times New Roman"/>
              </a:endParaRPr>
            </a:p>
          </p:txBody>
        </p:sp>
      </p:grpSp>
      <p:sp>
        <p:nvSpPr>
          <p:cNvPr id="79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 name=""/>
          <p:cNvGrpSpPr/>
          <p:nvPr/>
        </p:nvGrpSpPr>
        <p:grpSpPr>
          <a:xfrm>
            <a:off x="762120" y="3808440"/>
            <a:ext cx="6795000" cy="825480"/>
            <a:chOff x="762120" y="3808440"/>
            <a:chExt cx="6795000" cy="825480"/>
          </a:xfrm>
        </p:grpSpPr>
        <p:sp>
          <p:nvSpPr>
            <p:cNvPr id="792" name=""/>
            <p:cNvSpPr/>
            <p:nvPr/>
          </p:nvSpPr>
          <p:spPr>
            <a:xfrm flipV="1">
              <a:off x="762120" y="39488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771200" y="3808440"/>
              <a:ext cx="57859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sammenstellung passender Metho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 Instrumente</a:t>
              </a:r>
              <a:endParaRPr b="0" lang="en-US" sz="2400" spc="-1" strike="noStrike">
                <a:solidFill>
                  <a:srgbClr val="000000"/>
                </a:solidFill>
                <a:latin typeface="Times New Roman"/>
              </a:endParaRPr>
            </a:p>
          </p:txBody>
        </p:sp>
      </p:grpSp>
      <p:grpSp>
        <p:nvGrpSpPr>
          <p:cNvPr id="794" name=""/>
          <p:cNvGrpSpPr/>
          <p:nvPr/>
        </p:nvGrpSpPr>
        <p:grpSpPr>
          <a:xfrm>
            <a:off x="762120" y="4723920"/>
            <a:ext cx="5291640" cy="546120"/>
            <a:chOff x="762120" y="4723920"/>
            <a:chExt cx="5291640" cy="546120"/>
          </a:xfrm>
        </p:grpSpPr>
        <p:sp>
          <p:nvSpPr>
            <p:cNvPr id="795" name=""/>
            <p:cNvSpPr/>
            <p:nvPr/>
          </p:nvSpPr>
          <p:spPr>
            <a:xfrm flipV="1">
              <a:off x="762120" y="47235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758240" y="4753080"/>
              <a:ext cx="4295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führung der Erhebungen</a:t>
              </a:r>
              <a:endParaRPr b="0" lang="en-US" sz="2400" spc="-1" strike="noStrike">
                <a:solidFill>
                  <a:srgbClr val="000000"/>
                </a:solidFill>
                <a:latin typeface="Times New Roman"/>
              </a:endParaRPr>
            </a:p>
          </p:txBody>
        </p:sp>
      </p:grpSp>
      <p:grpSp>
        <p:nvGrpSpPr>
          <p:cNvPr id="797" name=""/>
          <p:cNvGrpSpPr/>
          <p:nvPr/>
        </p:nvGrpSpPr>
        <p:grpSpPr>
          <a:xfrm>
            <a:off x="762120" y="5486040"/>
            <a:ext cx="5036760" cy="546120"/>
            <a:chOff x="762120" y="5486040"/>
            <a:chExt cx="5036760" cy="546120"/>
          </a:xfrm>
        </p:grpSpPr>
        <p:sp>
          <p:nvSpPr>
            <p:cNvPr id="798" name=""/>
            <p:cNvSpPr/>
            <p:nvPr/>
          </p:nvSpPr>
          <p:spPr>
            <a:xfrm flipV="1">
              <a:off x="762120" y="5485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757880" y="5561640"/>
              <a:ext cx="4041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bereitung der Ergebnisse</a:t>
              </a:r>
              <a:endParaRPr b="0" lang="en-US" sz="2400" spc="-1" strike="noStrike">
                <a:solidFill>
                  <a:srgbClr val="000000"/>
                </a:solidFill>
                <a:latin typeface="Times New Roman"/>
              </a:endParaRPr>
            </a:p>
          </p:txBody>
        </p:sp>
      </p:grpSp>
      <p:sp>
        <p:nvSpPr>
          <p:cNvPr id="800"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bmuk_sw" descr=""/>
          <p:cNvPicPr/>
          <p:nvPr/>
        </p:nvPicPr>
        <p:blipFill>
          <a:blip r:embed="rId1"/>
          <a:stretch/>
        </p:blipFill>
        <p:spPr>
          <a:xfrm>
            <a:off x="76320" y="0"/>
            <a:ext cx="1218960" cy="566640"/>
          </a:xfrm>
          <a:prstGeom prst="rect">
            <a:avLst/>
          </a:prstGeom>
          <a:ln w="0">
            <a:noFill/>
          </a:ln>
        </p:spPr>
      </p:pic>
      <p:sp>
        <p:nvSpPr>
          <p:cNvPr id="802"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0" y="609480"/>
            <a:ext cx="297180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0" y="60948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tandsaufnahme</a:t>
            </a:r>
            <a:endParaRPr b="0" lang="en-US" sz="2200" spc="-1" strike="noStrike">
              <a:solidFill>
                <a:srgbClr val="000000"/>
              </a:solidFill>
              <a:latin typeface="Times New Roman"/>
            </a:endParaRPr>
          </a:p>
        </p:txBody>
      </p:sp>
      <p:sp>
        <p:nvSpPr>
          <p:cNvPr id="811" name=""/>
          <p:cNvSpPr/>
          <p:nvPr/>
        </p:nvSpPr>
        <p:spPr>
          <a:xfrm>
            <a:off x="0" y="990720"/>
            <a:ext cx="1219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54440" y="990720"/>
            <a:ext cx="84816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i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5" name="bmuk_sw" descr=""/>
          <p:cNvPicPr/>
          <p:nvPr/>
        </p:nvPicPr>
        <p:blipFill>
          <a:blip r:embed="rId1"/>
          <a:stretch/>
        </p:blipFill>
        <p:spPr>
          <a:xfrm>
            <a:off x="76320" y="0"/>
            <a:ext cx="1218960" cy="566640"/>
          </a:xfrm>
          <a:prstGeom prst="rect">
            <a:avLst/>
          </a:prstGeom>
          <a:ln w="0">
            <a:noFill/>
          </a:ln>
        </p:spPr>
      </p:pic>
      <p:sp>
        <p:nvSpPr>
          <p:cNvPr id="81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609480"/>
            <a:ext cx="297180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0" y="60948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tandsaufnahme</a:t>
            </a:r>
            <a:endParaRPr b="0" lang="en-US" sz="2200" spc="-1" strike="noStrike">
              <a:solidFill>
                <a:srgbClr val="000000"/>
              </a:solidFill>
              <a:latin typeface="Times New Roman"/>
            </a:endParaRPr>
          </a:p>
        </p:txBody>
      </p:sp>
      <p:sp>
        <p:nvSpPr>
          <p:cNvPr id="825" name=""/>
          <p:cNvSpPr/>
          <p:nvPr/>
        </p:nvSpPr>
        <p:spPr>
          <a:xfrm>
            <a:off x="0" y="990720"/>
            <a:ext cx="2362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960" y="914400"/>
            <a:ext cx="224424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egriffsklärung</a:t>
            </a:r>
            <a:endParaRPr b="0" lang="en-US" sz="2200" spc="-1" strike="noStrike">
              <a:solidFill>
                <a:srgbClr val="000000"/>
              </a:solidFill>
              <a:latin typeface="Times New Roman"/>
            </a:endParaRPr>
          </a:p>
        </p:txBody>
      </p:sp>
      <p:sp>
        <p:nvSpPr>
          <p:cNvPr id="827" name=""/>
          <p:cNvSpPr/>
          <p:nvPr/>
        </p:nvSpPr>
        <p:spPr>
          <a:xfrm>
            <a:off x="1068120" y="2054520"/>
            <a:ext cx="6080040" cy="228852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m Rahmen von Q.I.S. ist damit ein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spezifische, eher grobmaschige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valuationsmaßnahme gemein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dazu dient, sich einen Überblick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über den Ist-Stand in verschiedenen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Qualitätsbereichen zu verschaff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0" name="bmuk_sw" descr=""/>
          <p:cNvPicPr/>
          <p:nvPr/>
        </p:nvPicPr>
        <p:blipFill>
          <a:blip r:embed="rId1"/>
          <a:stretch/>
        </p:blipFill>
        <p:spPr>
          <a:xfrm>
            <a:off x="76320" y="0"/>
            <a:ext cx="1218960" cy="566640"/>
          </a:xfrm>
          <a:prstGeom prst="rect">
            <a:avLst/>
          </a:prstGeom>
          <a:ln w="0">
            <a:noFill/>
          </a:ln>
        </p:spPr>
      </p:pic>
      <p:sp>
        <p:nvSpPr>
          <p:cNvPr id="83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0" y="609480"/>
            <a:ext cx="49528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0" y="609480"/>
            <a:ext cx="4952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Überprüfung konkreter Maßnahmen</a:t>
            </a:r>
            <a:endParaRPr b="0" lang="en-US" sz="2200" spc="-1" strike="noStrike">
              <a:solidFill>
                <a:srgbClr val="000000"/>
              </a:solidFill>
              <a:latin typeface="Times New Roman"/>
            </a:endParaRPr>
          </a:p>
        </p:txBody>
      </p:sp>
      <p:sp>
        <p:nvSpPr>
          <p:cNvPr id="840" name=""/>
          <p:cNvSpPr/>
          <p:nvPr/>
        </p:nvSpPr>
        <p:spPr>
          <a:xfrm>
            <a:off x="1073160" y="2420280"/>
            <a:ext cx="7191000" cy="1557000"/>
          </a:xfrm>
          <a:prstGeom prst="rect">
            <a:avLst/>
          </a:prstGeom>
          <a:noFill/>
          <a:ln w="0">
            <a:noFill/>
          </a:ln>
        </p:spPr>
        <p:style>
          <a:lnRef idx="0"/>
          <a:fillRef idx="0"/>
          <a:effectRef idx="0"/>
          <a:fontRef idx="minor"/>
        </p:style>
        <p:txBody>
          <a:bodyPr wrap="none"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runter verstehen wir Evaluationsvorhaben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größerer Tiefenwirkung, die darauf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bzielen, die Wirksamkeit konkreter,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ielgerichteter Maßnahmen zu überprüfen.</a:t>
            </a:r>
            <a:endParaRPr b="0" lang="en-US" sz="2400" spc="-1" strike="noStrike">
              <a:solidFill>
                <a:srgbClr val="000000"/>
              </a:solidFill>
              <a:latin typeface="Times New Roman"/>
            </a:endParaRPr>
          </a:p>
        </p:txBody>
      </p:sp>
      <p:sp>
        <p:nvSpPr>
          <p:cNvPr id="841" name=""/>
          <p:cNvSpPr/>
          <p:nvPr/>
        </p:nvSpPr>
        <p:spPr>
          <a:xfrm>
            <a:off x="0" y="990720"/>
            <a:ext cx="2362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3960" y="914400"/>
            <a:ext cx="224424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egriffsklär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bmuk_sw" descr=""/>
          <p:cNvPicPr/>
          <p:nvPr/>
        </p:nvPicPr>
        <p:blipFill>
          <a:blip r:embed="rId1"/>
          <a:stretch/>
        </p:blipFill>
        <p:spPr>
          <a:xfrm>
            <a:off x="76320" y="0"/>
            <a:ext cx="1218960" cy="566640"/>
          </a:xfrm>
          <a:prstGeom prst="rect">
            <a:avLst/>
          </a:prstGeom>
          <a:ln w="0">
            <a:noFill/>
          </a:ln>
        </p:spPr>
      </p:pic>
      <p:sp>
        <p:nvSpPr>
          <p:cNvPr id="84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0" y="609480"/>
            <a:ext cx="281952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0" y="609480"/>
            <a:ext cx="2514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elbstevaluation</a:t>
            </a:r>
            <a:endParaRPr b="0" lang="en-US" sz="2200" spc="-1" strike="noStrike">
              <a:solidFill>
                <a:srgbClr val="000000"/>
              </a:solidFill>
              <a:latin typeface="Times New Roman"/>
            </a:endParaRPr>
          </a:p>
        </p:txBody>
      </p:sp>
      <p:sp>
        <p:nvSpPr>
          <p:cNvPr id="855" name=""/>
          <p:cNvSpPr/>
          <p:nvPr/>
        </p:nvSpPr>
        <p:spPr>
          <a:xfrm>
            <a:off x="1681200" y="1672200"/>
            <a:ext cx="7005240" cy="411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weck von Selbstevaluation ist die datengestütz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elbstvergewisserung der an der Schule Tätig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 dem Ziel, die Qualität am Standor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zuentwickeln. Auftraggeber/innen 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räger/innen der Evaluationsmaßnahme si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Akteure am Schulstandort. Sie entscheid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über den schulinternen Umgang m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ten und Ergebnissen. – Selbstevaluation kan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xterne Komponenten (z.B. Einbeziehu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kritischer Freund/innen", Auslagerung v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eilaufgaben) enthalten.</a:t>
            </a:r>
            <a:endParaRPr b="0" lang="en-US" sz="2400" spc="-1" strike="noStrike">
              <a:solidFill>
                <a:srgbClr val="000000"/>
              </a:solidFill>
              <a:latin typeface="Times New Roman"/>
            </a:endParaRPr>
          </a:p>
        </p:txBody>
      </p:sp>
      <p:sp>
        <p:nvSpPr>
          <p:cNvPr id="856" name=""/>
          <p:cNvSpPr/>
          <p:nvPr/>
        </p:nvSpPr>
        <p:spPr>
          <a:xfrm>
            <a:off x="0" y="990720"/>
            <a:ext cx="2362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960" y="914400"/>
            <a:ext cx="224424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egriffsklär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bmuk_sw" descr=""/>
          <p:cNvPicPr/>
          <p:nvPr/>
        </p:nvPicPr>
        <p:blipFill>
          <a:blip r:embed="rId1"/>
          <a:stretch/>
        </p:blipFill>
        <p:spPr>
          <a:xfrm>
            <a:off x="0" y="0"/>
            <a:ext cx="1219320" cy="566640"/>
          </a:xfrm>
          <a:prstGeom prst="rect">
            <a:avLst/>
          </a:prstGeom>
          <a:ln w="0">
            <a:noFill/>
          </a:ln>
        </p:spPr>
      </p:pic>
      <p:sp>
        <p:nvSpPr>
          <p:cNvPr id="7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0" y="5943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65530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78200" y="1980360"/>
            <a:ext cx="5212800" cy="1684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nn der Wind des Wandels weht,</a:t>
            </a:r>
            <a:endParaRPr b="0" lang="en-US" sz="2400" spc="-1" strike="noStrike">
              <a:solidFill>
                <a:srgbClr val="000000"/>
              </a:solidFill>
              <a:latin typeface="Times New Roman"/>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auen die einen Mauern,</a:t>
            </a:r>
            <a:endParaRPr b="0" lang="en-US" sz="2400" spc="-1" strike="noStrike">
              <a:solidFill>
                <a:srgbClr val="000000"/>
              </a:solidFill>
              <a:latin typeface="Times New Roman"/>
            </a:endParaRPr>
          </a:p>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e anderer Windmühlen.</a:t>
            </a:r>
            <a:endParaRPr b="0" lang="en-US" sz="2400" spc="-1" strike="noStrike">
              <a:solidFill>
                <a:srgbClr val="000000"/>
              </a:solidFill>
              <a:latin typeface="Times New Roman"/>
            </a:endParaRPr>
          </a:p>
        </p:txBody>
      </p:sp>
      <p:sp>
        <p:nvSpPr>
          <p:cNvPr id="83" name=""/>
          <p:cNvSpPr/>
          <p:nvPr/>
        </p:nvSpPr>
        <p:spPr>
          <a:xfrm>
            <a:off x="5101560" y="4190040"/>
            <a:ext cx="3143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hinesisches Sprichw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0" name="bmuk_sw" descr=""/>
          <p:cNvPicPr/>
          <p:nvPr/>
        </p:nvPicPr>
        <p:blipFill>
          <a:blip r:embed="rId1"/>
          <a:stretch/>
        </p:blipFill>
        <p:spPr>
          <a:xfrm>
            <a:off x="76320" y="0"/>
            <a:ext cx="1218960" cy="566640"/>
          </a:xfrm>
          <a:prstGeom prst="rect">
            <a:avLst/>
          </a:prstGeom>
          <a:ln w="0">
            <a:noFill/>
          </a:ln>
        </p:spPr>
      </p:pic>
      <p:sp>
        <p:nvSpPr>
          <p:cNvPr id="86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0" y="609480"/>
            <a:ext cx="274320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Fremdevaluation</a:t>
            </a:r>
            <a:endParaRPr b="0" lang="en-US" sz="2200" spc="-1" strike="noStrike">
              <a:solidFill>
                <a:srgbClr val="000000"/>
              </a:solidFill>
              <a:latin typeface="Times New Roman"/>
            </a:endParaRPr>
          </a:p>
        </p:txBody>
      </p:sp>
      <p:sp>
        <p:nvSpPr>
          <p:cNvPr id="870" name=""/>
          <p:cNvSpPr/>
          <p:nvPr/>
        </p:nvSpPr>
        <p:spPr>
          <a:xfrm>
            <a:off x="1600560" y="1521720"/>
            <a:ext cx="7162200" cy="4786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weck von Fremdevaluation ist die Ergänzu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r Innensicht der Schule durch eine Außenperspektiv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owie die Absicherung des staatlichen Bildungsauftrag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n Schule auf Standort- und Systemeben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ftraggeber/innen und Träger/innen d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valuationsmaßnahme sind Personen/Institution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ßerhalb der einzelnen Schule (z.B. Schulaufsich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e handeln entsprechend ihrem Auftrag und ihr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unktion im Schulsystem. Die Abstimmung de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valuationsvorhabens mit den Beteiligten an d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e erhöht die Entwicklungschancen am Standor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remdevaluation kann sich auf intern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mponenten (Schulprogramm, Method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Ergebnisse von Selbstevaluation) beziehen.</a:t>
            </a:r>
            <a:endParaRPr b="0" lang="en-US" sz="2200" spc="-1" strike="noStrike">
              <a:solidFill>
                <a:srgbClr val="000000"/>
              </a:solidFill>
              <a:latin typeface="Times New Roman"/>
            </a:endParaRPr>
          </a:p>
        </p:txBody>
      </p:sp>
      <p:sp>
        <p:nvSpPr>
          <p:cNvPr id="871" name=""/>
          <p:cNvSpPr/>
          <p:nvPr/>
        </p:nvSpPr>
        <p:spPr>
          <a:xfrm>
            <a:off x="0" y="990720"/>
            <a:ext cx="23623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3960" y="914400"/>
            <a:ext cx="2244240" cy="462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egriffsklär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4" name="bmuk_sw" descr=""/>
          <p:cNvPicPr/>
          <p:nvPr/>
        </p:nvPicPr>
        <p:blipFill>
          <a:blip r:embed="rId1"/>
          <a:stretch/>
        </p:blipFill>
        <p:spPr>
          <a:xfrm>
            <a:off x="76320" y="0"/>
            <a:ext cx="1218960" cy="566640"/>
          </a:xfrm>
          <a:prstGeom prst="rect">
            <a:avLst/>
          </a:prstGeom>
          <a:ln w="0">
            <a:noFill/>
          </a:ln>
        </p:spPr>
      </p:pic>
      <p:sp>
        <p:nvSpPr>
          <p:cNvPr id="87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609480"/>
            <a:ext cx="26668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 in Schule</a:t>
            </a:r>
            <a:endParaRPr b="0" lang="en-US" sz="2200" spc="-1" strike="noStrike">
              <a:solidFill>
                <a:srgbClr val="000000"/>
              </a:solidFill>
              <a:latin typeface="Times New Roman"/>
            </a:endParaRPr>
          </a:p>
        </p:txBody>
      </p:sp>
      <p:grpSp>
        <p:nvGrpSpPr>
          <p:cNvPr id="884" name=""/>
          <p:cNvGrpSpPr/>
          <p:nvPr/>
        </p:nvGrpSpPr>
        <p:grpSpPr>
          <a:xfrm>
            <a:off x="1143000" y="913320"/>
            <a:ext cx="3505320" cy="459720"/>
            <a:chOff x="1143000" y="913320"/>
            <a:chExt cx="3505320" cy="459720"/>
          </a:xfrm>
        </p:grpSpPr>
        <p:sp>
          <p:nvSpPr>
            <p:cNvPr id="885" name=""/>
            <p:cNvSpPr/>
            <p:nvPr/>
          </p:nvSpPr>
          <p:spPr>
            <a:xfrm>
              <a:off x="1143000" y="990720"/>
              <a:ext cx="35053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671840" y="913320"/>
              <a:ext cx="251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887" name=""/>
          <p:cNvGrpSpPr/>
          <p:nvPr/>
        </p:nvGrpSpPr>
        <p:grpSpPr>
          <a:xfrm>
            <a:off x="4648320" y="913320"/>
            <a:ext cx="4495680" cy="459720"/>
            <a:chOff x="4648320" y="913320"/>
            <a:chExt cx="4495680" cy="459720"/>
          </a:xfrm>
        </p:grpSpPr>
        <p:sp>
          <p:nvSpPr>
            <p:cNvPr id="888" name=""/>
            <p:cNvSpPr/>
            <p:nvPr/>
          </p:nvSpPr>
          <p:spPr>
            <a:xfrm>
              <a:off x="4648320" y="990720"/>
              <a:ext cx="4495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411160" y="913320"/>
              <a:ext cx="172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Times New Roman"/>
              </a:endParaRPr>
            </a:p>
          </p:txBody>
        </p:sp>
      </p:grpSp>
      <p:grpSp>
        <p:nvGrpSpPr>
          <p:cNvPr id="890" name=""/>
          <p:cNvGrpSpPr/>
          <p:nvPr/>
        </p:nvGrpSpPr>
        <p:grpSpPr>
          <a:xfrm>
            <a:off x="3479760" y="1371600"/>
            <a:ext cx="2297160" cy="1339560"/>
            <a:chOff x="3479760" y="1371600"/>
            <a:chExt cx="2297160" cy="1339560"/>
          </a:xfrm>
        </p:grpSpPr>
        <p:sp>
          <p:nvSpPr>
            <p:cNvPr id="891" name=""/>
            <p:cNvSpPr/>
            <p:nvPr/>
          </p:nvSpPr>
          <p:spPr>
            <a:xfrm>
              <a:off x="3479760" y="1371600"/>
              <a:ext cx="2297160" cy="1339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823920" y="1517040"/>
              <a:ext cx="16866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etzung</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kreter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ßnahmen</a:t>
              </a:r>
              <a:endParaRPr b="0" lang="en-US" sz="2000" spc="-1" strike="noStrike">
                <a:solidFill>
                  <a:srgbClr val="000000"/>
                </a:solidFill>
                <a:latin typeface="Times New Roman"/>
              </a:endParaRPr>
            </a:p>
          </p:txBody>
        </p:sp>
      </p:grpSp>
      <p:grpSp>
        <p:nvGrpSpPr>
          <p:cNvPr id="893" name=""/>
          <p:cNvGrpSpPr/>
          <p:nvPr/>
        </p:nvGrpSpPr>
        <p:grpSpPr>
          <a:xfrm>
            <a:off x="6448320" y="3860640"/>
            <a:ext cx="2558520" cy="669960"/>
            <a:chOff x="6448320" y="3860640"/>
            <a:chExt cx="2558520" cy="669960"/>
          </a:xfrm>
        </p:grpSpPr>
        <p:sp>
          <p:nvSpPr>
            <p:cNvPr id="894" name=""/>
            <p:cNvSpPr/>
            <p:nvPr/>
          </p:nvSpPr>
          <p:spPr>
            <a:xfrm>
              <a:off x="6448320" y="3860640"/>
              <a:ext cx="2543400" cy="669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76040" y="3964320"/>
              <a:ext cx="253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andsaufnahme</a:t>
              </a:r>
              <a:endParaRPr b="0" lang="en-US" sz="2000" spc="-1" strike="noStrike">
                <a:solidFill>
                  <a:srgbClr val="000000"/>
                </a:solidFill>
                <a:latin typeface="Times New Roman"/>
              </a:endParaRPr>
            </a:p>
          </p:txBody>
        </p:sp>
      </p:grpSp>
      <p:grpSp>
        <p:nvGrpSpPr>
          <p:cNvPr id="896" name=""/>
          <p:cNvGrpSpPr/>
          <p:nvPr/>
        </p:nvGrpSpPr>
        <p:grpSpPr>
          <a:xfrm>
            <a:off x="3479760" y="5103720"/>
            <a:ext cx="2297160" cy="1339920"/>
            <a:chOff x="3479760" y="5103720"/>
            <a:chExt cx="2297160" cy="1339920"/>
          </a:xfrm>
        </p:grpSpPr>
        <p:sp>
          <p:nvSpPr>
            <p:cNvPr id="897" name=""/>
            <p:cNvSpPr/>
            <p:nvPr/>
          </p:nvSpPr>
          <p:spPr>
            <a:xfrm>
              <a:off x="3479760" y="5103720"/>
              <a:ext cx="2297160" cy="133992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710160" y="5393520"/>
              <a:ext cx="1895400" cy="709560"/>
            </a:xfrm>
            <a:prstGeom prst="rect">
              <a:avLst/>
            </a:prstGeom>
            <a:solidFill>
              <a:srgbClr val="0033cc"/>
            </a:solid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eflexion</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 Ergebnisse</a:t>
              </a:r>
              <a:endParaRPr b="0" lang="en-US" sz="2000" spc="-1" strike="noStrike">
                <a:solidFill>
                  <a:srgbClr val="000000"/>
                </a:solidFill>
                <a:latin typeface="Times New Roman"/>
              </a:endParaRPr>
            </a:p>
          </p:txBody>
        </p:sp>
      </p:grpSp>
      <p:grpSp>
        <p:nvGrpSpPr>
          <p:cNvPr id="899" name=""/>
          <p:cNvGrpSpPr/>
          <p:nvPr/>
        </p:nvGrpSpPr>
        <p:grpSpPr>
          <a:xfrm>
            <a:off x="583560" y="3189240"/>
            <a:ext cx="2323080" cy="1341360"/>
            <a:chOff x="583560" y="3189240"/>
            <a:chExt cx="2323080" cy="1341360"/>
          </a:xfrm>
        </p:grpSpPr>
        <p:sp>
          <p:nvSpPr>
            <p:cNvPr id="900" name=""/>
            <p:cNvSpPr/>
            <p:nvPr/>
          </p:nvSpPr>
          <p:spPr>
            <a:xfrm>
              <a:off x="609480" y="3189240"/>
              <a:ext cx="2297160" cy="1341360"/>
            </a:xfrm>
            <a:prstGeom prst="rect">
              <a:avLst/>
            </a:prstGeom>
            <a:solidFill>
              <a:srgbClr val="00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83560" y="3349080"/>
              <a:ext cx="2322000" cy="990000"/>
            </a:xfrm>
            <a:prstGeom prst="rect">
              <a:avLst/>
            </a:prstGeom>
            <a:solidFill>
              <a:srgbClr val="0033cc"/>
            </a:solid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chulprogramm</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iele und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rhaben</a:t>
              </a:r>
              <a:endParaRPr b="0" lang="en-US" sz="2000" spc="-1" strike="noStrike">
                <a:solidFill>
                  <a:srgbClr val="000000"/>
                </a:solidFill>
                <a:latin typeface="Times New Roman"/>
              </a:endParaRPr>
            </a:p>
          </p:txBody>
        </p:sp>
      </p:grpSp>
      <p:grpSp>
        <p:nvGrpSpPr>
          <p:cNvPr id="902" name=""/>
          <p:cNvGrpSpPr/>
          <p:nvPr/>
        </p:nvGrpSpPr>
        <p:grpSpPr>
          <a:xfrm>
            <a:off x="3479760" y="3189240"/>
            <a:ext cx="2297160" cy="1341360"/>
            <a:chOff x="3479760" y="3189240"/>
            <a:chExt cx="2297160" cy="1341360"/>
          </a:xfrm>
        </p:grpSpPr>
        <p:sp>
          <p:nvSpPr>
            <p:cNvPr id="903" name=""/>
            <p:cNvSpPr/>
            <p:nvPr/>
          </p:nvSpPr>
          <p:spPr>
            <a:xfrm>
              <a:off x="347976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873600" y="3520800"/>
              <a:ext cx="1640880" cy="73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a:t>
              </a:r>
              <a:endParaRPr b="0" lang="en-US" sz="2200" spc="-1" strike="noStrike">
                <a:solidFill>
                  <a:srgbClr val="000000"/>
                </a:solidFill>
                <a:latin typeface="Times New Roman"/>
              </a:endParaRPr>
            </a:p>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kussion</a:t>
              </a:r>
              <a:endParaRPr b="0" lang="en-US" sz="2200" spc="-1" strike="noStrike">
                <a:solidFill>
                  <a:srgbClr val="000000"/>
                </a:solidFill>
                <a:latin typeface="Times New Roman"/>
              </a:endParaRPr>
            </a:p>
          </p:txBody>
        </p:sp>
      </p:grpSp>
      <p:grpSp>
        <p:nvGrpSpPr>
          <p:cNvPr id="905" name=""/>
          <p:cNvGrpSpPr/>
          <p:nvPr/>
        </p:nvGrpSpPr>
        <p:grpSpPr>
          <a:xfrm>
            <a:off x="6448320" y="3189240"/>
            <a:ext cx="2543400" cy="671400"/>
            <a:chOff x="6448320" y="3189240"/>
            <a:chExt cx="2543400" cy="671400"/>
          </a:xfrm>
        </p:grpSpPr>
        <p:sp>
          <p:nvSpPr>
            <p:cNvPr id="906" name=""/>
            <p:cNvSpPr/>
            <p:nvPr/>
          </p:nvSpPr>
          <p:spPr>
            <a:xfrm>
              <a:off x="6448320" y="3189240"/>
              <a:ext cx="2543400" cy="671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6749640" y="3400920"/>
              <a:ext cx="18709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Überprüfung</a:t>
              </a:r>
              <a:endParaRPr b="0" lang="en-US" sz="2200" spc="-1" strike="noStrike">
                <a:solidFill>
                  <a:srgbClr val="000000"/>
                </a:solidFill>
                <a:latin typeface="Times New Roman"/>
              </a:endParaRPr>
            </a:p>
          </p:txBody>
        </p:sp>
      </p:grpSp>
      <p:grpSp>
        <p:nvGrpSpPr>
          <p:cNvPr id="908" name=""/>
          <p:cNvGrpSpPr/>
          <p:nvPr/>
        </p:nvGrpSpPr>
        <p:grpSpPr>
          <a:xfrm>
            <a:off x="5778360" y="2044800"/>
            <a:ext cx="1612800" cy="1155240"/>
            <a:chOff x="5778360" y="2044800"/>
            <a:chExt cx="1612800" cy="1155240"/>
          </a:xfrm>
        </p:grpSpPr>
        <p:sp>
          <p:nvSpPr>
            <p:cNvPr id="909" name=""/>
            <p:cNvSpPr/>
            <p:nvPr/>
          </p:nvSpPr>
          <p:spPr>
            <a:xfrm>
              <a:off x="5778360" y="2044800"/>
              <a:ext cx="1499040" cy="966600"/>
            </a:xfrm>
            <a:custGeom>
              <a:avLst/>
              <a:gdLst/>
              <a:ahLst/>
              <a:rect l="l" t="t" r="r" b="b"/>
              <a:pathLst>
                <a:path w="5332" h="3582">
                  <a:moveTo>
                    <a:pt x="5332" y="3501"/>
                  </a:moveTo>
                  <a:lnTo>
                    <a:pt x="5283" y="3426"/>
                  </a:lnTo>
                  <a:lnTo>
                    <a:pt x="5233" y="3352"/>
                  </a:lnTo>
                  <a:lnTo>
                    <a:pt x="5183" y="3279"/>
                  </a:lnTo>
                  <a:lnTo>
                    <a:pt x="5130" y="3205"/>
                  </a:lnTo>
                  <a:lnTo>
                    <a:pt x="5077" y="3133"/>
                  </a:lnTo>
                  <a:lnTo>
                    <a:pt x="5022" y="3060"/>
                  </a:lnTo>
                  <a:lnTo>
                    <a:pt x="4967" y="2989"/>
                  </a:lnTo>
                  <a:lnTo>
                    <a:pt x="4910" y="2917"/>
                  </a:lnTo>
                  <a:lnTo>
                    <a:pt x="4851" y="2847"/>
                  </a:lnTo>
                  <a:lnTo>
                    <a:pt x="4791" y="2777"/>
                  </a:lnTo>
                  <a:lnTo>
                    <a:pt x="4730" y="2707"/>
                  </a:lnTo>
                  <a:lnTo>
                    <a:pt x="4669" y="2639"/>
                  </a:lnTo>
                  <a:lnTo>
                    <a:pt x="4605" y="2570"/>
                  </a:lnTo>
                  <a:lnTo>
                    <a:pt x="4541" y="2503"/>
                  </a:lnTo>
                  <a:lnTo>
                    <a:pt x="4476" y="2435"/>
                  </a:lnTo>
                  <a:lnTo>
                    <a:pt x="4409" y="2370"/>
                  </a:lnTo>
                  <a:lnTo>
                    <a:pt x="4341" y="2303"/>
                  </a:lnTo>
                  <a:lnTo>
                    <a:pt x="4271" y="2238"/>
                  </a:lnTo>
                  <a:lnTo>
                    <a:pt x="4201" y="2173"/>
                  </a:lnTo>
                  <a:lnTo>
                    <a:pt x="4131" y="2109"/>
                  </a:lnTo>
                  <a:lnTo>
                    <a:pt x="4058" y="2046"/>
                  </a:lnTo>
                  <a:lnTo>
                    <a:pt x="3984" y="1983"/>
                  </a:lnTo>
                  <a:lnTo>
                    <a:pt x="3909" y="1920"/>
                  </a:lnTo>
                  <a:lnTo>
                    <a:pt x="3834" y="1858"/>
                  </a:lnTo>
                  <a:lnTo>
                    <a:pt x="3756" y="1798"/>
                  </a:lnTo>
                  <a:lnTo>
                    <a:pt x="3679" y="1737"/>
                  </a:lnTo>
                  <a:lnTo>
                    <a:pt x="3600" y="1678"/>
                  </a:lnTo>
                  <a:lnTo>
                    <a:pt x="3521" y="1619"/>
                  </a:lnTo>
                  <a:lnTo>
                    <a:pt x="3440" y="1560"/>
                  </a:lnTo>
                  <a:lnTo>
                    <a:pt x="3358" y="1503"/>
                  </a:lnTo>
                  <a:lnTo>
                    <a:pt x="3274" y="1447"/>
                  </a:lnTo>
                  <a:lnTo>
                    <a:pt x="3191" y="1390"/>
                  </a:lnTo>
                  <a:lnTo>
                    <a:pt x="3105" y="1335"/>
                  </a:lnTo>
                  <a:lnTo>
                    <a:pt x="3020" y="1280"/>
                  </a:lnTo>
                  <a:lnTo>
                    <a:pt x="2933" y="1226"/>
                  </a:lnTo>
                  <a:lnTo>
                    <a:pt x="2845" y="1172"/>
                  </a:lnTo>
                  <a:lnTo>
                    <a:pt x="2757" y="1120"/>
                  </a:lnTo>
                  <a:lnTo>
                    <a:pt x="2667" y="1068"/>
                  </a:lnTo>
                  <a:lnTo>
                    <a:pt x="2576" y="1017"/>
                  </a:lnTo>
                  <a:lnTo>
                    <a:pt x="2485" y="967"/>
                  </a:lnTo>
                  <a:lnTo>
                    <a:pt x="2392" y="916"/>
                  </a:lnTo>
                  <a:lnTo>
                    <a:pt x="2299" y="868"/>
                  </a:lnTo>
                  <a:lnTo>
                    <a:pt x="2204" y="820"/>
                  </a:lnTo>
                  <a:lnTo>
                    <a:pt x="2109" y="773"/>
                  </a:lnTo>
                  <a:lnTo>
                    <a:pt x="2014" y="726"/>
                  </a:lnTo>
                  <a:lnTo>
                    <a:pt x="1917" y="681"/>
                  </a:lnTo>
                  <a:lnTo>
                    <a:pt x="1820" y="636"/>
                  </a:lnTo>
                  <a:lnTo>
                    <a:pt x="1721" y="592"/>
                  </a:lnTo>
                  <a:lnTo>
                    <a:pt x="1621" y="548"/>
                  </a:lnTo>
                  <a:lnTo>
                    <a:pt x="1522" y="506"/>
                  </a:lnTo>
                  <a:lnTo>
                    <a:pt x="1421" y="464"/>
                  </a:lnTo>
                  <a:lnTo>
                    <a:pt x="1319" y="424"/>
                  </a:lnTo>
                  <a:lnTo>
                    <a:pt x="1217" y="384"/>
                  </a:lnTo>
                  <a:lnTo>
                    <a:pt x="1113" y="344"/>
                  </a:lnTo>
                  <a:lnTo>
                    <a:pt x="1009" y="307"/>
                  </a:lnTo>
                  <a:lnTo>
                    <a:pt x="903" y="269"/>
                  </a:lnTo>
                  <a:lnTo>
                    <a:pt x="798" y="231"/>
                  </a:lnTo>
                  <a:lnTo>
                    <a:pt x="692" y="196"/>
                  </a:lnTo>
                  <a:lnTo>
                    <a:pt x="585" y="162"/>
                  </a:lnTo>
                  <a:lnTo>
                    <a:pt x="478" y="128"/>
                  </a:lnTo>
                  <a:lnTo>
                    <a:pt x="368" y="94"/>
                  </a:lnTo>
                  <a:lnTo>
                    <a:pt x="259" y="63"/>
                  </a:lnTo>
                  <a:lnTo>
                    <a:pt x="150" y="31"/>
                  </a:lnTo>
                  <a:lnTo>
                    <a:pt x="40" y="0"/>
                  </a:lnTo>
                  <a:lnTo>
                    <a:pt x="0" y="146"/>
                  </a:lnTo>
                  <a:lnTo>
                    <a:pt x="110" y="176"/>
                  </a:lnTo>
                  <a:lnTo>
                    <a:pt x="218" y="207"/>
                  </a:lnTo>
                  <a:lnTo>
                    <a:pt x="326" y="238"/>
                  </a:lnTo>
                  <a:lnTo>
                    <a:pt x="433" y="271"/>
                  </a:lnTo>
                  <a:lnTo>
                    <a:pt x="540" y="304"/>
                  </a:lnTo>
                  <a:lnTo>
                    <a:pt x="645" y="339"/>
                  </a:lnTo>
                  <a:lnTo>
                    <a:pt x="750" y="375"/>
                  </a:lnTo>
                  <a:lnTo>
                    <a:pt x="854" y="411"/>
                  </a:lnTo>
                  <a:lnTo>
                    <a:pt x="957" y="447"/>
                  </a:lnTo>
                  <a:lnTo>
                    <a:pt x="1061" y="485"/>
                  </a:lnTo>
                  <a:lnTo>
                    <a:pt x="1163" y="523"/>
                  </a:lnTo>
                  <a:lnTo>
                    <a:pt x="1264" y="563"/>
                  </a:lnTo>
                  <a:lnTo>
                    <a:pt x="1364" y="603"/>
                  </a:lnTo>
                  <a:lnTo>
                    <a:pt x="1464" y="644"/>
                  </a:lnTo>
                  <a:lnTo>
                    <a:pt x="1563" y="687"/>
                  </a:lnTo>
                  <a:lnTo>
                    <a:pt x="1660" y="729"/>
                  </a:lnTo>
                  <a:lnTo>
                    <a:pt x="1757" y="773"/>
                  </a:lnTo>
                  <a:lnTo>
                    <a:pt x="1854" y="817"/>
                  </a:lnTo>
                  <a:lnTo>
                    <a:pt x="1949" y="862"/>
                  </a:lnTo>
                  <a:lnTo>
                    <a:pt x="2044" y="908"/>
                  </a:lnTo>
                  <a:lnTo>
                    <a:pt x="2138" y="954"/>
                  </a:lnTo>
                  <a:lnTo>
                    <a:pt x="2230" y="1002"/>
                  </a:lnTo>
                  <a:lnTo>
                    <a:pt x="2322" y="1050"/>
                  </a:lnTo>
                  <a:lnTo>
                    <a:pt x="2413" y="1098"/>
                  </a:lnTo>
                  <a:lnTo>
                    <a:pt x="2504" y="1149"/>
                  </a:lnTo>
                  <a:lnTo>
                    <a:pt x="2593" y="1199"/>
                  </a:lnTo>
                  <a:lnTo>
                    <a:pt x="2681" y="1250"/>
                  </a:lnTo>
                  <a:lnTo>
                    <a:pt x="2769" y="1301"/>
                  </a:lnTo>
                  <a:lnTo>
                    <a:pt x="2854" y="1354"/>
                  </a:lnTo>
                  <a:lnTo>
                    <a:pt x="2940" y="1407"/>
                  </a:lnTo>
                  <a:lnTo>
                    <a:pt x="3024" y="1461"/>
                  </a:lnTo>
                  <a:lnTo>
                    <a:pt x="3108" y="1516"/>
                  </a:lnTo>
                  <a:lnTo>
                    <a:pt x="3191" y="1571"/>
                  </a:lnTo>
                  <a:lnTo>
                    <a:pt x="3272" y="1627"/>
                  </a:lnTo>
                  <a:lnTo>
                    <a:pt x="3353" y="1683"/>
                  </a:lnTo>
                  <a:lnTo>
                    <a:pt x="3433" y="1741"/>
                  </a:lnTo>
                  <a:lnTo>
                    <a:pt x="3510" y="1798"/>
                  </a:lnTo>
                  <a:lnTo>
                    <a:pt x="3587" y="1857"/>
                  </a:lnTo>
                  <a:lnTo>
                    <a:pt x="3665" y="1916"/>
                  </a:lnTo>
                  <a:lnTo>
                    <a:pt x="3740" y="1976"/>
                  </a:lnTo>
                  <a:lnTo>
                    <a:pt x="3814" y="2037"/>
                  </a:lnTo>
                  <a:lnTo>
                    <a:pt x="3887" y="2098"/>
                  </a:lnTo>
                  <a:lnTo>
                    <a:pt x="3959" y="2158"/>
                  </a:lnTo>
                  <a:lnTo>
                    <a:pt x="4030" y="2222"/>
                  </a:lnTo>
                  <a:lnTo>
                    <a:pt x="4100" y="2284"/>
                  </a:lnTo>
                  <a:lnTo>
                    <a:pt x="4169" y="2347"/>
                  </a:lnTo>
                  <a:lnTo>
                    <a:pt x="4236" y="2412"/>
                  </a:lnTo>
                  <a:lnTo>
                    <a:pt x="4303" y="2476"/>
                  </a:lnTo>
                  <a:lnTo>
                    <a:pt x="4369" y="2542"/>
                  </a:lnTo>
                  <a:lnTo>
                    <a:pt x="4432" y="2607"/>
                  </a:lnTo>
                  <a:lnTo>
                    <a:pt x="4495" y="2673"/>
                  </a:lnTo>
                  <a:lnTo>
                    <a:pt x="4558" y="2740"/>
                  </a:lnTo>
                  <a:lnTo>
                    <a:pt x="4619" y="2807"/>
                  </a:lnTo>
                  <a:lnTo>
                    <a:pt x="4677" y="2875"/>
                  </a:lnTo>
                  <a:lnTo>
                    <a:pt x="4736" y="2944"/>
                  </a:lnTo>
                  <a:lnTo>
                    <a:pt x="4793" y="3012"/>
                  </a:lnTo>
                  <a:lnTo>
                    <a:pt x="4849" y="3082"/>
                  </a:lnTo>
                  <a:lnTo>
                    <a:pt x="4904" y="3152"/>
                  </a:lnTo>
                  <a:lnTo>
                    <a:pt x="4957" y="3222"/>
                  </a:lnTo>
                  <a:lnTo>
                    <a:pt x="5009" y="3294"/>
                  </a:lnTo>
                  <a:lnTo>
                    <a:pt x="5060" y="3364"/>
                  </a:lnTo>
                  <a:lnTo>
                    <a:pt x="5109" y="3437"/>
                  </a:lnTo>
                  <a:lnTo>
                    <a:pt x="5158" y="3508"/>
                  </a:lnTo>
                  <a:lnTo>
                    <a:pt x="5204" y="3582"/>
                  </a:lnTo>
                  <a:lnTo>
                    <a:pt x="5332" y="3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143840" y="2923560"/>
              <a:ext cx="247320" cy="276480"/>
            </a:xfrm>
            <a:custGeom>
              <a:avLst/>
              <a:gdLst/>
              <a:ahLst/>
              <a:rect l="l" t="t" r="r" b="b"/>
              <a:pathLst>
                <a:path w="882" h="1025">
                  <a:moveTo>
                    <a:pt x="882" y="1025"/>
                  </a:moveTo>
                  <a:lnTo>
                    <a:pt x="778" y="0"/>
                  </a:lnTo>
                  <a:lnTo>
                    <a:pt x="0" y="494"/>
                  </a:lnTo>
                  <a:lnTo>
                    <a:pt x="882" y="1025"/>
                  </a:lnTo>
                  <a:lnTo>
                    <a:pt x="882"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1" name=""/>
          <p:cNvGrpSpPr/>
          <p:nvPr/>
        </p:nvGrpSpPr>
        <p:grpSpPr>
          <a:xfrm>
            <a:off x="1895400" y="2057400"/>
            <a:ext cx="1533240" cy="1123560"/>
            <a:chOff x="1895400" y="2057400"/>
            <a:chExt cx="1533240" cy="1123560"/>
          </a:xfrm>
        </p:grpSpPr>
        <p:sp>
          <p:nvSpPr>
            <p:cNvPr id="912" name=""/>
            <p:cNvSpPr/>
            <p:nvPr/>
          </p:nvSpPr>
          <p:spPr>
            <a:xfrm>
              <a:off x="1895400" y="2142000"/>
              <a:ext cx="1370160" cy="1038960"/>
            </a:xfrm>
            <a:custGeom>
              <a:avLst/>
              <a:gdLst/>
              <a:ahLst/>
              <a:rect l="l" t="t" r="r" b="b"/>
              <a:pathLst>
                <a:path w="5032" h="3494">
                  <a:moveTo>
                    <a:pt x="4990" y="0"/>
                  </a:moveTo>
                  <a:lnTo>
                    <a:pt x="4885" y="31"/>
                  </a:lnTo>
                  <a:lnTo>
                    <a:pt x="4782" y="64"/>
                  </a:lnTo>
                  <a:lnTo>
                    <a:pt x="4680" y="97"/>
                  </a:lnTo>
                  <a:lnTo>
                    <a:pt x="4578" y="131"/>
                  </a:lnTo>
                  <a:lnTo>
                    <a:pt x="4477" y="165"/>
                  </a:lnTo>
                  <a:lnTo>
                    <a:pt x="4376" y="200"/>
                  </a:lnTo>
                  <a:lnTo>
                    <a:pt x="4275" y="236"/>
                  </a:lnTo>
                  <a:lnTo>
                    <a:pt x="4177" y="274"/>
                  </a:lnTo>
                  <a:lnTo>
                    <a:pt x="4078" y="311"/>
                  </a:lnTo>
                  <a:lnTo>
                    <a:pt x="3980" y="350"/>
                  </a:lnTo>
                  <a:lnTo>
                    <a:pt x="3882" y="390"/>
                  </a:lnTo>
                  <a:lnTo>
                    <a:pt x="3786" y="430"/>
                  </a:lnTo>
                  <a:lnTo>
                    <a:pt x="3691" y="471"/>
                  </a:lnTo>
                  <a:lnTo>
                    <a:pt x="3596" y="512"/>
                  </a:lnTo>
                  <a:lnTo>
                    <a:pt x="3502" y="554"/>
                  </a:lnTo>
                  <a:lnTo>
                    <a:pt x="3408" y="597"/>
                  </a:lnTo>
                  <a:lnTo>
                    <a:pt x="3316" y="641"/>
                  </a:lnTo>
                  <a:lnTo>
                    <a:pt x="3224" y="685"/>
                  </a:lnTo>
                  <a:lnTo>
                    <a:pt x="3133" y="730"/>
                  </a:lnTo>
                  <a:lnTo>
                    <a:pt x="3042" y="777"/>
                  </a:lnTo>
                  <a:lnTo>
                    <a:pt x="2953" y="823"/>
                  </a:lnTo>
                  <a:lnTo>
                    <a:pt x="2865" y="871"/>
                  </a:lnTo>
                  <a:lnTo>
                    <a:pt x="2777" y="919"/>
                  </a:lnTo>
                  <a:lnTo>
                    <a:pt x="2690" y="967"/>
                  </a:lnTo>
                  <a:lnTo>
                    <a:pt x="2604" y="1016"/>
                  </a:lnTo>
                  <a:lnTo>
                    <a:pt x="2519" y="1067"/>
                  </a:lnTo>
                  <a:lnTo>
                    <a:pt x="2433" y="1117"/>
                  </a:lnTo>
                  <a:lnTo>
                    <a:pt x="2350" y="1169"/>
                  </a:lnTo>
                  <a:lnTo>
                    <a:pt x="2268" y="1221"/>
                  </a:lnTo>
                  <a:lnTo>
                    <a:pt x="2186" y="1273"/>
                  </a:lnTo>
                  <a:lnTo>
                    <a:pt x="2105" y="1327"/>
                  </a:lnTo>
                  <a:lnTo>
                    <a:pt x="2025" y="1381"/>
                  </a:lnTo>
                  <a:lnTo>
                    <a:pt x="1947" y="1436"/>
                  </a:lnTo>
                  <a:lnTo>
                    <a:pt x="1868" y="1491"/>
                  </a:lnTo>
                  <a:lnTo>
                    <a:pt x="1792" y="1546"/>
                  </a:lnTo>
                  <a:lnTo>
                    <a:pt x="1716" y="1604"/>
                  </a:lnTo>
                  <a:lnTo>
                    <a:pt x="1640" y="1660"/>
                  </a:lnTo>
                  <a:lnTo>
                    <a:pt x="1565" y="1717"/>
                  </a:lnTo>
                  <a:lnTo>
                    <a:pt x="1493" y="1776"/>
                  </a:lnTo>
                  <a:lnTo>
                    <a:pt x="1420" y="1835"/>
                  </a:lnTo>
                  <a:lnTo>
                    <a:pt x="1348" y="1895"/>
                  </a:lnTo>
                  <a:lnTo>
                    <a:pt x="1278" y="1954"/>
                  </a:lnTo>
                  <a:lnTo>
                    <a:pt x="1209" y="2015"/>
                  </a:lnTo>
                  <a:lnTo>
                    <a:pt x="1141" y="2076"/>
                  </a:lnTo>
                  <a:lnTo>
                    <a:pt x="1073" y="2139"/>
                  </a:lnTo>
                  <a:lnTo>
                    <a:pt x="1007" y="2201"/>
                  </a:lnTo>
                  <a:lnTo>
                    <a:pt x="941" y="2264"/>
                  </a:lnTo>
                  <a:lnTo>
                    <a:pt x="877" y="2327"/>
                  </a:lnTo>
                  <a:lnTo>
                    <a:pt x="815" y="2392"/>
                  </a:lnTo>
                  <a:lnTo>
                    <a:pt x="752" y="2456"/>
                  </a:lnTo>
                  <a:lnTo>
                    <a:pt x="691" y="2521"/>
                  </a:lnTo>
                  <a:lnTo>
                    <a:pt x="632" y="2587"/>
                  </a:lnTo>
                  <a:lnTo>
                    <a:pt x="573" y="2653"/>
                  </a:lnTo>
                  <a:lnTo>
                    <a:pt x="514" y="2719"/>
                  </a:lnTo>
                  <a:lnTo>
                    <a:pt x="458" y="2787"/>
                  </a:lnTo>
                  <a:lnTo>
                    <a:pt x="403" y="2855"/>
                  </a:lnTo>
                  <a:lnTo>
                    <a:pt x="348" y="2922"/>
                  </a:lnTo>
                  <a:lnTo>
                    <a:pt x="295" y="2991"/>
                  </a:lnTo>
                  <a:lnTo>
                    <a:pt x="243" y="3060"/>
                  </a:lnTo>
                  <a:lnTo>
                    <a:pt x="193" y="3130"/>
                  </a:lnTo>
                  <a:lnTo>
                    <a:pt x="142" y="3200"/>
                  </a:lnTo>
                  <a:lnTo>
                    <a:pt x="94" y="3270"/>
                  </a:lnTo>
                  <a:lnTo>
                    <a:pt x="46" y="3342"/>
                  </a:lnTo>
                  <a:lnTo>
                    <a:pt x="0" y="3413"/>
                  </a:lnTo>
                  <a:lnTo>
                    <a:pt x="127" y="3494"/>
                  </a:lnTo>
                  <a:lnTo>
                    <a:pt x="173" y="3424"/>
                  </a:lnTo>
                  <a:lnTo>
                    <a:pt x="219" y="3355"/>
                  </a:lnTo>
                  <a:lnTo>
                    <a:pt x="266" y="3286"/>
                  </a:lnTo>
                  <a:lnTo>
                    <a:pt x="314" y="3218"/>
                  </a:lnTo>
                  <a:lnTo>
                    <a:pt x="364" y="3150"/>
                  </a:lnTo>
                  <a:lnTo>
                    <a:pt x="415" y="3083"/>
                  </a:lnTo>
                  <a:lnTo>
                    <a:pt x="466" y="3016"/>
                  </a:lnTo>
                  <a:lnTo>
                    <a:pt x="520" y="2949"/>
                  </a:lnTo>
                  <a:lnTo>
                    <a:pt x="574" y="2883"/>
                  </a:lnTo>
                  <a:lnTo>
                    <a:pt x="629" y="2818"/>
                  </a:lnTo>
                  <a:lnTo>
                    <a:pt x="686" y="2752"/>
                  </a:lnTo>
                  <a:lnTo>
                    <a:pt x="743" y="2687"/>
                  </a:lnTo>
                  <a:lnTo>
                    <a:pt x="802" y="2623"/>
                  </a:lnTo>
                  <a:lnTo>
                    <a:pt x="861" y="2560"/>
                  </a:lnTo>
                  <a:lnTo>
                    <a:pt x="921" y="2496"/>
                  </a:lnTo>
                  <a:lnTo>
                    <a:pt x="983" y="2433"/>
                  </a:lnTo>
                  <a:lnTo>
                    <a:pt x="1047" y="2372"/>
                  </a:lnTo>
                  <a:lnTo>
                    <a:pt x="1110" y="2310"/>
                  </a:lnTo>
                  <a:lnTo>
                    <a:pt x="1176" y="2249"/>
                  </a:lnTo>
                  <a:lnTo>
                    <a:pt x="1242" y="2188"/>
                  </a:lnTo>
                  <a:lnTo>
                    <a:pt x="1308" y="2128"/>
                  </a:lnTo>
                  <a:lnTo>
                    <a:pt x="1376" y="2068"/>
                  </a:lnTo>
                  <a:lnTo>
                    <a:pt x="1446" y="2010"/>
                  </a:lnTo>
                  <a:lnTo>
                    <a:pt x="1515" y="1951"/>
                  </a:lnTo>
                  <a:lnTo>
                    <a:pt x="1586" y="1893"/>
                  </a:lnTo>
                  <a:lnTo>
                    <a:pt x="1658" y="1836"/>
                  </a:lnTo>
                  <a:lnTo>
                    <a:pt x="1731" y="1780"/>
                  </a:lnTo>
                  <a:lnTo>
                    <a:pt x="1805" y="1723"/>
                  </a:lnTo>
                  <a:lnTo>
                    <a:pt x="1880" y="1668"/>
                  </a:lnTo>
                  <a:lnTo>
                    <a:pt x="1956" y="1613"/>
                  </a:lnTo>
                  <a:lnTo>
                    <a:pt x="2032" y="1558"/>
                  </a:lnTo>
                  <a:lnTo>
                    <a:pt x="2110" y="1505"/>
                  </a:lnTo>
                  <a:lnTo>
                    <a:pt x="2189" y="1451"/>
                  </a:lnTo>
                  <a:lnTo>
                    <a:pt x="2268" y="1400"/>
                  </a:lnTo>
                  <a:lnTo>
                    <a:pt x="2349" y="1347"/>
                  </a:lnTo>
                  <a:lnTo>
                    <a:pt x="2430" y="1296"/>
                  </a:lnTo>
                  <a:lnTo>
                    <a:pt x="2512" y="1246"/>
                  </a:lnTo>
                  <a:lnTo>
                    <a:pt x="2595" y="1196"/>
                  </a:lnTo>
                  <a:lnTo>
                    <a:pt x="2679" y="1146"/>
                  </a:lnTo>
                  <a:lnTo>
                    <a:pt x="2764" y="1098"/>
                  </a:lnTo>
                  <a:lnTo>
                    <a:pt x="2850" y="1050"/>
                  </a:lnTo>
                  <a:lnTo>
                    <a:pt x="2936" y="1002"/>
                  </a:lnTo>
                  <a:lnTo>
                    <a:pt x="3024" y="956"/>
                  </a:lnTo>
                  <a:lnTo>
                    <a:pt x="3112" y="909"/>
                  </a:lnTo>
                  <a:lnTo>
                    <a:pt x="3201" y="865"/>
                  </a:lnTo>
                  <a:lnTo>
                    <a:pt x="3290" y="820"/>
                  </a:lnTo>
                  <a:lnTo>
                    <a:pt x="3380" y="776"/>
                  </a:lnTo>
                  <a:lnTo>
                    <a:pt x="3472" y="733"/>
                  </a:lnTo>
                  <a:lnTo>
                    <a:pt x="3564" y="691"/>
                  </a:lnTo>
                  <a:lnTo>
                    <a:pt x="3657" y="649"/>
                  </a:lnTo>
                  <a:lnTo>
                    <a:pt x="3751" y="608"/>
                  </a:lnTo>
                  <a:lnTo>
                    <a:pt x="3845" y="568"/>
                  </a:lnTo>
                  <a:lnTo>
                    <a:pt x="3940" y="528"/>
                  </a:lnTo>
                  <a:lnTo>
                    <a:pt x="4036" y="489"/>
                  </a:lnTo>
                  <a:lnTo>
                    <a:pt x="4132" y="452"/>
                  </a:lnTo>
                  <a:lnTo>
                    <a:pt x="4230" y="414"/>
                  </a:lnTo>
                  <a:lnTo>
                    <a:pt x="4328" y="378"/>
                  </a:lnTo>
                  <a:lnTo>
                    <a:pt x="4427" y="342"/>
                  </a:lnTo>
                  <a:lnTo>
                    <a:pt x="4525" y="306"/>
                  </a:lnTo>
                  <a:lnTo>
                    <a:pt x="4626" y="272"/>
                  </a:lnTo>
                  <a:lnTo>
                    <a:pt x="4726" y="240"/>
                  </a:lnTo>
                  <a:lnTo>
                    <a:pt x="4828" y="207"/>
                  </a:lnTo>
                  <a:lnTo>
                    <a:pt x="4930" y="175"/>
                  </a:lnTo>
                  <a:lnTo>
                    <a:pt x="5032" y="143"/>
                  </a:lnTo>
                  <a:lnTo>
                    <a:pt x="4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212640" y="2057400"/>
              <a:ext cx="216000" cy="224280"/>
            </a:xfrm>
            <a:custGeom>
              <a:avLst/>
              <a:gdLst/>
              <a:ahLst/>
              <a:rect l="l" t="t" r="r" b="b"/>
              <a:pathLst>
                <a:path w="796" h="753">
                  <a:moveTo>
                    <a:pt x="0" y="0"/>
                  </a:moveTo>
                  <a:lnTo>
                    <a:pt x="796" y="174"/>
                  </a:lnTo>
                  <a:lnTo>
                    <a:pt x="224" y="753"/>
                  </a:lnTo>
                  <a:lnTo>
                    <a:pt x="0" y="0"/>
                  </a:lnTo>
                  <a:lnTo>
                    <a:pt x="796" y="1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4" name=""/>
          <p:cNvGrpSpPr/>
          <p:nvPr/>
        </p:nvGrpSpPr>
        <p:grpSpPr>
          <a:xfrm>
            <a:off x="1752480" y="4572000"/>
            <a:ext cx="1741320" cy="1320480"/>
            <a:chOff x="1752480" y="4572000"/>
            <a:chExt cx="1741320" cy="1320480"/>
          </a:xfrm>
        </p:grpSpPr>
        <p:sp>
          <p:nvSpPr>
            <p:cNvPr id="915" name=""/>
            <p:cNvSpPr/>
            <p:nvPr/>
          </p:nvSpPr>
          <p:spPr>
            <a:xfrm>
              <a:off x="1834920" y="4726440"/>
              <a:ext cx="1658880" cy="1166040"/>
            </a:xfrm>
            <a:custGeom>
              <a:avLst/>
              <a:gdLst/>
              <a:ahLst/>
              <a:rect l="l" t="t" r="r" b="b"/>
              <a:pathLst>
                <a:path w="5500" h="4384">
                  <a:moveTo>
                    <a:pt x="0" y="54"/>
                  </a:moveTo>
                  <a:lnTo>
                    <a:pt x="37" y="146"/>
                  </a:lnTo>
                  <a:lnTo>
                    <a:pt x="75" y="236"/>
                  </a:lnTo>
                  <a:lnTo>
                    <a:pt x="115" y="326"/>
                  </a:lnTo>
                  <a:lnTo>
                    <a:pt x="158" y="416"/>
                  </a:lnTo>
                  <a:lnTo>
                    <a:pt x="202" y="504"/>
                  </a:lnTo>
                  <a:lnTo>
                    <a:pt x="248" y="594"/>
                  </a:lnTo>
                  <a:lnTo>
                    <a:pt x="295" y="682"/>
                  </a:lnTo>
                  <a:lnTo>
                    <a:pt x="344" y="768"/>
                  </a:lnTo>
                  <a:lnTo>
                    <a:pt x="396" y="855"/>
                  </a:lnTo>
                  <a:lnTo>
                    <a:pt x="448" y="941"/>
                  </a:lnTo>
                  <a:lnTo>
                    <a:pt x="502" y="1026"/>
                  </a:lnTo>
                  <a:lnTo>
                    <a:pt x="559" y="1112"/>
                  </a:lnTo>
                  <a:lnTo>
                    <a:pt x="617" y="1195"/>
                  </a:lnTo>
                  <a:lnTo>
                    <a:pt x="677" y="1279"/>
                  </a:lnTo>
                  <a:lnTo>
                    <a:pt x="738" y="1362"/>
                  </a:lnTo>
                  <a:lnTo>
                    <a:pt x="802" y="1444"/>
                  </a:lnTo>
                  <a:lnTo>
                    <a:pt x="866" y="1525"/>
                  </a:lnTo>
                  <a:lnTo>
                    <a:pt x="932" y="1606"/>
                  </a:lnTo>
                  <a:lnTo>
                    <a:pt x="1000" y="1687"/>
                  </a:lnTo>
                  <a:lnTo>
                    <a:pt x="1069" y="1765"/>
                  </a:lnTo>
                  <a:lnTo>
                    <a:pt x="1141" y="1844"/>
                  </a:lnTo>
                  <a:lnTo>
                    <a:pt x="1212" y="1921"/>
                  </a:lnTo>
                  <a:lnTo>
                    <a:pt x="1286" y="1999"/>
                  </a:lnTo>
                  <a:lnTo>
                    <a:pt x="1362" y="2075"/>
                  </a:lnTo>
                  <a:lnTo>
                    <a:pt x="1440" y="2150"/>
                  </a:lnTo>
                  <a:lnTo>
                    <a:pt x="1517" y="2225"/>
                  </a:lnTo>
                  <a:lnTo>
                    <a:pt x="1598" y="2299"/>
                  </a:lnTo>
                  <a:lnTo>
                    <a:pt x="1679" y="2372"/>
                  </a:lnTo>
                  <a:lnTo>
                    <a:pt x="1762" y="2444"/>
                  </a:lnTo>
                  <a:lnTo>
                    <a:pt x="1847" y="2516"/>
                  </a:lnTo>
                  <a:lnTo>
                    <a:pt x="1932" y="2586"/>
                  </a:lnTo>
                  <a:lnTo>
                    <a:pt x="2019" y="2655"/>
                  </a:lnTo>
                  <a:lnTo>
                    <a:pt x="2108" y="2725"/>
                  </a:lnTo>
                  <a:lnTo>
                    <a:pt x="2198" y="2793"/>
                  </a:lnTo>
                  <a:lnTo>
                    <a:pt x="2289" y="2861"/>
                  </a:lnTo>
                  <a:lnTo>
                    <a:pt x="2382" y="2926"/>
                  </a:lnTo>
                  <a:lnTo>
                    <a:pt x="2476" y="2992"/>
                  </a:lnTo>
                  <a:lnTo>
                    <a:pt x="2571" y="3057"/>
                  </a:lnTo>
                  <a:lnTo>
                    <a:pt x="2668" y="3120"/>
                  </a:lnTo>
                  <a:lnTo>
                    <a:pt x="2765" y="3183"/>
                  </a:lnTo>
                  <a:lnTo>
                    <a:pt x="2864" y="3244"/>
                  </a:lnTo>
                  <a:lnTo>
                    <a:pt x="2965" y="3305"/>
                  </a:lnTo>
                  <a:lnTo>
                    <a:pt x="3067" y="3365"/>
                  </a:lnTo>
                  <a:lnTo>
                    <a:pt x="3169" y="3424"/>
                  </a:lnTo>
                  <a:lnTo>
                    <a:pt x="3273" y="3482"/>
                  </a:lnTo>
                  <a:lnTo>
                    <a:pt x="3379" y="3539"/>
                  </a:lnTo>
                  <a:lnTo>
                    <a:pt x="3485" y="3595"/>
                  </a:lnTo>
                  <a:lnTo>
                    <a:pt x="3592" y="3650"/>
                  </a:lnTo>
                  <a:lnTo>
                    <a:pt x="3702" y="3704"/>
                  </a:lnTo>
                  <a:lnTo>
                    <a:pt x="3811" y="3757"/>
                  </a:lnTo>
                  <a:lnTo>
                    <a:pt x="3922" y="3808"/>
                  </a:lnTo>
                  <a:lnTo>
                    <a:pt x="4034" y="3859"/>
                  </a:lnTo>
                  <a:lnTo>
                    <a:pt x="4147" y="3909"/>
                  </a:lnTo>
                  <a:lnTo>
                    <a:pt x="4261" y="3957"/>
                  </a:lnTo>
                  <a:lnTo>
                    <a:pt x="4376" y="4005"/>
                  </a:lnTo>
                  <a:lnTo>
                    <a:pt x="4492" y="4052"/>
                  </a:lnTo>
                  <a:lnTo>
                    <a:pt x="4610" y="4097"/>
                  </a:lnTo>
                  <a:lnTo>
                    <a:pt x="4728" y="4142"/>
                  </a:lnTo>
                  <a:lnTo>
                    <a:pt x="4848" y="4185"/>
                  </a:lnTo>
                  <a:lnTo>
                    <a:pt x="4967" y="4227"/>
                  </a:lnTo>
                  <a:lnTo>
                    <a:pt x="5088" y="4268"/>
                  </a:lnTo>
                  <a:lnTo>
                    <a:pt x="5210" y="4308"/>
                  </a:lnTo>
                  <a:lnTo>
                    <a:pt x="5333" y="4347"/>
                  </a:lnTo>
                  <a:lnTo>
                    <a:pt x="5458" y="4384"/>
                  </a:lnTo>
                  <a:lnTo>
                    <a:pt x="5500" y="4240"/>
                  </a:lnTo>
                  <a:lnTo>
                    <a:pt x="5378" y="4204"/>
                  </a:lnTo>
                  <a:lnTo>
                    <a:pt x="5256" y="4165"/>
                  </a:lnTo>
                  <a:lnTo>
                    <a:pt x="5135" y="4125"/>
                  </a:lnTo>
                  <a:lnTo>
                    <a:pt x="5017" y="4085"/>
                  </a:lnTo>
                  <a:lnTo>
                    <a:pt x="4897" y="4043"/>
                  </a:lnTo>
                  <a:lnTo>
                    <a:pt x="4780" y="4001"/>
                  </a:lnTo>
                  <a:lnTo>
                    <a:pt x="4664" y="3957"/>
                  </a:lnTo>
                  <a:lnTo>
                    <a:pt x="4547" y="3912"/>
                  </a:lnTo>
                  <a:lnTo>
                    <a:pt x="4432" y="3866"/>
                  </a:lnTo>
                  <a:lnTo>
                    <a:pt x="4319" y="3819"/>
                  </a:lnTo>
                  <a:lnTo>
                    <a:pt x="4206" y="3771"/>
                  </a:lnTo>
                  <a:lnTo>
                    <a:pt x="4095" y="3722"/>
                  </a:lnTo>
                  <a:lnTo>
                    <a:pt x="3984" y="3672"/>
                  </a:lnTo>
                  <a:lnTo>
                    <a:pt x="3875" y="3621"/>
                  </a:lnTo>
                  <a:lnTo>
                    <a:pt x="3767" y="3569"/>
                  </a:lnTo>
                  <a:lnTo>
                    <a:pt x="3660" y="3515"/>
                  </a:lnTo>
                  <a:lnTo>
                    <a:pt x="3554" y="3461"/>
                  </a:lnTo>
                  <a:lnTo>
                    <a:pt x="3449" y="3406"/>
                  </a:lnTo>
                  <a:lnTo>
                    <a:pt x="3346" y="3350"/>
                  </a:lnTo>
                  <a:lnTo>
                    <a:pt x="3243" y="3294"/>
                  </a:lnTo>
                  <a:lnTo>
                    <a:pt x="3142" y="3235"/>
                  </a:lnTo>
                  <a:lnTo>
                    <a:pt x="3042" y="3176"/>
                  </a:lnTo>
                  <a:lnTo>
                    <a:pt x="2944" y="3116"/>
                  </a:lnTo>
                  <a:lnTo>
                    <a:pt x="2845" y="3055"/>
                  </a:lnTo>
                  <a:lnTo>
                    <a:pt x="2749" y="2994"/>
                  </a:lnTo>
                  <a:lnTo>
                    <a:pt x="2655" y="2931"/>
                  </a:lnTo>
                  <a:lnTo>
                    <a:pt x="2561" y="2868"/>
                  </a:lnTo>
                  <a:lnTo>
                    <a:pt x="2469" y="2803"/>
                  </a:lnTo>
                  <a:lnTo>
                    <a:pt x="2377" y="2739"/>
                  </a:lnTo>
                  <a:lnTo>
                    <a:pt x="2288" y="2673"/>
                  </a:lnTo>
                  <a:lnTo>
                    <a:pt x="2200" y="2606"/>
                  </a:lnTo>
                  <a:lnTo>
                    <a:pt x="2113" y="2538"/>
                  </a:lnTo>
                  <a:lnTo>
                    <a:pt x="2027" y="2470"/>
                  </a:lnTo>
                  <a:lnTo>
                    <a:pt x="1943" y="2400"/>
                  </a:lnTo>
                  <a:lnTo>
                    <a:pt x="1860" y="2331"/>
                  </a:lnTo>
                  <a:lnTo>
                    <a:pt x="1779" y="2259"/>
                  </a:lnTo>
                  <a:lnTo>
                    <a:pt x="1699" y="2188"/>
                  </a:lnTo>
                  <a:lnTo>
                    <a:pt x="1620" y="2116"/>
                  </a:lnTo>
                  <a:lnTo>
                    <a:pt x="1543" y="2042"/>
                  </a:lnTo>
                  <a:lnTo>
                    <a:pt x="1468" y="1968"/>
                  </a:lnTo>
                  <a:lnTo>
                    <a:pt x="1394" y="1894"/>
                  </a:lnTo>
                  <a:lnTo>
                    <a:pt x="1321" y="1818"/>
                  </a:lnTo>
                  <a:lnTo>
                    <a:pt x="1251" y="1742"/>
                  </a:lnTo>
                  <a:lnTo>
                    <a:pt x="1182" y="1666"/>
                  </a:lnTo>
                  <a:lnTo>
                    <a:pt x="1114" y="1588"/>
                  </a:lnTo>
                  <a:lnTo>
                    <a:pt x="1047" y="1510"/>
                  </a:lnTo>
                  <a:lnTo>
                    <a:pt x="982" y="1431"/>
                  </a:lnTo>
                  <a:lnTo>
                    <a:pt x="920" y="1351"/>
                  </a:lnTo>
                  <a:lnTo>
                    <a:pt x="858" y="1271"/>
                  </a:lnTo>
                  <a:lnTo>
                    <a:pt x="798" y="1191"/>
                  </a:lnTo>
                  <a:lnTo>
                    <a:pt x="741" y="1110"/>
                  </a:lnTo>
                  <a:lnTo>
                    <a:pt x="684" y="1028"/>
                  </a:lnTo>
                  <a:lnTo>
                    <a:pt x="629" y="945"/>
                  </a:lnTo>
                  <a:lnTo>
                    <a:pt x="575" y="862"/>
                  </a:lnTo>
                  <a:lnTo>
                    <a:pt x="525" y="778"/>
                  </a:lnTo>
                  <a:lnTo>
                    <a:pt x="474" y="693"/>
                  </a:lnTo>
                  <a:lnTo>
                    <a:pt x="427" y="609"/>
                  </a:lnTo>
                  <a:lnTo>
                    <a:pt x="380" y="523"/>
                  </a:lnTo>
                  <a:lnTo>
                    <a:pt x="336" y="438"/>
                  </a:lnTo>
                  <a:lnTo>
                    <a:pt x="294" y="351"/>
                  </a:lnTo>
                  <a:lnTo>
                    <a:pt x="253" y="264"/>
                  </a:lnTo>
                  <a:lnTo>
                    <a:pt x="213" y="176"/>
                  </a:lnTo>
                  <a:lnTo>
                    <a:pt x="176" y="88"/>
                  </a:lnTo>
                  <a:lnTo>
                    <a:pt x="140"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752480" y="4572000"/>
              <a:ext cx="219600" cy="214200"/>
            </a:xfrm>
            <a:custGeom>
              <a:avLst/>
              <a:gdLst/>
              <a:ahLst/>
              <a:rect l="l" t="t" r="r" b="b"/>
              <a:pathLst>
                <a:path w="732" h="806">
                  <a:moveTo>
                    <a:pt x="0" y="806"/>
                  </a:moveTo>
                  <a:lnTo>
                    <a:pt x="107" y="0"/>
                  </a:lnTo>
                  <a:lnTo>
                    <a:pt x="732" y="521"/>
                  </a:lnTo>
                  <a:lnTo>
                    <a:pt x="0" y="806"/>
                  </a:lnTo>
                  <a:lnTo>
                    <a:pt x="107" y="0"/>
                  </a:lnTo>
                  <a:lnTo>
                    <a:pt x="0"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7" name=""/>
          <p:cNvGrpSpPr/>
          <p:nvPr/>
        </p:nvGrpSpPr>
        <p:grpSpPr>
          <a:xfrm>
            <a:off x="5791320" y="4502160"/>
            <a:ext cx="1828440" cy="1517400"/>
            <a:chOff x="5791320" y="4502160"/>
            <a:chExt cx="1828440" cy="1517400"/>
          </a:xfrm>
        </p:grpSpPr>
        <p:sp>
          <p:nvSpPr>
            <p:cNvPr id="918" name=""/>
            <p:cNvSpPr/>
            <p:nvPr/>
          </p:nvSpPr>
          <p:spPr>
            <a:xfrm>
              <a:off x="5965200" y="4502160"/>
              <a:ext cx="1654560" cy="1424880"/>
            </a:xfrm>
            <a:custGeom>
              <a:avLst/>
              <a:gdLst/>
              <a:ahLst/>
              <a:rect l="l" t="t" r="r" b="b"/>
              <a:pathLst>
                <a:path w="5800" h="4471">
                  <a:moveTo>
                    <a:pt x="40" y="4471"/>
                  </a:moveTo>
                  <a:lnTo>
                    <a:pt x="170" y="4435"/>
                  </a:lnTo>
                  <a:lnTo>
                    <a:pt x="300" y="4397"/>
                  </a:lnTo>
                  <a:lnTo>
                    <a:pt x="429" y="4359"/>
                  </a:lnTo>
                  <a:lnTo>
                    <a:pt x="557" y="4320"/>
                  </a:lnTo>
                  <a:lnTo>
                    <a:pt x="684" y="4279"/>
                  </a:lnTo>
                  <a:lnTo>
                    <a:pt x="810" y="4237"/>
                  </a:lnTo>
                  <a:lnTo>
                    <a:pt x="935" y="4193"/>
                  </a:lnTo>
                  <a:lnTo>
                    <a:pt x="1059" y="4147"/>
                  </a:lnTo>
                  <a:lnTo>
                    <a:pt x="1181" y="4102"/>
                  </a:lnTo>
                  <a:lnTo>
                    <a:pt x="1303" y="4055"/>
                  </a:lnTo>
                  <a:lnTo>
                    <a:pt x="1424" y="4007"/>
                  </a:lnTo>
                  <a:lnTo>
                    <a:pt x="1544" y="3957"/>
                  </a:lnTo>
                  <a:lnTo>
                    <a:pt x="1662" y="3906"/>
                  </a:lnTo>
                  <a:lnTo>
                    <a:pt x="1779" y="3854"/>
                  </a:lnTo>
                  <a:lnTo>
                    <a:pt x="1895" y="3801"/>
                  </a:lnTo>
                  <a:lnTo>
                    <a:pt x="2010" y="3747"/>
                  </a:lnTo>
                  <a:lnTo>
                    <a:pt x="2123" y="3692"/>
                  </a:lnTo>
                  <a:lnTo>
                    <a:pt x="2236" y="3636"/>
                  </a:lnTo>
                  <a:lnTo>
                    <a:pt x="2347" y="3579"/>
                  </a:lnTo>
                  <a:lnTo>
                    <a:pt x="2458" y="3521"/>
                  </a:lnTo>
                  <a:lnTo>
                    <a:pt x="2566" y="3461"/>
                  </a:lnTo>
                  <a:lnTo>
                    <a:pt x="2674" y="3400"/>
                  </a:lnTo>
                  <a:lnTo>
                    <a:pt x="2779" y="3339"/>
                  </a:lnTo>
                  <a:lnTo>
                    <a:pt x="2885" y="3276"/>
                  </a:lnTo>
                  <a:lnTo>
                    <a:pt x="2988" y="3213"/>
                  </a:lnTo>
                  <a:lnTo>
                    <a:pt x="3090" y="3148"/>
                  </a:lnTo>
                  <a:lnTo>
                    <a:pt x="3191" y="3082"/>
                  </a:lnTo>
                  <a:lnTo>
                    <a:pt x="3290" y="3016"/>
                  </a:lnTo>
                  <a:lnTo>
                    <a:pt x="3388" y="2949"/>
                  </a:lnTo>
                  <a:lnTo>
                    <a:pt x="3484" y="2880"/>
                  </a:lnTo>
                  <a:lnTo>
                    <a:pt x="3579" y="2810"/>
                  </a:lnTo>
                  <a:lnTo>
                    <a:pt x="3673" y="2740"/>
                  </a:lnTo>
                  <a:lnTo>
                    <a:pt x="3766" y="2668"/>
                  </a:lnTo>
                  <a:lnTo>
                    <a:pt x="3856" y="2597"/>
                  </a:lnTo>
                  <a:lnTo>
                    <a:pt x="3945" y="2523"/>
                  </a:lnTo>
                  <a:lnTo>
                    <a:pt x="4033" y="2449"/>
                  </a:lnTo>
                  <a:lnTo>
                    <a:pt x="4119" y="2374"/>
                  </a:lnTo>
                  <a:lnTo>
                    <a:pt x="4203" y="2298"/>
                  </a:lnTo>
                  <a:lnTo>
                    <a:pt x="4287" y="2222"/>
                  </a:lnTo>
                  <a:lnTo>
                    <a:pt x="4369" y="2144"/>
                  </a:lnTo>
                  <a:lnTo>
                    <a:pt x="4447" y="2066"/>
                  </a:lnTo>
                  <a:lnTo>
                    <a:pt x="4526" y="1986"/>
                  </a:lnTo>
                  <a:lnTo>
                    <a:pt x="4602" y="1906"/>
                  </a:lnTo>
                  <a:lnTo>
                    <a:pt x="4677" y="1825"/>
                  </a:lnTo>
                  <a:lnTo>
                    <a:pt x="4751" y="1744"/>
                  </a:lnTo>
                  <a:lnTo>
                    <a:pt x="4822" y="1661"/>
                  </a:lnTo>
                  <a:lnTo>
                    <a:pt x="4892" y="1578"/>
                  </a:lnTo>
                  <a:lnTo>
                    <a:pt x="4960" y="1493"/>
                  </a:lnTo>
                  <a:lnTo>
                    <a:pt x="5027" y="1409"/>
                  </a:lnTo>
                  <a:lnTo>
                    <a:pt x="5091" y="1323"/>
                  </a:lnTo>
                  <a:lnTo>
                    <a:pt x="5154" y="1237"/>
                  </a:lnTo>
                  <a:lnTo>
                    <a:pt x="5215" y="1151"/>
                  </a:lnTo>
                  <a:lnTo>
                    <a:pt x="5274" y="1063"/>
                  </a:lnTo>
                  <a:lnTo>
                    <a:pt x="5332" y="974"/>
                  </a:lnTo>
                  <a:lnTo>
                    <a:pt x="5387" y="884"/>
                  </a:lnTo>
                  <a:lnTo>
                    <a:pt x="5441" y="795"/>
                  </a:lnTo>
                  <a:lnTo>
                    <a:pt x="5493" y="705"/>
                  </a:lnTo>
                  <a:lnTo>
                    <a:pt x="5542" y="614"/>
                  </a:lnTo>
                  <a:lnTo>
                    <a:pt x="5590" y="522"/>
                  </a:lnTo>
                  <a:lnTo>
                    <a:pt x="5636" y="429"/>
                  </a:lnTo>
                  <a:lnTo>
                    <a:pt x="5680" y="337"/>
                  </a:lnTo>
                  <a:lnTo>
                    <a:pt x="5721" y="243"/>
                  </a:lnTo>
                  <a:lnTo>
                    <a:pt x="5762" y="149"/>
                  </a:lnTo>
                  <a:lnTo>
                    <a:pt x="5800" y="54"/>
                  </a:lnTo>
                  <a:lnTo>
                    <a:pt x="5660" y="0"/>
                  </a:lnTo>
                  <a:lnTo>
                    <a:pt x="5623" y="92"/>
                  </a:lnTo>
                  <a:lnTo>
                    <a:pt x="5584" y="183"/>
                  </a:lnTo>
                  <a:lnTo>
                    <a:pt x="5543" y="273"/>
                  </a:lnTo>
                  <a:lnTo>
                    <a:pt x="5501" y="364"/>
                  </a:lnTo>
                  <a:lnTo>
                    <a:pt x="5456" y="454"/>
                  </a:lnTo>
                  <a:lnTo>
                    <a:pt x="5409" y="543"/>
                  </a:lnTo>
                  <a:lnTo>
                    <a:pt x="5361" y="631"/>
                  </a:lnTo>
                  <a:lnTo>
                    <a:pt x="5311" y="719"/>
                  </a:lnTo>
                  <a:lnTo>
                    <a:pt x="5258" y="807"/>
                  </a:lnTo>
                  <a:lnTo>
                    <a:pt x="5204" y="894"/>
                  </a:lnTo>
                  <a:lnTo>
                    <a:pt x="5149" y="979"/>
                  </a:lnTo>
                  <a:lnTo>
                    <a:pt x="5091" y="1065"/>
                  </a:lnTo>
                  <a:lnTo>
                    <a:pt x="5032" y="1150"/>
                  </a:lnTo>
                  <a:lnTo>
                    <a:pt x="4971" y="1234"/>
                  </a:lnTo>
                  <a:lnTo>
                    <a:pt x="4907" y="1317"/>
                  </a:lnTo>
                  <a:lnTo>
                    <a:pt x="4843" y="1401"/>
                  </a:lnTo>
                  <a:lnTo>
                    <a:pt x="4776" y="1483"/>
                  </a:lnTo>
                  <a:lnTo>
                    <a:pt x="4708" y="1564"/>
                  </a:lnTo>
                  <a:lnTo>
                    <a:pt x="4637" y="1644"/>
                  </a:lnTo>
                  <a:lnTo>
                    <a:pt x="4566" y="1724"/>
                  </a:lnTo>
                  <a:lnTo>
                    <a:pt x="4493" y="1803"/>
                  </a:lnTo>
                  <a:lnTo>
                    <a:pt x="4418" y="1881"/>
                  </a:lnTo>
                  <a:lnTo>
                    <a:pt x="4342" y="1959"/>
                  </a:lnTo>
                  <a:lnTo>
                    <a:pt x="4263" y="2036"/>
                  </a:lnTo>
                  <a:lnTo>
                    <a:pt x="4183" y="2112"/>
                  </a:lnTo>
                  <a:lnTo>
                    <a:pt x="4102" y="2188"/>
                  </a:lnTo>
                  <a:lnTo>
                    <a:pt x="4019" y="2261"/>
                  </a:lnTo>
                  <a:lnTo>
                    <a:pt x="3935" y="2335"/>
                  </a:lnTo>
                  <a:lnTo>
                    <a:pt x="3849" y="2408"/>
                  </a:lnTo>
                  <a:lnTo>
                    <a:pt x="3761" y="2480"/>
                  </a:lnTo>
                  <a:lnTo>
                    <a:pt x="3672" y="2551"/>
                  </a:lnTo>
                  <a:lnTo>
                    <a:pt x="3582" y="2620"/>
                  </a:lnTo>
                  <a:lnTo>
                    <a:pt x="3490" y="2690"/>
                  </a:lnTo>
                  <a:lnTo>
                    <a:pt x="3396" y="2759"/>
                  </a:lnTo>
                  <a:lnTo>
                    <a:pt x="3302" y="2826"/>
                  </a:lnTo>
                  <a:lnTo>
                    <a:pt x="3206" y="2892"/>
                  </a:lnTo>
                  <a:lnTo>
                    <a:pt x="3108" y="2957"/>
                  </a:lnTo>
                  <a:lnTo>
                    <a:pt x="3009" y="3021"/>
                  </a:lnTo>
                  <a:lnTo>
                    <a:pt x="2908" y="3086"/>
                  </a:lnTo>
                  <a:lnTo>
                    <a:pt x="2806" y="3148"/>
                  </a:lnTo>
                  <a:lnTo>
                    <a:pt x="2703" y="3210"/>
                  </a:lnTo>
                  <a:lnTo>
                    <a:pt x="2599" y="3270"/>
                  </a:lnTo>
                  <a:lnTo>
                    <a:pt x="2493" y="3330"/>
                  </a:lnTo>
                  <a:lnTo>
                    <a:pt x="2386" y="3389"/>
                  </a:lnTo>
                  <a:lnTo>
                    <a:pt x="2278" y="3446"/>
                  </a:lnTo>
                  <a:lnTo>
                    <a:pt x="2168" y="3502"/>
                  </a:lnTo>
                  <a:lnTo>
                    <a:pt x="2058" y="3557"/>
                  </a:lnTo>
                  <a:lnTo>
                    <a:pt x="1945" y="3611"/>
                  </a:lnTo>
                  <a:lnTo>
                    <a:pt x="1832" y="3665"/>
                  </a:lnTo>
                  <a:lnTo>
                    <a:pt x="1718" y="3717"/>
                  </a:lnTo>
                  <a:lnTo>
                    <a:pt x="1603" y="3769"/>
                  </a:lnTo>
                  <a:lnTo>
                    <a:pt x="1485" y="3819"/>
                  </a:lnTo>
                  <a:lnTo>
                    <a:pt x="1368" y="3867"/>
                  </a:lnTo>
                  <a:lnTo>
                    <a:pt x="1248" y="3915"/>
                  </a:lnTo>
                  <a:lnTo>
                    <a:pt x="1129" y="3961"/>
                  </a:lnTo>
                  <a:lnTo>
                    <a:pt x="1007" y="4007"/>
                  </a:lnTo>
                  <a:lnTo>
                    <a:pt x="885" y="4051"/>
                  </a:lnTo>
                  <a:lnTo>
                    <a:pt x="761" y="4093"/>
                  </a:lnTo>
                  <a:lnTo>
                    <a:pt x="637" y="4136"/>
                  </a:lnTo>
                  <a:lnTo>
                    <a:pt x="512" y="4176"/>
                  </a:lnTo>
                  <a:lnTo>
                    <a:pt x="386" y="4215"/>
                  </a:lnTo>
                  <a:lnTo>
                    <a:pt x="258" y="4253"/>
                  </a:lnTo>
                  <a:lnTo>
                    <a:pt x="130" y="4291"/>
                  </a:lnTo>
                  <a:lnTo>
                    <a:pt x="0" y="4326"/>
                  </a:lnTo>
                  <a:lnTo>
                    <a:pt x="40" y="4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791320" y="5777640"/>
              <a:ext cx="225360" cy="241920"/>
            </a:xfrm>
            <a:custGeom>
              <a:avLst/>
              <a:gdLst/>
              <a:ahLst/>
              <a:rect l="l" t="t" r="r" b="b"/>
              <a:pathLst>
                <a:path w="792" h="759">
                  <a:moveTo>
                    <a:pt x="792" y="759"/>
                  </a:moveTo>
                  <a:lnTo>
                    <a:pt x="0" y="565"/>
                  </a:lnTo>
                  <a:lnTo>
                    <a:pt x="588" y="0"/>
                  </a:lnTo>
                  <a:lnTo>
                    <a:pt x="792" y="759"/>
                  </a:lnTo>
                  <a:lnTo>
                    <a:pt x="0" y="565"/>
                  </a:lnTo>
                  <a:lnTo>
                    <a:pt x="792"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0" name=""/>
          <p:cNvSpPr/>
          <p:nvPr/>
        </p:nvSpPr>
        <p:spPr>
          <a:xfrm>
            <a:off x="4602240" y="4516560"/>
            <a:ext cx="47520" cy="209520"/>
          </a:xfrm>
          <a:custGeom>
            <a:avLst/>
            <a:gdLst/>
            <a:ahLst/>
            <a:rect l="l" t="t" r="r" b="b"/>
            <a:pathLst>
              <a:path w="151" h="660">
                <a:moveTo>
                  <a:pt x="75" y="660"/>
                </a:moveTo>
                <a:lnTo>
                  <a:pt x="151" y="660"/>
                </a:lnTo>
                <a:lnTo>
                  <a:pt x="151" y="0"/>
                </a:lnTo>
                <a:lnTo>
                  <a:pt x="0" y="0"/>
                </a:lnTo>
                <a:lnTo>
                  <a:pt x="0" y="660"/>
                </a:lnTo>
                <a:lnTo>
                  <a:pt x="75" y="6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500720" y="4707000"/>
            <a:ext cx="249120" cy="226800"/>
          </a:xfrm>
          <a:custGeom>
            <a:avLst/>
            <a:gdLst/>
            <a:ahLst/>
            <a:rect l="l" t="t" r="r" b="b"/>
            <a:pathLst>
              <a:path w="787" h="717">
                <a:moveTo>
                  <a:pt x="787" y="0"/>
                </a:moveTo>
                <a:lnTo>
                  <a:pt x="393" y="717"/>
                </a:lnTo>
                <a:lnTo>
                  <a:pt x="0" y="0"/>
                </a:lnTo>
                <a:lnTo>
                  <a:pt x="787" y="0"/>
                </a:lnTo>
                <a:lnTo>
                  <a:pt x="393" y="717"/>
                </a:lnTo>
                <a:lnTo>
                  <a:pt x="7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500720" y="2771640"/>
            <a:ext cx="249120" cy="228600"/>
          </a:xfrm>
          <a:custGeom>
            <a:avLst/>
            <a:gdLst/>
            <a:ahLst/>
            <a:rect l="l" t="t" r="r" b="b"/>
            <a:pathLst>
              <a:path w="787" h="716">
                <a:moveTo>
                  <a:pt x="787" y="716"/>
                </a:moveTo>
                <a:lnTo>
                  <a:pt x="393" y="0"/>
                </a:lnTo>
                <a:lnTo>
                  <a:pt x="0" y="716"/>
                </a:lnTo>
                <a:lnTo>
                  <a:pt x="787" y="716"/>
                </a:lnTo>
                <a:lnTo>
                  <a:pt x="393" y="0"/>
                </a:lnTo>
                <a:lnTo>
                  <a:pt x="787" y="7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602240" y="2979720"/>
            <a:ext cx="47520" cy="150840"/>
          </a:xfrm>
          <a:custGeom>
            <a:avLst/>
            <a:gdLst/>
            <a:ahLst/>
            <a:rect l="l" t="t" r="r" b="b"/>
            <a:pathLst>
              <a:path w="151" h="476">
                <a:moveTo>
                  <a:pt x="75" y="476"/>
                </a:moveTo>
                <a:lnTo>
                  <a:pt x="151" y="476"/>
                </a:lnTo>
                <a:lnTo>
                  <a:pt x="151" y="0"/>
                </a:lnTo>
                <a:lnTo>
                  <a:pt x="0" y="0"/>
                </a:lnTo>
                <a:lnTo>
                  <a:pt x="0" y="476"/>
                </a:lnTo>
                <a:lnTo>
                  <a:pt x="75"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932200" y="3843360"/>
            <a:ext cx="549360" cy="47520"/>
          </a:xfrm>
          <a:custGeom>
            <a:avLst/>
            <a:gdLst/>
            <a:ahLst/>
            <a:rect l="l" t="t" r="r" b="b"/>
            <a:pathLst>
              <a:path w="1728" h="150">
                <a:moveTo>
                  <a:pt x="0" y="75"/>
                </a:moveTo>
                <a:lnTo>
                  <a:pt x="0" y="150"/>
                </a:lnTo>
                <a:lnTo>
                  <a:pt x="1728" y="150"/>
                </a:lnTo>
                <a:lnTo>
                  <a:pt x="1728" y="0"/>
                </a:lnTo>
                <a:lnTo>
                  <a:pt x="0" y="0"/>
                </a:lnTo>
                <a:lnTo>
                  <a:pt x="0"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5" name=""/>
          <p:cNvSpPr/>
          <p:nvPr/>
        </p:nvSpPr>
        <p:spPr>
          <a:xfrm>
            <a:off x="2895480" y="3743280"/>
            <a:ext cx="227160" cy="249120"/>
          </a:xfrm>
          <a:custGeom>
            <a:avLst/>
            <a:gdLst/>
            <a:ahLst/>
            <a:rect l="l" t="t" r="r" b="b"/>
            <a:pathLst>
              <a:path w="717" h="787">
                <a:moveTo>
                  <a:pt x="717" y="787"/>
                </a:moveTo>
                <a:lnTo>
                  <a:pt x="0" y="393"/>
                </a:lnTo>
                <a:lnTo>
                  <a:pt x="717" y="0"/>
                </a:lnTo>
                <a:lnTo>
                  <a:pt x="717" y="787"/>
                </a:lnTo>
                <a:lnTo>
                  <a:pt x="0" y="393"/>
                </a:lnTo>
                <a:lnTo>
                  <a:pt x="717" y="7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778360" y="3533760"/>
            <a:ext cx="382680" cy="47520"/>
          </a:xfrm>
          <a:custGeom>
            <a:avLst/>
            <a:gdLst/>
            <a:ahLst/>
            <a:rect l="l" t="t" r="r" b="b"/>
            <a:pathLst>
              <a:path w="1203" h="150">
                <a:moveTo>
                  <a:pt x="1203" y="75"/>
                </a:moveTo>
                <a:lnTo>
                  <a:pt x="1203" y="0"/>
                </a:lnTo>
                <a:lnTo>
                  <a:pt x="0" y="0"/>
                </a:lnTo>
                <a:lnTo>
                  <a:pt x="0" y="150"/>
                </a:lnTo>
                <a:lnTo>
                  <a:pt x="1203" y="150"/>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7" name=""/>
          <p:cNvSpPr/>
          <p:nvPr/>
        </p:nvSpPr>
        <p:spPr>
          <a:xfrm>
            <a:off x="6145200" y="3411360"/>
            <a:ext cx="293760" cy="292320"/>
          </a:xfrm>
          <a:custGeom>
            <a:avLst/>
            <a:gdLst/>
            <a:ahLst/>
            <a:rect l="l" t="t" r="r" b="b"/>
            <a:pathLst>
              <a:path w="922" h="922">
                <a:moveTo>
                  <a:pt x="922" y="461"/>
                </a:moveTo>
                <a:lnTo>
                  <a:pt x="0" y="0"/>
                </a:lnTo>
                <a:lnTo>
                  <a:pt x="0" y="922"/>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78360" y="4148280"/>
            <a:ext cx="382680" cy="47520"/>
          </a:xfrm>
          <a:custGeom>
            <a:avLst/>
            <a:gdLst/>
            <a:ahLst/>
            <a:rect l="l" t="t" r="r" b="b"/>
            <a:pathLst>
              <a:path w="1203" h="151">
                <a:moveTo>
                  <a:pt x="1203" y="75"/>
                </a:moveTo>
                <a:lnTo>
                  <a:pt x="1203" y="0"/>
                </a:lnTo>
                <a:lnTo>
                  <a:pt x="0" y="0"/>
                </a:lnTo>
                <a:lnTo>
                  <a:pt x="0" y="151"/>
                </a:lnTo>
                <a:lnTo>
                  <a:pt x="1203" y="151"/>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9" name=""/>
          <p:cNvSpPr/>
          <p:nvPr/>
        </p:nvSpPr>
        <p:spPr>
          <a:xfrm>
            <a:off x="6145200" y="4025880"/>
            <a:ext cx="293760" cy="291960"/>
          </a:xfrm>
          <a:custGeom>
            <a:avLst/>
            <a:gdLst/>
            <a:ahLst/>
            <a:rect l="l" t="t" r="r" b="b"/>
            <a:pathLst>
              <a:path w="922" h="923">
                <a:moveTo>
                  <a:pt x="922" y="461"/>
                </a:moveTo>
                <a:lnTo>
                  <a:pt x="0" y="0"/>
                </a:lnTo>
                <a:lnTo>
                  <a:pt x="0" y="923"/>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3" name="bmuk_sw" descr=""/>
          <p:cNvPicPr/>
          <p:nvPr/>
        </p:nvPicPr>
        <p:blipFill>
          <a:blip r:embed="rId1"/>
          <a:stretch/>
        </p:blipFill>
        <p:spPr>
          <a:xfrm>
            <a:off x="76320" y="0"/>
            <a:ext cx="1218960" cy="566640"/>
          </a:xfrm>
          <a:prstGeom prst="rect">
            <a:avLst/>
          </a:prstGeom>
          <a:ln w="0">
            <a:noFill/>
          </a:ln>
        </p:spPr>
      </p:pic>
      <p:sp>
        <p:nvSpPr>
          <p:cNvPr id="93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0" y="609480"/>
            <a:ext cx="24382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0" y="609480"/>
            <a:ext cx="236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
        <p:nvSpPr>
          <p:cNvPr id="943" name=""/>
          <p:cNvSpPr/>
          <p:nvPr/>
        </p:nvSpPr>
        <p:spPr>
          <a:xfrm>
            <a:off x="1731600" y="1294200"/>
            <a:ext cx="4382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 ist ein Schulprogramm?</a:t>
            </a:r>
            <a:endParaRPr b="0" lang="en-US" sz="2400" spc="-1" strike="noStrike">
              <a:solidFill>
                <a:srgbClr val="000000"/>
              </a:solidFill>
              <a:latin typeface="Times New Roman"/>
            </a:endParaRPr>
          </a:p>
        </p:txBody>
      </p:sp>
      <p:sp>
        <p:nvSpPr>
          <p:cNvPr id="944" name=""/>
          <p:cNvSpPr/>
          <p:nvPr/>
        </p:nvSpPr>
        <p:spPr>
          <a:xfrm>
            <a:off x="1759320" y="1953000"/>
            <a:ext cx="7168320" cy="3955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s Schulprogramm ist Rahmen und Instrumen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ür die kontinuierliche, systematische </a:t>
            </a:r>
            <a:r>
              <a:rPr b="1" lang="de-DE" sz="2200" spc="-1" strike="noStrike">
                <a:solidFill>
                  <a:srgbClr val="0033cc"/>
                </a:solidFill>
                <a:latin typeface="Arial"/>
              </a:rPr>
              <a:t>Planungs- u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33cc"/>
                </a:solidFill>
                <a:latin typeface="Arial"/>
              </a:rPr>
              <a:t>Entwicklungsarbeit</a:t>
            </a:r>
            <a:r>
              <a:rPr b="0" lang="de-DE" sz="2200" spc="-1" strike="noStrike">
                <a:solidFill>
                  <a:srgbClr val="000000"/>
                </a:solidFill>
                <a:latin typeface="Arial"/>
              </a:rPr>
              <a:t> an der Schu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s ist eine zeitlich begrenzte, schriftliche </a:t>
            </a:r>
            <a:r>
              <a:rPr b="1" lang="de-DE" sz="2200" spc="-1" strike="noStrike">
                <a:solidFill>
                  <a:srgbClr val="0033cc"/>
                </a:solidFill>
                <a:latin typeface="Arial"/>
              </a:rPr>
              <a:t>Vereinbarung</a:t>
            </a:r>
            <a:r>
              <a:rPr b="0" lang="de-DE"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t Innen- und Außenwirkung, die mehr Gemeinsamkei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Verbindlichkeit schaff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s dient als</a:t>
            </a:r>
            <a:r>
              <a:rPr b="1" lang="de-DE" sz="2200" spc="-1" strike="noStrike">
                <a:solidFill>
                  <a:srgbClr val="0066cc"/>
                </a:solidFill>
                <a:latin typeface="Arial"/>
              </a:rPr>
              <a:t> </a:t>
            </a:r>
            <a:r>
              <a:rPr b="1" lang="de-DE" sz="2200" spc="-1" strike="noStrike">
                <a:solidFill>
                  <a:srgbClr val="0033cc"/>
                </a:solidFill>
                <a:latin typeface="Arial"/>
              </a:rPr>
              <a:t>Beleg und Dokumentation</a:t>
            </a:r>
            <a:r>
              <a:rPr b="1" lang="de-DE" sz="2200" spc="-1" strike="noStrike">
                <a:solidFill>
                  <a:srgbClr val="0066cc"/>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ür die an der Schule geleistete Arbe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4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bmuk_sw" descr=""/>
          <p:cNvPicPr/>
          <p:nvPr/>
        </p:nvPicPr>
        <p:blipFill>
          <a:blip r:embed="rId1"/>
          <a:stretch/>
        </p:blipFill>
        <p:spPr>
          <a:xfrm>
            <a:off x="76320" y="0"/>
            <a:ext cx="1218960" cy="566640"/>
          </a:xfrm>
          <a:prstGeom prst="rect">
            <a:avLst/>
          </a:prstGeom>
          <a:ln w="0">
            <a:noFill/>
          </a:ln>
        </p:spPr>
      </p:pic>
      <p:sp>
        <p:nvSpPr>
          <p:cNvPr id="94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445040" y="1294200"/>
            <a:ext cx="7041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Funktionen erfüllt ein Schulprogramm?</a:t>
            </a:r>
            <a:endParaRPr b="0" lang="en-US" sz="2400" spc="-1" strike="noStrike">
              <a:solidFill>
                <a:srgbClr val="000000"/>
              </a:solidFill>
              <a:latin typeface="Times New Roman"/>
            </a:endParaRPr>
          </a:p>
        </p:txBody>
      </p:sp>
      <p:grpSp>
        <p:nvGrpSpPr>
          <p:cNvPr id="950" name=""/>
          <p:cNvGrpSpPr/>
          <p:nvPr/>
        </p:nvGrpSpPr>
        <p:grpSpPr>
          <a:xfrm>
            <a:off x="762120" y="2224080"/>
            <a:ext cx="7845480" cy="825480"/>
            <a:chOff x="762120" y="2224080"/>
            <a:chExt cx="7845480" cy="825480"/>
          </a:xfrm>
        </p:grpSpPr>
        <p:sp>
          <p:nvSpPr>
            <p:cNvPr id="951" name=""/>
            <p:cNvSpPr/>
            <p:nvPr/>
          </p:nvSpPr>
          <p:spPr>
            <a:xfrm flipV="1">
              <a:off x="762120" y="22881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1770120" y="2224080"/>
              <a:ext cx="68374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rodukt/Prozess, der bei den Schulpartner/inn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n- und identitätsstiftend wirkt</a:t>
              </a:r>
              <a:endParaRPr b="0" lang="en-US" sz="2400" spc="-1" strike="noStrike">
                <a:solidFill>
                  <a:srgbClr val="000000"/>
                </a:solidFill>
                <a:latin typeface="Times New Roman"/>
              </a:endParaRPr>
            </a:p>
          </p:txBody>
        </p:sp>
      </p:grpSp>
      <p:grpSp>
        <p:nvGrpSpPr>
          <p:cNvPr id="953" name=""/>
          <p:cNvGrpSpPr/>
          <p:nvPr/>
        </p:nvGrpSpPr>
        <p:grpSpPr>
          <a:xfrm>
            <a:off x="762120" y="3291120"/>
            <a:ext cx="6206040" cy="825480"/>
            <a:chOff x="762120" y="3291120"/>
            <a:chExt cx="6206040" cy="825480"/>
          </a:xfrm>
        </p:grpSpPr>
        <p:sp>
          <p:nvSpPr>
            <p:cNvPr id="954" name=""/>
            <p:cNvSpPr/>
            <p:nvPr/>
          </p:nvSpPr>
          <p:spPr>
            <a:xfrm flipV="1">
              <a:off x="762120" y="34282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756800" y="3291120"/>
              <a:ext cx="52113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zugsrahmen, der allen Beteiligt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ientierung und Sicherheit vermittelt</a:t>
              </a:r>
              <a:endParaRPr b="0" lang="en-US" sz="2400" spc="-1" strike="noStrike">
                <a:solidFill>
                  <a:srgbClr val="000000"/>
                </a:solidFill>
                <a:latin typeface="Times New Roman"/>
              </a:endParaRPr>
            </a:p>
          </p:txBody>
        </p:sp>
      </p:grpSp>
      <p:grpSp>
        <p:nvGrpSpPr>
          <p:cNvPr id="956" name=""/>
          <p:cNvGrpSpPr/>
          <p:nvPr/>
        </p:nvGrpSpPr>
        <p:grpSpPr>
          <a:xfrm>
            <a:off x="762120" y="4418280"/>
            <a:ext cx="5697360" cy="825480"/>
            <a:chOff x="762120" y="4418280"/>
            <a:chExt cx="5697360" cy="825480"/>
          </a:xfrm>
        </p:grpSpPr>
        <p:sp>
          <p:nvSpPr>
            <p:cNvPr id="957" name=""/>
            <p:cNvSpPr/>
            <p:nvPr/>
          </p:nvSpPr>
          <p:spPr>
            <a:xfrm flipV="1">
              <a:off x="762120" y="45277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755360" y="4418280"/>
              <a:ext cx="47041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okument, das Transparenz u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bindlichkeit schafft</a:t>
              </a:r>
              <a:endParaRPr b="0" lang="en-US" sz="2400" spc="-1" strike="noStrike">
                <a:solidFill>
                  <a:srgbClr val="000000"/>
                </a:solidFill>
                <a:latin typeface="Times New Roman"/>
              </a:endParaRPr>
            </a:p>
          </p:txBody>
        </p:sp>
      </p:grpSp>
      <p:sp>
        <p:nvSpPr>
          <p:cNvPr id="959"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0" y="609480"/>
            <a:ext cx="24382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0" y="609480"/>
            <a:ext cx="236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
        <p:nvSpPr>
          <p:cNvPr id="96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0" name="bmuk_sw" descr=""/>
          <p:cNvPicPr/>
          <p:nvPr/>
        </p:nvPicPr>
        <p:blipFill>
          <a:blip r:embed="rId1"/>
          <a:stretch/>
        </p:blipFill>
        <p:spPr>
          <a:xfrm>
            <a:off x="76320" y="0"/>
            <a:ext cx="1218960" cy="566640"/>
          </a:xfrm>
          <a:prstGeom prst="rect">
            <a:avLst/>
          </a:prstGeom>
          <a:ln w="0">
            <a:noFill/>
          </a:ln>
        </p:spPr>
      </p:pic>
      <p:sp>
        <p:nvSpPr>
          <p:cNvPr id="97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445040" y="1294200"/>
            <a:ext cx="7041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he Funktionen erfüllt ein Schulprogramm?</a:t>
            </a:r>
            <a:endParaRPr b="0" lang="en-US" sz="2400" spc="-1" strike="noStrike">
              <a:solidFill>
                <a:srgbClr val="000000"/>
              </a:solidFill>
              <a:latin typeface="Times New Roman"/>
            </a:endParaRPr>
          </a:p>
        </p:txBody>
      </p:sp>
      <p:grpSp>
        <p:nvGrpSpPr>
          <p:cNvPr id="973" name=""/>
          <p:cNvGrpSpPr/>
          <p:nvPr/>
        </p:nvGrpSpPr>
        <p:grpSpPr>
          <a:xfrm>
            <a:off x="762120" y="1979640"/>
            <a:ext cx="7506360" cy="825480"/>
            <a:chOff x="762120" y="1979640"/>
            <a:chExt cx="7506360" cy="825480"/>
          </a:xfrm>
        </p:grpSpPr>
        <p:sp>
          <p:nvSpPr>
            <p:cNvPr id="974" name=""/>
            <p:cNvSpPr/>
            <p:nvPr/>
          </p:nvSpPr>
          <p:spPr>
            <a:xfrm flipV="1">
              <a:off x="762120" y="2120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772280" y="1979640"/>
              <a:ext cx="64962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einbarung, welche die Zentrieru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n Ressourcen auf wichtige Vorhaben erlaubt</a:t>
              </a:r>
              <a:endParaRPr b="0" lang="en-US" sz="2400" spc="-1" strike="noStrike">
                <a:solidFill>
                  <a:srgbClr val="000000"/>
                </a:solidFill>
                <a:latin typeface="Times New Roman"/>
              </a:endParaRPr>
            </a:p>
          </p:txBody>
        </p:sp>
      </p:grpSp>
      <p:sp>
        <p:nvSpPr>
          <p:cNvPr id="976" name=""/>
          <p:cNvSpPr/>
          <p:nvPr/>
        </p:nvSpPr>
        <p:spPr>
          <a:xfrm flipV="1">
            <a:off x="762120" y="30632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762120" y="40712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56440" y="2909880"/>
            <a:ext cx="57020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zugspunkt und Maßstab, an dem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Schule ihren Fortschritt messen kann</a:t>
            </a:r>
            <a:endParaRPr b="0" lang="en-US" sz="2400" spc="-1" strike="noStrike">
              <a:solidFill>
                <a:srgbClr val="000000"/>
              </a:solidFill>
              <a:latin typeface="Times New Roman"/>
            </a:endParaRPr>
          </a:p>
        </p:txBody>
      </p:sp>
      <p:sp>
        <p:nvSpPr>
          <p:cNvPr id="979" name=""/>
          <p:cNvSpPr/>
          <p:nvPr/>
        </p:nvSpPr>
        <p:spPr>
          <a:xfrm>
            <a:off x="1758240" y="3900600"/>
            <a:ext cx="68529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rundlage für Öffentlichkeitsarbeit, die extern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artner/innen ein klares Bild der Schule vermittelt</a:t>
            </a:r>
            <a:endParaRPr b="0" lang="en-US" sz="2400" spc="-1" strike="noStrike">
              <a:solidFill>
                <a:srgbClr val="000000"/>
              </a:solidFill>
              <a:latin typeface="Times New Roman"/>
            </a:endParaRPr>
          </a:p>
        </p:txBody>
      </p:sp>
      <p:sp>
        <p:nvSpPr>
          <p:cNvPr id="980" name=""/>
          <p:cNvSpPr/>
          <p:nvPr/>
        </p:nvSpPr>
        <p:spPr>
          <a:xfrm flipV="1">
            <a:off x="762120" y="50904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758240" y="4920480"/>
            <a:ext cx="559872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istungsnachweis, mit dem die Schu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hre Rechenschaftspflicht gegenüb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Öffentlichkeit und Behörde einlö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0" y="609480"/>
            <a:ext cx="24382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
        <p:nvSpPr>
          <p:cNvPr id="99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
          <p:cNvSpPr/>
          <p:nvPr/>
        </p:nvSpPr>
        <p:spPr>
          <a:xfrm>
            <a:off x="1676520" y="1294200"/>
            <a:ext cx="4484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s steht im Schulprogramm</a:t>
            </a:r>
            <a:endParaRPr b="0" lang="en-US" sz="2400" spc="-1" strike="noStrike">
              <a:solidFill>
                <a:srgbClr val="000000"/>
              </a:solidFill>
              <a:latin typeface="Times New Roman"/>
            </a:endParaRPr>
          </a:p>
        </p:txBody>
      </p:sp>
      <p:grpSp>
        <p:nvGrpSpPr>
          <p:cNvPr id="993" name=""/>
          <p:cNvGrpSpPr/>
          <p:nvPr/>
        </p:nvGrpSpPr>
        <p:grpSpPr>
          <a:xfrm>
            <a:off x="762120" y="2120400"/>
            <a:ext cx="6490080" cy="546120"/>
            <a:chOff x="762120" y="2120400"/>
            <a:chExt cx="6490080" cy="546120"/>
          </a:xfrm>
        </p:grpSpPr>
        <p:sp>
          <p:nvSpPr>
            <p:cNvPr id="994" name=""/>
            <p:cNvSpPr/>
            <p:nvPr/>
          </p:nvSpPr>
          <p:spPr>
            <a:xfrm flipV="1">
              <a:off x="762120" y="2120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72640" y="2162520"/>
              <a:ext cx="547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eitvorstellungen der Schule („Leitbild“)</a:t>
              </a:r>
              <a:endParaRPr b="0" lang="en-US" sz="2400" spc="-1" strike="noStrike">
                <a:solidFill>
                  <a:srgbClr val="000000"/>
                </a:solidFill>
                <a:latin typeface="Times New Roman"/>
              </a:endParaRPr>
            </a:p>
          </p:txBody>
        </p:sp>
      </p:grpSp>
      <p:grpSp>
        <p:nvGrpSpPr>
          <p:cNvPr id="996" name=""/>
          <p:cNvGrpSpPr/>
          <p:nvPr/>
        </p:nvGrpSpPr>
        <p:grpSpPr>
          <a:xfrm>
            <a:off x="762120" y="2895120"/>
            <a:ext cx="5034960" cy="546120"/>
            <a:chOff x="762120" y="2895120"/>
            <a:chExt cx="5034960" cy="546120"/>
          </a:xfrm>
        </p:grpSpPr>
        <p:sp>
          <p:nvSpPr>
            <p:cNvPr id="997" name=""/>
            <p:cNvSpPr/>
            <p:nvPr/>
          </p:nvSpPr>
          <p:spPr>
            <a:xfrm flipV="1">
              <a:off x="762120" y="28947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758960" y="2924640"/>
              <a:ext cx="403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ntwicklungsstand und Ziele</a:t>
              </a:r>
              <a:endParaRPr b="0" lang="en-US" sz="2400" spc="-1" strike="noStrike">
                <a:solidFill>
                  <a:srgbClr val="000000"/>
                </a:solidFill>
                <a:latin typeface="Times New Roman"/>
              </a:endParaRPr>
            </a:p>
          </p:txBody>
        </p:sp>
      </p:grpSp>
      <p:grpSp>
        <p:nvGrpSpPr>
          <p:cNvPr id="999" name=""/>
          <p:cNvGrpSpPr/>
          <p:nvPr/>
        </p:nvGrpSpPr>
        <p:grpSpPr>
          <a:xfrm>
            <a:off x="762120" y="3657240"/>
            <a:ext cx="5019480" cy="546120"/>
            <a:chOff x="762120" y="3657240"/>
            <a:chExt cx="5019480" cy="546120"/>
          </a:xfrm>
        </p:grpSpPr>
        <p:sp>
          <p:nvSpPr>
            <p:cNvPr id="1000" name=""/>
            <p:cNvSpPr/>
            <p:nvPr/>
          </p:nvSpPr>
          <p:spPr>
            <a:xfrm flipV="1">
              <a:off x="762120" y="3656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1758960" y="3669120"/>
              <a:ext cx="4022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haben zur Zielerreichung</a:t>
              </a:r>
              <a:endParaRPr b="0" lang="en-US" sz="2400" spc="-1" strike="noStrike">
                <a:solidFill>
                  <a:srgbClr val="000000"/>
                </a:solidFill>
                <a:latin typeface="Times New Roman"/>
              </a:endParaRPr>
            </a:p>
          </p:txBody>
        </p:sp>
      </p:grpSp>
      <p:grpSp>
        <p:nvGrpSpPr>
          <p:cNvPr id="1002" name=""/>
          <p:cNvGrpSpPr/>
          <p:nvPr/>
        </p:nvGrpSpPr>
        <p:grpSpPr>
          <a:xfrm>
            <a:off x="762120" y="4402440"/>
            <a:ext cx="4883400" cy="825480"/>
            <a:chOff x="762120" y="4402440"/>
            <a:chExt cx="4883400" cy="825480"/>
          </a:xfrm>
        </p:grpSpPr>
        <p:sp>
          <p:nvSpPr>
            <p:cNvPr id="1003" name=""/>
            <p:cNvSpPr/>
            <p:nvPr/>
          </p:nvSpPr>
          <p:spPr>
            <a:xfrm flipV="1">
              <a:off x="762120" y="44190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1756800" y="4402440"/>
              <a:ext cx="3888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ktionsplan zur Umsetz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6" name=""/>
          <p:cNvGrpSpPr/>
          <p:nvPr/>
        </p:nvGrpSpPr>
        <p:grpSpPr>
          <a:xfrm>
            <a:off x="762120" y="5073840"/>
            <a:ext cx="5189760" cy="825480"/>
            <a:chOff x="762120" y="5073840"/>
            <a:chExt cx="5189760" cy="825480"/>
          </a:xfrm>
        </p:grpSpPr>
        <p:sp>
          <p:nvSpPr>
            <p:cNvPr id="1007" name=""/>
            <p:cNvSpPr/>
            <p:nvPr/>
          </p:nvSpPr>
          <p:spPr>
            <a:xfrm flipV="1">
              <a:off x="762120" y="50904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756800" y="5073840"/>
              <a:ext cx="41950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ßnahmen der Überprüfu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0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bmuk_sw" descr=""/>
          <p:cNvPicPr/>
          <p:nvPr/>
        </p:nvPicPr>
        <p:blipFill>
          <a:blip r:embed="rId1"/>
          <a:stretch/>
        </p:blipFill>
        <p:spPr>
          <a:xfrm>
            <a:off x="76320" y="0"/>
            <a:ext cx="1218960" cy="566640"/>
          </a:xfrm>
          <a:prstGeom prst="rect">
            <a:avLst/>
          </a:prstGeom>
          <a:ln w="0">
            <a:noFill/>
          </a:ln>
        </p:spPr>
      </p:pic>
      <p:sp>
        <p:nvSpPr>
          <p:cNvPr id="101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0" y="609480"/>
            <a:ext cx="24382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0" y="609480"/>
            <a:ext cx="23623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1753920" y="1294200"/>
            <a:ext cx="165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itfragen</a:t>
            </a:r>
            <a:endParaRPr b="0" lang="en-US" sz="2400" spc="-1" strike="noStrike">
              <a:solidFill>
                <a:srgbClr val="000000"/>
              </a:solidFill>
              <a:latin typeface="Times New Roman"/>
            </a:endParaRPr>
          </a:p>
        </p:txBody>
      </p:sp>
      <p:grpSp>
        <p:nvGrpSpPr>
          <p:cNvPr id="1021" name=""/>
          <p:cNvGrpSpPr/>
          <p:nvPr/>
        </p:nvGrpSpPr>
        <p:grpSpPr>
          <a:xfrm>
            <a:off x="762120" y="1827360"/>
            <a:ext cx="6913080" cy="825480"/>
            <a:chOff x="762120" y="1827360"/>
            <a:chExt cx="6913080" cy="825480"/>
          </a:xfrm>
        </p:grpSpPr>
        <p:sp>
          <p:nvSpPr>
            <p:cNvPr id="1022" name=""/>
            <p:cNvSpPr/>
            <p:nvPr/>
          </p:nvSpPr>
          <p:spPr>
            <a:xfrm flipV="1">
              <a:off x="762120" y="19681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1770480" y="1827360"/>
              <a:ext cx="5904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n gemeinsamen Werten fühlen wi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s verpflichtet?</a:t>
              </a:r>
              <a:endParaRPr b="0" lang="en-US" sz="2400" spc="-1" strike="noStrike">
                <a:solidFill>
                  <a:srgbClr val="000000"/>
                </a:solidFill>
                <a:latin typeface="Times New Roman"/>
              </a:endParaRPr>
            </a:p>
          </p:txBody>
        </p:sp>
      </p:grpSp>
      <p:grpSp>
        <p:nvGrpSpPr>
          <p:cNvPr id="1024" name=""/>
          <p:cNvGrpSpPr/>
          <p:nvPr/>
        </p:nvGrpSpPr>
        <p:grpSpPr>
          <a:xfrm>
            <a:off x="762120" y="2741760"/>
            <a:ext cx="6800040" cy="825480"/>
            <a:chOff x="762120" y="2741760"/>
            <a:chExt cx="6800040" cy="825480"/>
          </a:xfrm>
        </p:grpSpPr>
        <p:sp>
          <p:nvSpPr>
            <p:cNvPr id="1025" name=""/>
            <p:cNvSpPr/>
            <p:nvPr/>
          </p:nvSpPr>
          <p:spPr>
            <a:xfrm flipV="1">
              <a:off x="762120" y="289548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760760" y="2741760"/>
              <a:ext cx="5801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rin besteht unsere "Philosoph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sere pädagogische Grundorientierung?</a:t>
              </a:r>
              <a:endParaRPr b="0" lang="en-US" sz="2400" spc="-1" strike="noStrike">
                <a:solidFill>
                  <a:srgbClr val="000000"/>
                </a:solidFill>
                <a:latin typeface="Times New Roman"/>
              </a:endParaRPr>
            </a:p>
          </p:txBody>
        </p:sp>
      </p:grpSp>
      <p:grpSp>
        <p:nvGrpSpPr>
          <p:cNvPr id="1027" name=""/>
          <p:cNvGrpSpPr/>
          <p:nvPr/>
        </p:nvGrpSpPr>
        <p:grpSpPr>
          <a:xfrm>
            <a:off x="762120" y="3657240"/>
            <a:ext cx="5138280" cy="546120"/>
            <a:chOff x="762120" y="3657240"/>
            <a:chExt cx="5138280" cy="546120"/>
          </a:xfrm>
        </p:grpSpPr>
        <p:sp>
          <p:nvSpPr>
            <p:cNvPr id="1028" name=""/>
            <p:cNvSpPr/>
            <p:nvPr/>
          </p:nvSpPr>
          <p:spPr>
            <a:xfrm flipV="1">
              <a:off x="762120" y="3656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754280" y="3669120"/>
              <a:ext cx="4146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rin besteht unser Auftrag?</a:t>
              </a:r>
              <a:endParaRPr b="0" lang="en-US" sz="2400" spc="-1" strike="noStrike">
                <a:solidFill>
                  <a:srgbClr val="000000"/>
                </a:solidFill>
                <a:latin typeface="Times New Roman"/>
              </a:endParaRPr>
            </a:p>
          </p:txBody>
        </p:sp>
      </p:grpSp>
      <p:grpSp>
        <p:nvGrpSpPr>
          <p:cNvPr id="1030" name=""/>
          <p:cNvGrpSpPr/>
          <p:nvPr/>
        </p:nvGrpSpPr>
        <p:grpSpPr>
          <a:xfrm>
            <a:off x="762120" y="4434120"/>
            <a:ext cx="5776560" cy="825480"/>
            <a:chOff x="762120" y="4434120"/>
            <a:chExt cx="5776560" cy="825480"/>
          </a:xfrm>
        </p:grpSpPr>
        <p:sp>
          <p:nvSpPr>
            <p:cNvPr id="1031" name=""/>
            <p:cNvSpPr/>
            <p:nvPr/>
          </p:nvSpPr>
          <p:spPr>
            <a:xfrm flipV="1">
              <a:off x="762120" y="4450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757160" y="4434120"/>
              <a:ext cx="47815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Vision von "guter Schu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ht hinter all dem?</a:t>
              </a:r>
              <a:endParaRPr b="0" lang="en-US" sz="2400" spc="-1" strike="noStrike">
                <a:solidFill>
                  <a:srgbClr val="000000"/>
                </a:solidFill>
                <a:latin typeface="Times New Roman"/>
              </a:endParaRPr>
            </a:p>
          </p:txBody>
        </p:sp>
      </p:grpSp>
      <p:sp>
        <p:nvSpPr>
          <p:cNvPr id="103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4" name=""/>
          <p:cNvGrpSpPr/>
          <p:nvPr/>
        </p:nvGrpSpPr>
        <p:grpSpPr>
          <a:xfrm>
            <a:off x="762120" y="5317920"/>
            <a:ext cx="7426080" cy="1191240"/>
            <a:chOff x="762120" y="5317920"/>
            <a:chExt cx="7426080" cy="1191240"/>
          </a:xfrm>
        </p:grpSpPr>
        <p:sp>
          <p:nvSpPr>
            <p:cNvPr id="1035" name=""/>
            <p:cNvSpPr/>
            <p:nvPr/>
          </p:nvSpPr>
          <p:spPr>
            <a:xfrm flipV="1">
              <a:off x="762120" y="55173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1758960" y="5317920"/>
              <a:ext cx="64292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Regeln bestimmen uns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sammenleben, unsere gemeinsame Arbe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3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8" name="bmuk_sw" descr=""/>
          <p:cNvPicPr/>
          <p:nvPr/>
        </p:nvPicPr>
        <p:blipFill>
          <a:blip r:embed="rId1"/>
          <a:stretch/>
        </p:blipFill>
        <p:spPr>
          <a:xfrm>
            <a:off x="76320" y="0"/>
            <a:ext cx="1218960" cy="566640"/>
          </a:xfrm>
          <a:prstGeom prst="rect">
            <a:avLst/>
          </a:prstGeom>
          <a:ln w="0">
            <a:noFill/>
          </a:ln>
        </p:spPr>
      </p:pic>
      <p:sp>
        <p:nvSpPr>
          <p:cNvPr id="103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0" y="609480"/>
            <a:ext cx="56386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0" y="609480"/>
            <a:ext cx="5715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Leitvorstellungen der Schule („Leitbil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1753920" y="1294200"/>
            <a:ext cx="165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itfragen</a:t>
            </a:r>
            <a:endParaRPr b="0" lang="en-US" sz="2400" spc="-1" strike="noStrike">
              <a:solidFill>
                <a:srgbClr val="000000"/>
              </a:solidFill>
              <a:latin typeface="Times New Roman"/>
            </a:endParaRPr>
          </a:p>
        </p:txBody>
      </p:sp>
      <p:grpSp>
        <p:nvGrpSpPr>
          <p:cNvPr id="1049" name=""/>
          <p:cNvGrpSpPr/>
          <p:nvPr/>
        </p:nvGrpSpPr>
        <p:grpSpPr>
          <a:xfrm>
            <a:off x="762120" y="1827360"/>
            <a:ext cx="6827760" cy="825480"/>
            <a:chOff x="762120" y="1827360"/>
            <a:chExt cx="6827760" cy="825480"/>
          </a:xfrm>
        </p:grpSpPr>
        <p:sp>
          <p:nvSpPr>
            <p:cNvPr id="1050" name=""/>
            <p:cNvSpPr/>
            <p:nvPr/>
          </p:nvSpPr>
          <p:spPr>
            <a:xfrm flipV="1">
              <a:off x="762120" y="19681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1774800" y="1827360"/>
              <a:ext cx="58150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haben wir erreicht? Auf wel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weislichen Leistungen sind wir stolz?</a:t>
              </a:r>
              <a:endParaRPr b="0" lang="en-US" sz="2400" spc="-1" strike="noStrike">
                <a:solidFill>
                  <a:srgbClr val="000000"/>
                </a:solidFill>
                <a:latin typeface="Times New Roman"/>
              </a:endParaRPr>
            </a:p>
          </p:txBody>
        </p:sp>
      </p:grpSp>
      <p:grpSp>
        <p:nvGrpSpPr>
          <p:cNvPr id="1052" name=""/>
          <p:cNvGrpSpPr/>
          <p:nvPr/>
        </p:nvGrpSpPr>
        <p:grpSpPr>
          <a:xfrm>
            <a:off x="762120" y="2895120"/>
            <a:ext cx="6645960" cy="546120"/>
            <a:chOff x="762120" y="2895120"/>
            <a:chExt cx="6645960" cy="546120"/>
          </a:xfrm>
        </p:grpSpPr>
        <p:sp>
          <p:nvSpPr>
            <p:cNvPr id="1053" name=""/>
            <p:cNvSpPr/>
            <p:nvPr/>
          </p:nvSpPr>
          <p:spPr>
            <a:xfrm flipV="1">
              <a:off x="762120" y="28947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1759320" y="2924640"/>
              <a:ext cx="564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 sehen wir Verbesserungspotentiale?</a:t>
              </a:r>
              <a:endParaRPr b="0" lang="en-US" sz="2400" spc="-1" strike="noStrike">
                <a:solidFill>
                  <a:srgbClr val="000000"/>
                </a:solidFill>
                <a:latin typeface="Times New Roman"/>
              </a:endParaRPr>
            </a:p>
          </p:txBody>
        </p:sp>
      </p:grpSp>
      <p:grpSp>
        <p:nvGrpSpPr>
          <p:cNvPr id="1055" name=""/>
          <p:cNvGrpSpPr/>
          <p:nvPr/>
        </p:nvGrpSpPr>
        <p:grpSpPr>
          <a:xfrm>
            <a:off x="762120" y="3657240"/>
            <a:ext cx="8138160" cy="546120"/>
            <a:chOff x="762120" y="3657240"/>
            <a:chExt cx="8138160" cy="546120"/>
          </a:xfrm>
        </p:grpSpPr>
        <p:sp>
          <p:nvSpPr>
            <p:cNvPr id="1056" name=""/>
            <p:cNvSpPr/>
            <p:nvPr/>
          </p:nvSpPr>
          <p:spPr>
            <a:xfrm flipV="1">
              <a:off x="762120" y="3656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761120" y="3669120"/>
              <a:ext cx="7139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or welchen neuen Herausforderungen stehen wir?</a:t>
              </a:r>
              <a:endParaRPr b="0" lang="en-US" sz="2400" spc="-1" strike="noStrike">
                <a:solidFill>
                  <a:srgbClr val="000000"/>
                </a:solidFill>
                <a:latin typeface="Times New Roman"/>
              </a:endParaRPr>
            </a:p>
          </p:txBody>
        </p:sp>
      </p:grpSp>
      <p:grpSp>
        <p:nvGrpSpPr>
          <p:cNvPr id="1058" name=""/>
          <p:cNvGrpSpPr/>
          <p:nvPr/>
        </p:nvGrpSpPr>
        <p:grpSpPr>
          <a:xfrm>
            <a:off x="762120" y="4341960"/>
            <a:ext cx="5899680" cy="825480"/>
            <a:chOff x="762120" y="4341960"/>
            <a:chExt cx="5899680" cy="825480"/>
          </a:xfrm>
        </p:grpSpPr>
        <p:sp>
          <p:nvSpPr>
            <p:cNvPr id="1059" name=""/>
            <p:cNvSpPr/>
            <p:nvPr/>
          </p:nvSpPr>
          <p:spPr>
            <a:xfrm flipV="1">
              <a:off x="762120" y="435852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1755000" y="4341960"/>
              <a:ext cx="4906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Ziele setzen wir uns kur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tel- und langfristig?</a:t>
              </a:r>
              <a:endParaRPr b="0" lang="en-US" sz="2400" spc="-1" strike="noStrike">
                <a:solidFill>
                  <a:srgbClr val="000000"/>
                </a:solidFill>
                <a:latin typeface="Times New Roman"/>
              </a:endParaRPr>
            </a:p>
          </p:txBody>
        </p:sp>
      </p:grpSp>
      <p:sp>
        <p:nvSpPr>
          <p:cNvPr id="106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62120" y="5317920"/>
            <a:ext cx="7374600" cy="1191240"/>
            <a:chOff x="762120" y="5317920"/>
            <a:chExt cx="7374600" cy="1191240"/>
          </a:xfrm>
        </p:grpSpPr>
        <p:sp>
          <p:nvSpPr>
            <p:cNvPr id="1063" name=""/>
            <p:cNvSpPr/>
            <p:nvPr/>
          </p:nvSpPr>
          <p:spPr>
            <a:xfrm flipV="1">
              <a:off x="762120" y="55173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759320" y="5317920"/>
              <a:ext cx="63774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welche Stärken können wir dabei bau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welchen Gebieten müssen wir u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 entwickeln?</a:t>
              </a:r>
              <a:endParaRPr b="0" lang="en-US" sz="2400" spc="-1" strike="noStrike">
                <a:solidFill>
                  <a:srgbClr val="000000"/>
                </a:solidFill>
                <a:latin typeface="Times New Roman"/>
              </a:endParaRPr>
            </a:p>
          </p:txBody>
        </p:sp>
      </p:grpSp>
      <p:sp>
        <p:nvSpPr>
          <p:cNvPr id="106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6" name="bmuk_sw" descr=""/>
          <p:cNvPicPr/>
          <p:nvPr/>
        </p:nvPicPr>
        <p:blipFill>
          <a:blip r:embed="rId1"/>
          <a:stretch/>
        </p:blipFill>
        <p:spPr>
          <a:xfrm>
            <a:off x="76320" y="0"/>
            <a:ext cx="1218960" cy="566640"/>
          </a:xfrm>
          <a:prstGeom prst="rect">
            <a:avLst/>
          </a:prstGeom>
          <a:ln w="0">
            <a:noFill/>
          </a:ln>
        </p:spPr>
      </p:pic>
      <p:sp>
        <p:nvSpPr>
          <p:cNvPr id="106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609480"/>
            <a:ext cx="40384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0" y="609480"/>
            <a:ext cx="4114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Entwicklungsstand und Ziel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
          <p:cNvSpPr/>
          <p:nvPr/>
        </p:nvSpPr>
        <p:spPr>
          <a:xfrm>
            <a:off x="1753920" y="1294200"/>
            <a:ext cx="165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itfragen</a:t>
            </a:r>
            <a:endParaRPr b="0" lang="en-US" sz="2400" spc="-1" strike="noStrike">
              <a:solidFill>
                <a:srgbClr val="000000"/>
              </a:solidFill>
              <a:latin typeface="Times New Roman"/>
            </a:endParaRPr>
          </a:p>
        </p:txBody>
      </p:sp>
      <p:grpSp>
        <p:nvGrpSpPr>
          <p:cNvPr id="1077" name=""/>
          <p:cNvGrpSpPr/>
          <p:nvPr/>
        </p:nvGrpSpPr>
        <p:grpSpPr>
          <a:xfrm>
            <a:off x="762120" y="1827360"/>
            <a:ext cx="6929640" cy="825480"/>
            <a:chOff x="762120" y="1827360"/>
            <a:chExt cx="6929640" cy="825480"/>
          </a:xfrm>
        </p:grpSpPr>
        <p:sp>
          <p:nvSpPr>
            <p:cNvPr id="1078" name=""/>
            <p:cNvSpPr/>
            <p:nvPr/>
          </p:nvSpPr>
          <p:spPr>
            <a:xfrm flipV="1">
              <a:off x="762120" y="19681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771560" y="1827360"/>
              <a:ext cx="59202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konkreten Maßnahmen wollen wi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nächster Zeit setzen?</a:t>
              </a:r>
              <a:endParaRPr b="0" lang="en-US" sz="2400" spc="-1" strike="noStrike">
                <a:solidFill>
                  <a:srgbClr val="000000"/>
                </a:solidFill>
                <a:latin typeface="Times New Roman"/>
              </a:endParaRPr>
            </a:p>
          </p:txBody>
        </p:sp>
      </p:grpSp>
      <p:grpSp>
        <p:nvGrpSpPr>
          <p:cNvPr id="1080" name=""/>
          <p:cNvGrpSpPr/>
          <p:nvPr/>
        </p:nvGrpSpPr>
        <p:grpSpPr>
          <a:xfrm>
            <a:off x="762120" y="2909880"/>
            <a:ext cx="6561000" cy="825480"/>
            <a:chOff x="762120" y="2909880"/>
            <a:chExt cx="6561000" cy="825480"/>
          </a:xfrm>
        </p:grpSpPr>
        <p:sp>
          <p:nvSpPr>
            <p:cNvPr id="1081" name=""/>
            <p:cNvSpPr/>
            <p:nvPr/>
          </p:nvSpPr>
          <p:spPr>
            <a:xfrm flipV="1">
              <a:off x="762120" y="30632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1753560" y="2909880"/>
              <a:ext cx="5569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wäre ein Erfolg und was hat er m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n Zielen zu tun?</a:t>
              </a:r>
              <a:endParaRPr b="0" lang="en-US" sz="2400" spc="-1" strike="noStrike">
                <a:solidFill>
                  <a:srgbClr val="000000"/>
                </a:solidFill>
                <a:latin typeface="Times New Roman"/>
              </a:endParaRPr>
            </a:p>
          </p:txBody>
        </p:sp>
      </p:grpSp>
      <p:grpSp>
        <p:nvGrpSpPr>
          <p:cNvPr id="1083" name=""/>
          <p:cNvGrpSpPr/>
          <p:nvPr/>
        </p:nvGrpSpPr>
        <p:grpSpPr>
          <a:xfrm>
            <a:off x="762120" y="4052880"/>
            <a:ext cx="5155200" cy="825480"/>
            <a:chOff x="762120" y="4052880"/>
            <a:chExt cx="5155200" cy="825480"/>
          </a:xfrm>
        </p:grpSpPr>
        <p:sp>
          <p:nvSpPr>
            <p:cNvPr id="1084" name=""/>
            <p:cNvSpPr/>
            <p:nvPr/>
          </p:nvSpPr>
          <p:spPr>
            <a:xfrm flipV="1">
              <a:off x="762120" y="422352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756080" y="4052880"/>
              <a:ext cx="4161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ran werden wir erkenn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s wir erfolgreich waren?</a:t>
              </a:r>
              <a:endParaRPr b="0" lang="en-US" sz="2400" spc="-1" strike="noStrike">
                <a:solidFill>
                  <a:srgbClr val="000000"/>
                </a:solidFill>
                <a:latin typeface="Times New Roman"/>
              </a:endParaRPr>
            </a:p>
          </p:txBody>
        </p:sp>
      </p:grpSp>
      <p:sp>
        <p:nvSpPr>
          <p:cNvPr id="108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bmuk_sw" descr=""/>
          <p:cNvPicPr/>
          <p:nvPr/>
        </p:nvPicPr>
        <p:blipFill>
          <a:blip r:embed="rId1"/>
          <a:stretch/>
        </p:blipFill>
        <p:spPr>
          <a:xfrm>
            <a:off x="76320" y="0"/>
            <a:ext cx="1218960" cy="566640"/>
          </a:xfrm>
          <a:prstGeom prst="rect">
            <a:avLst/>
          </a:prstGeom>
          <a:ln w="0">
            <a:noFill/>
          </a:ln>
        </p:spPr>
      </p:pic>
      <p:sp>
        <p:nvSpPr>
          <p:cNvPr id="108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0" y="609480"/>
            <a:ext cx="411480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0" y="609480"/>
            <a:ext cx="4114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Vorhaben zur Zielerreich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753920" y="1294200"/>
            <a:ext cx="165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itfragen</a:t>
            </a:r>
            <a:endParaRPr b="0" lang="en-US" sz="2400" spc="-1" strike="noStrike">
              <a:solidFill>
                <a:srgbClr val="000000"/>
              </a:solidFill>
              <a:latin typeface="Times New Roman"/>
            </a:endParaRPr>
          </a:p>
        </p:txBody>
      </p:sp>
      <p:grpSp>
        <p:nvGrpSpPr>
          <p:cNvPr id="1097" name=""/>
          <p:cNvGrpSpPr/>
          <p:nvPr/>
        </p:nvGrpSpPr>
        <p:grpSpPr>
          <a:xfrm>
            <a:off x="762120" y="1827360"/>
            <a:ext cx="6777720" cy="825480"/>
            <a:chOff x="762120" y="1827360"/>
            <a:chExt cx="6777720" cy="825480"/>
          </a:xfrm>
        </p:grpSpPr>
        <p:sp>
          <p:nvSpPr>
            <p:cNvPr id="1098" name=""/>
            <p:cNvSpPr/>
            <p:nvPr/>
          </p:nvSpPr>
          <p:spPr>
            <a:xfrm flipV="1">
              <a:off x="762120" y="19681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769040" y="1827360"/>
              <a:ext cx="5770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tun wir, um die geplanten Vorhab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die Praxis umzusetzen?</a:t>
              </a:r>
              <a:endParaRPr b="0" lang="en-US" sz="2400" spc="-1" strike="noStrike">
                <a:solidFill>
                  <a:srgbClr val="000000"/>
                </a:solidFill>
                <a:latin typeface="Times New Roman"/>
              </a:endParaRPr>
            </a:p>
          </p:txBody>
        </p:sp>
      </p:grpSp>
      <p:grpSp>
        <p:nvGrpSpPr>
          <p:cNvPr id="1100" name=""/>
          <p:cNvGrpSpPr/>
          <p:nvPr/>
        </p:nvGrpSpPr>
        <p:grpSpPr>
          <a:xfrm>
            <a:off x="762120" y="2895120"/>
            <a:ext cx="7781400" cy="546120"/>
            <a:chOff x="762120" y="2895120"/>
            <a:chExt cx="7781400" cy="546120"/>
          </a:xfrm>
        </p:grpSpPr>
        <p:sp>
          <p:nvSpPr>
            <p:cNvPr id="1101" name=""/>
            <p:cNvSpPr/>
            <p:nvPr/>
          </p:nvSpPr>
          <p:spPr>
            <a:xfrm flipV="1">
              <a:off x="762120" y="28947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1759320" y="2924640"/>
              <a:ext cx="6784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sehen die einzelnen konkreten Schritte aus?</a:t>
              </a:r>
              <a:endParaRPr b="0" lang="en-US" sz="2400" spc="-1" strike="noStrike">
                <a:solidFill>
                  <a:srgbClr val="000000"/>
                </a:solidFill>
                <a:latin typeface="Times New Roman"/>
              </a:endParaRPr>
            </a:p>
          </p:txBody>
        </p:sp>
      </p:grpSp>
      <p:grpSp>
        <p:nvGrpSpPr>
          <p:cNvPr id="1103" name=""/>
          <p:cNvGrpSpPr/>
          <p:nvPr/>
        </p:nvGrpSpPr>
        <p:grpSpPr>
          <a:xfrm>
            <a:off x="762120" y="3486240"/>
            <a:ext cx="6336720" cy="825480"/>
            <a:chOff x="762120" y="3486240"/>
            <a:chExt cx="6336720" cy="825480"/>
          </a:xfrm>
        </p:grpSpPr>
        <p:sp>
          <p:nvSpPr>
            <p:cNvPr id="1104" name=""/>
            <p:cNvSpPr/>
            <p:nvPr/>
          </p:nvSpPr>
          <p:spPr>
            <a:xfrm flipV="1">
              <a:off x="762120" y="3656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1759320" y="3486240"/>
              <a:ext cx="53395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 Etappenziele ("Meilenstei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llen wir bis wann erreichen?</a:t>
              </a:r>
              <a:endParaRPr b="0" lang="en-US" sz="2400" spc="-1" strike="noStrike">
                <a:solidFill>
                  <a:srgbClr val="000000"/>
                </a:solidFill>
                <a:latin typeface="Times New Roman"/>
              </a:endParaRPr>
            </a:p>
          </p:txBody>
        </p:sp>
      </p:grpSp>
      <p:grpSp>
        <p:nvGrpSpPr>
          <p:cNvPr id="1106" name=""/>
          <p:cNvGrpSpPr/>
          <p:nvPr/>
        </p:nvGrpSpPr>
        <p:grpSpPr>
          <a:xfrm>
            <a:off x="762120" y="4434120"/>
            <a:ext cx="6834960" cy="825480"/>
            <a:chOff x="762120" y="4434120"/>
            <a:chExt cx="6834960" cy="825480"/>
          </a:xfrm>
        </p:grpSpPr>
        <p:sp>
          <p:nvSpPr>
            <p:cNvPr id="1107" name=""/>
            <p:cNvSpPr/>
            <p:nvPr/>
          </p:nvSpPr>
          <p:spPr>
            <a:xfrm flipV="1">
              <a:off x="762120" y="4450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760760" y="4434120"/>
              <a:ext cx="5836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oher nehmen wir die nötigen zeitlich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sonellen und finanziellen Ressourcen?</a:t>
              </a:r>
              <a:endParaRPr b="0" lang="en-US" sz="2400" spc="-1" strike="noStrike">
                <a:solidFill>
                  <a:srgbClr val="000000"/>
                </a:solidFill>
                <a:latin typeface="Times New Roman"/>
              </a:endParaRPr>
            </a:p>
          </p:txBody>
        </p:sp>
      </p:grpSp>
      <p:sp>
        <p:nvSpPr>
          <p:cNvPr id="110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0" name=""/>
          <p:cNvGrpSpPr/>
          <p:nvPr/>
        </p:nvGrpSpPr>
        <p:grpSpPr>
          <a:xfrm>
            <a:off x="762120" y="5500800"/>
            <a:ext cx="7747920" cy="825480"/>
            <a:chOff x="762120" y="5500800"/>
            <a:chExt cx="7747920" cy="825480"/>
          </a:xfrm>
        </p:grpSpPr>
        <p:sp>
          <p:nvSpPr>
            <p:cNvPr id="1111" name=""/>
            <p:cNvSpPr/>
            <p:nvPr/>
          </p:nvSpPr>
          <p:spPr>
            <a:xfrm flipV="1">
              <a:off x="762120" y="55173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1759320" y="5500800"/>
              <a:ext cx="675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d die erforderlichen Entscheidungsstruktur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d Verantwortlichkeiten geklärt?</a:t>
              </a:r>
              <a:endParaRPr b="0" lang="en-US" sz="2400" spc="-1" strike="noStrike">
                <a:solidFill>
                  <a:srgbClr val="000000"/>
                </a:solidFill>
                <a:latin typeface="Times New Roman"/>
              </a:endParaRPr>
            </a:p>
          </p:txBody>
        </p:sp>
      </p:grpSp>
      <p:sp>
        <p:nvSpPr>
          <p:cNvPr id="111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4" name="bmuk_sw" descr=""/>
          <p:cNvPicPr/>
          <p:nvPr/>
        </p:nvPicPr>
        <p:blipFill>
          <a:blip r:embed="rId1"/>
          <a:stretch/>
        </p:blipFill>
        <p:spPr>
          <a:xfrm>
            <a:off x="76320" y="0"/>
            <a:ext cx="1218960" cy="566640"/>
          </a:xfrm>
          <a:prstGeom prst="rect">
            <a:avLst/>
          </a:prstGeom>
          <a:ln w="0">
            <a:noFill/>
          </a:ln>
        </p:spPr>
      </p:pic>
      <p:sp>
        <p:nvSpPr>
          <p:cNvPr id="111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0" y="609480"/>
            <a:ext cx="403848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a:off x="0" y="609480"/>
            <a:ext cx="3962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Aktionsplan zur Umsetz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qis_logo" descr=""/>
          <p:cNvPicPr/>
          <p:nvPr/>
        </p:nvPicPr>
        <p:blipFill>
          <a:blip r:embed="rId1"/>
          <a:stretch/>
        </p:blipFill>
        <p:spPr>
          <a:xfrm>
            <a:off x="7467480" y="0"/>
            <a:ext cx="1562400" cy="812880"/>
          </a:xfrm>
          <a:prstGeom prst="rect">
            <a:avLst/>
          </a:prstGeom>
          <a:ln w="0">
            <a:noFill/>
          </a:ln>
        </p:spPr>
      </p:pic>
      <p:sp>
        <p:nvSpPr>
          <p:cNvPr id="8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bmuk_sw" descr=""/>
          <p:cNvPicPr/>
          <p:nvPr/>
        </p:nvPicPr>
        <p:blipFill>
          <a:blip r:embed="rId2"/>
          <a:stretch/>
        </p:blipFill>
        <p:spPr>
          <a:xfrm>
            <a:off x="0" y="0"/>
            <a:ext cx="1219320" cy="566640"/>
          </a:xfrm>
          <a:prstGeom prst="rect">
            <a:avLst/>
          </a:prstGeom>
          <a:ln w="0">
            <a:noFill/>
          </a:ln>
        </p:spPr>
      </p:pic>
      <p:sp>
        <p:nvSpPr>
          <p:cNvPr id="8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 name="bmuk_sw" descr=""/>
          <p:cNvPicPr/>
          <p:nvPr/>
        </p:nvPicPr>
        <p:blipFill>
          <a:blip r:embed="rId3"/>
          <a:stretch/>
        </p:blipFill>
        <p:spPr>
          <a:xfrm>
            <a:off x="0" y="0"/>
            <a:ext cx="1219320" cy="566640"/>
          </a:xfrm>
          <a:prstGeom prst="rect">
            <a:avLst/>
          </a:prstGeom>
          <a:ln w="0">
            <a:noFill/>
          </a:ln>
        </p:spPr>
      </p:pic>
      <p:sp>
        <p:nvSpPr>
          <p:cNvPr id="9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52680" y="26971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762120" y="1752120"/>
            <a:ext cx="7137360" cy="546120"/>
            <a:chOff x="762120" y="1752120"/>
            <a:chExt cx="7137360" cy="546120"/>
          </a:xfrm>
        </p:grpSpPr>
        <p:sp>
          <p:nvSpPr>
            <p:cNvPr id="94" name=""/>
            <p:cNvSpPr/>
            <p:nvPr/>
          </p:nvSpPr>
          <p:spPr>
            <a:xfrm flipV="1">
              <a:off x="762120" y="17517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134800" y="1781280"/>
              <a:ext cx="576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regung und Unterstützungsangebot</a:t>
              </a:r>
              <a:endParaRPr b="0" lang="en-US" sz="2400" spc="-1" strike="noStrike">
                <a:solidFill>
                  <a:srgbClr val="000000"/>
                </a:solidFill>
                <a:latin typeface="Times New Roman"/>
              </a:endParaRPr>
            </a:p>
          </p:txBody>
        </p:sp>
      </p:grpSp>
      <p:grpSp>
        <p:nvGrpSpPr>
          <p:cNvPr id="96" name=""/>
          <p:cNvGrpSpPr/>
          <p:nvPr/>
        </p:nvGrpSpPr>
        <p:grpSpPr>
          <a:xfrm>
            <a:off x="762120" y="2438280"/>
            <a:ext cx="8226000" cy="825480"/>
            <a:chOff x="762120" y="2438280"/>
            <a:chExt cx="8226000" cy="825480"/>
          </a:xfrm>
        </p:grpSpPr>
        <p:sp>
          <p:nvSpPr>
            <p:cNvPr id="97" name=""/>
            <p:cNvSpPr/>
            <p:nvPr/>
          </p:nvSpPr>
          <p:spPr>
            <a:xfrm flipV="1">
              <a:off x="762120" y="25772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29400" y="2438280"/>
              <a:ext cx="6858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ätsentwicklung und -sicherung als fix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andteil von Schulkultur</a:t>
              </a:r>
              <a:endParaRPr b="0" lang="en-US" sz="2400" spc="-1" strike="noStrike">
                <a:solidFill>
                  <a:srgbClr val="000000"/>
                </a:solidFill>
                <a:latin typeface="Times New Roman"/>
              </a:endParaRPr>
            </a:p>
          </p:txBody>
        </p:sp>
      </p:grpSp>
      <p:grpSp>
        <p:nvGrpSpPr>
          <p:cNvPr id="99" name=""/>
          <p:cNvGrpSpPr/>
          <p:nvPr/>
        </p:nvGrpSpPr>
        <p:grpSpPr>
          <a:xfrm>
            <a:off x="762120" y="3352320"/>
            <a:ext cx="3890520" cy="546120"/>
            <a:chOff x="762120" y="3352320"/>
            <a:chExt cx="3890520" cy="546120"/>
          </a:xfrm>
        </p:grpSpPr>
        <p:sp>
          <p:nvSpPr>
            <p:cNvPr id="100" name=""/>
            <p:cNvSpPr/>
            <p:nvPr/>
          </p:nvSpPr>
          <p:spPr>
            <a:xfrm flipV="1">
              <a:off x="762120" y="33519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35520" y="3429000"/>
              <a:ext cx="251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102" name=""/>
          <p:cNvGrpSpPr/>
          <p:nvPr/>
        </p:nvGrpSpPr>
        <p:grpSpPr>
          <a:xfrm>
            <a:off x="762120" y="4114440"/>
            <a:ext cx="3094200" cy="546120"/>
            <a:chOff x="762120" y="4114440"/>
            <a:chExt cx="3094200" cy="546120"/>
          </a:xfrm>
        </p:grpSpPr>
        <p:sp>
          <p:nvSpPr>
            <p:cNvPr id="103" name=""/>
            <p:cNvSpPr/>
            <p:nvPr/>
          </p:nvSpPr>
          <p:spPr>
            <a:xfrm flipV="1">
              <a:off x="762120" y="4114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134800" y="41432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Times New Roman"/>
              </a:endParaRPr>
            </a:p>
          </p:txBody>
        </p:sp>
      </p:grpSp>
      <p:grpSp>
        <p:nvGrpSpPr>
          <p:cNvPr id="105" name=""/>
          <p:cNvGrpSpPr/>
          <p:nvPr/>
        </p:nvGrpSpPr>
        <p:grpSpPr>
          <a:xfrm>
            <a:off x="762120" y="4876560"/>
            <a:ext cx="4366440" cy="546120"/>
            <a:chOff x="762120" y="4876560"/>
            <a:chExt cx="4366440" cy="546120"/>
          </a:xfrm>
        </p:grpSpPr>
        <p:sp>
          <p:nvSpPr>
            <p:cNvPr id="106" name=""/>
            <p:cNvSpPr/>
            <p:nvPr/>
          </p:nvSpPr>
          <p:spPr>
            <a:xfrm flipV="1">
              <a:off x="762120" y="48762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34440" y="4876920"/>
              <a:ext cx="29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Qualitätsbereiche</a:t>
              </a:r>
              <a:endParaRPr b="0" lang="en-US" sz="2400" spc="-1" strike="noStrike">
                <a:solidFill>
                  <a:srgbClr val="000000"/>
                </a:solidFill>
                <a:latin typeface="Times New Roman"/>
              </a:endParaRPr>
            </a:p>
          </p:txBody>
        </p:sp>
      </p:grpSp>
      <p:sp>
        <p:nvSpPr>
          <p:cNvPr id="10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609480"/>
            <a:ext cx="23623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orum es geh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
          <p:cNvSpPr/>
          <p:nvPr/>
        </p:nvSpPr>
        <p:spPr>
          <a:xfrm>
            <a:off x="1753920" y="1294200"/>
            <a:ext cx="1654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itfragen</a:t>
            </a:r>
            <a:endParaRPr b="0" lang="en-US" sz="2400" spc="-1" strike="noStrike">
              <a:solidFill>
                <a:srgbClr val="000000"/>
              </a:solidFill>
              <a:latin typeface="Times New Roman"/>
            </a:endParaRPr>
          </a:p>
        </p:txBody>
      </p:sp>
      <p:grpSp>
        <p:nvGrpSpPr>
          <p:cNvPr id="1125" name=""/>
          <p:cNvGrpSpPr/>
          <p:nvPr/>
        </p:nvGrpSpPr>
        <p:grpSpPr>
          <a:xfrm>
            <a:off x="762120" y="1827360"/>
            <a:ext cx="7032240" cy="825480"/>
            <a:chOff x="762120" y="1827360"/>
            <a:chExt cx="7032240" cy="825480"/>
          </a:xfrm>
        </p:grpSpPr>
        <p:sp>
          <p:nvSpPr>
            <p:cNvPr id="1126" name=""/>
            <p:cNvSpPr/>
            <p:nvPr/>
          </p:nvSpPr>
          <p:spPr>
            <a:xfrm flipV="1">
              <a:off x="762120" y="19681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770480" y="1827360"/>
              <a:ext cx="60238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nn und wie überprüfen wir, ob wir uns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gewünschte Richtung bewegen?</a:t>
              </a:r>
              <a:endParaRPr b="0" lang="en-US" sz="2400" spc="-1" strike="noStrike">
                <a:solidFill>
                  <a:srgbClr val="000000"/>
                </a:solidFill>
                <a:latin typeface="Times New Roman"/>
              </a:endParaRPr>
            </a:p>
          </p:txBody>
        </p:sp>
      </p:grpSp>
      <p:grpSp>
        <p:nvGrpSpPr>
          <p:cNvPr id="1128" name=""/>
          <p:cNvGrpSpPr/>
          <p:nvPr/>
        </p:nvGrpSpPr>
        <p:grpSpPr>
          <a:xfrm>
            <a:off x="762120" y="2757600"/>
            <a:ext cx="7239240" cy="825480"/>
            <a:chOff x="762120" y="2757600"/>
            <a:chExt cx="7239240" cy="825480"/>
          </a:xfrm>
        </p:grpSpPr>
        <p:sp>
          <p:nvSpPr>
            <p:cNvPr id="1129" name=""/>
            <p:cNvSpPr/>
            <p:nvPr/>
          </p:nvSpPr>
          <p:spPr>
            <a:xfrm flipV="1">
              <a:off x="762120" y="2911320"/>
              <a:ext cx="838080" cy="54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759680" y="2757600"/>
              <a:ext cx="6241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ch welche Kriterien und aufgrund welc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dikatoren beurteilen wir die Ergebnisse?</a:t>
              </a:r>
              <a:endParaRPr b="0" lang="en-US" sz="2400" spc="-1" strike="noStrike">
                <a:solidFill>
                  <a:srgbClr val="000000"/>
                </a:solidFill>
                <a:latin typeface="Times New Roman"/>
              </a:endParaRPr>
            </a:p>
          </p:txBody>
        </p:sp>
      </p:grpSp>
      <p:grpSp>
        <p:nvGrpSpPr>
          <p:cNvPr id="1131" name=""/>
          <p:cNvGrpSpPr/>
          <p:nvPr/>
        </p:nvGrpSpPr>
        <p:grpSpPr>
          <a:xfrm>
            <a:off x="762120" y="3656160"/>
            <a:ext cx="7053480" cy="825480"/>
            <a:chOff x="762120" y="3656160"/>
            <a:chExt cx="7053480" cy="825480"/>
          </a:xfrm>
        </p:grpSpPr>
        <p:sp>
          <p:nvSpPr>
            <p:cNvPr id="1132" name=""/>
            <p:cNvSpPr/>
            <p:nvPr/>
          </p:nvSpPr>
          <p:spPr>
            <a:xfrm flipV="1">
              <a:off x="762120" y="38268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756800" y="3656160"/>
              <a:ext cx="6058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lcher Methoden und Instrumente woll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 uns bedienen?</a:t>
              </a:r>
              <a:endParaRPr b="0" lang="en-US" sz="2400" spc="-1" strike="noStrike">
                <a:solidFill>
                  <a:srgbClr val="000000"/>
                </a:solidFill>
                <a:latin typeface="Times New Roman"/>
              </a:endParaRPr>
            </a:p>
          </p:txBody>
        </p:sp>
      </p:grpSp>
      <p:grpSp>
        <p:nvGrpSpPr>
          <p:cNvPr id="1134" name=""/>
          <p:cNvGrpSpPr/>
          <p:nvPr/>
        </p:nvGrpSpPr>
        <p:grpSpPr>
          <a:xfrm>
            <a:off x="762120" y="4633560"/>
            <a:ext cx="7696440" cy="625680"/>
            <a:chOff x="762120" y="4633560"/>
            <a:chExt cx="7696440" cy="625680"/>
          </a:xfrm>
        </p:grpSpPr>
        <p:sp>
          <p:nvSpPr>
            <p:cNvPr id="1135" name=""/>
            <p:cNvSpPr/>
            <p:nvPr/>
          </p:nvSpPr>
          <p:spPr>
            <a:xfrm flipV="1">
              <a:off x="762120" y="46332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759680" y="4799520"/>
              <a:ext cx="6698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e schützen wir uns gegen „Betriebsblindheit“?</a:t>
              </a:r>
              <a:endParaRPr b="0" lang="en-US" sz="2400" spc="-1" strike="noStrike">
                <a:solidFill>
                  <a:srgbClr val="000000"/>
                </a:solidFill>
                <a:latin typeface="Times New Roman"/>
              </a:endParaRPr>
            </a:p>
          </p:txBody>
        </p:sp>
      </p:grpSp>
      <p:sp>
        <p:nvSpPr>
          <p:cNvPr id="1137"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38" name=""/>
          <p:cNvGrpSpPr/>
          <p:nvPr/>
        </p:nvGrpSpPr>
        <p:grpSpPr>
          <a:xfrm>
            <a:off x="762120" y="5409720"/>
            <a:ext cx="7696440" cy="546120"/>
            <a:chOff x="762120" y="5409720"/>
            <a:chExt cx="7696440" cy="546120"/>
          </a:xfrm>
        </p:grpSpPr>
        <p:sp>
          <p:nvSpPr>
            <p:cNvPr id="1139" name=""/>
            <p:cNvSpPr/>
            <p:nvPr/>
          </p:nvSpPr>
          <p:spPr>
            <a:xfrm flipV="1">
              <a:off x="762120" y="54093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758240" y="5455080"/>
              <a:ext cx="6700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as geschieht mit den Daten und Ergebnissen?</a:t>
              </a:r>
              <a:endParaRPr b="0" lang="en-US" sz="2400" spc="-1" strike="noStrike">
                <a:solidFill>
                  <a:srgbClr val="000000"/>
                </a:solidFill>
                <a:latin typeface="Times New Roman"/>
              </a:endParaRPr>
            </a:p>
          </p:txBody>
        </p:sp>
      </p:grpSp>
      <p:sp>
        <p:nvSpPr>
          <p:cNvPr id="114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bmuk_sw" descr=""/>
          <p:cNvPicPr/>
          <p:nvPr/>
        </p:nvPicPr>
        <p:blipFill>
          <a:blip r:embed="rId1"/>
          <a:stretch/>
        </p:blipFill>
        <p:spPr>
          <a:xfrm>
            <a:off x="76320" y="0"/>
            <a:ext cx="1218960" cy="566640"/>
          </a:xfrm>
          <a:prstGeom prst="rect">
            <a:avLst/>
          </a:prstGeom>
          <a:ln w="0">
            <a:noFill/>
          </a:ln>
        </p:spPr>
      </p:pic>
      <p:sp>
        <p:nvSpPr>
          <p:cNvPr id="114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0" y="609480"/>
            <a:ext cx="4191120" cy="381240"/>
          </a:xfrm>
          <a:prstGeom prst="rect">
            <a:avLst/>
          </a:prstGeom>
          <a:solidFill>
            <a:srgbClr val="00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0" y="609480"/>
            <a:ext cx="41911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Maßnahmen der Überprüf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1445040" y="1446840"/>
            <a:ext cx="572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 erstellen wir ein Schulprogramm?</a:t>
            </a:r>
            <a:endParaRPr b="0" lang="en-US" sz="2400" spc="-1" strike="noStrike">
              <a:solidFill>
                <a:srgbClr val="000000"/>
              </a:solidFill>
              <a:latin typeface="Times New Roman"/>
            </a:endParaRPr>
          </a:p>
        </p:txBody>
      </p:sp>
      <p:sp>
        <p:nvSpPr>
          <p:cNvPr id="115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453680" y="2030040"/>
            <a:ext cx="6517440" cy="127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r Weg von der Bestandsaufnahm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m Schulprogramm könnte über 3 Schritte führ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160" name=""/>
          <p:cNvGrpSpPr/>
          <p:nvPr/>
        </p:nvGrpSpPr>
        <p:grpSpPr>
          <a:xfrm>
            <a:off x="1219320" y="3337200"/>
            <a:ext cx="9296280" cy="1769760"/>
            <a:chOff x="1219320" y="3337200"/>
            <a:chExt cx="9296280" cy="1769760"/>
          </a:xfrm>
        </p:grpSpPr>
        <p:sp>
          <p:nvSpPr>
            <p:cNvPr id="1161" name=""/>
            <p:cNvSpPr/>
            <p:nvPr/>
          </p:nvSpPr>
          <p:spPr>
            <a:xfrm>
              <a:off x="1981080" y="3337200"/>
              <a:ext cx="853452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on der Datenerhebung zur Reflexion:</a:t>
              </a:r>
              <a:br>
                <a:rPr sz="2200"/>
              </a:br>
              <a:r>
                <a:rPr b="0" lang="de-DE" sz="2200" spc="-1" strike="noStrike">
                  <a:solidFill>
                    <a:srgbClr val="000000"/>
                  </a:solidFill>
                  <a:latin typeface="Arial"/>
                </a:rPr>
                <a:t>Reflexion der Schulpartner/innen auf breiter Basis: </a:t>
              </a:r>
              <a:br>
                <a:rPr sz="2200"/>
              </a:br>
              <a:r>
                <a:rPr b="0" lang="de-DE" sz="2200" spc="-1" strike="noStrike">
                  <a:solidFill>
                    <a:srgbClr val="000000"/>
                  </a:solidFill>
                  <a:latin typeface="Arial"/>
                </a:rPr>
                <a:t>Was bedeuten die Ergebnisse </a:t>
              </a:r>
              <a:br>
                <a:rPr sz="2200"/>
              </a:br>
              <a:r>
                <a:rPr b="0" lang="de-DE" sz="2200" spc="-1" strike="noStrike">
                  <a:solidFill>
                    <a:srgbClr val="000000"/>
                  </a:solidFill>
                  <a:latin typeface="Arial"/>
                </a:rPr>
                <a:t>der Bestandsaufnahme für uns?</a:t>
              </a:r>
              <a:br>
                <a:rPr sz="2200"/>
              </a:br>
              <a:endParaRPr b="0" lang="en-US" sz="2200" spc="-1" strike="noStrike">
                <a:solidFill>
                  <a:srgbClr val="000000"/>
                </a:solidFill>
                <a:latin typeface="Times New Roman"/>
              </a:endParaRPr>
            </a:p>
          </p:txBody>
        </p:sp>
        <p:sp>
          <p:nvSpPr>
            <p:cNvPr id="1162" name=""/>
            <p:cNvSpPr/>
            <p:nvPr/>
          </p:nvSpPr>
          <p:spPr>
            <a:xfrm>
              <a:off x="1219320" y="3397680"/>
              <a:ext cx="457200" cy="11912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1</a:t>
              </a:r>
              <a:endParaRPr b="0" lang="en-US" sz="7200" spc="-1" strike="noStrike">
                <a:solidFill>
                  <a:srgbClr val="000000"/>
                </a:solidFill>
                <a:latin typeface="Times New Roman"/>
              </a:endParaRPr>
            </a:p>
          </p:txBody>
        </p:sp>
      </p:grpSp>
      <p:sp>
        <p:nvSpPr>
          <p:cNvPr id="116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0" y="609480"/>
            <a:ext cx="24382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8" name="bmuk_sw" descr=""/>
          <p:cNvPicPr/>
          <p:nvPr/>
        </p:nvPicPr>
        <p:blipFill>
          <a:blip r:embed="rId1"/>
          <a:stretch/>
        </p:blipFill>
        <p:spPr>
          <a:xfrm>
            <a:off x="76320" y="0"/>
            <a:ext cx="1218960" cy="566640"/>
          </a:xfrm>
          <a:prstGeom prst="rect">
            <a:avLst/>
          </a:prstGeom>
          <a:ln w="0">
            <a:noFill/>
          </a:ln>
        </p:spPr>
      </p:pic>
      <p:sp>
        <p:nvSpPr>
          <p:cNvPr id="116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445040" y="1446840"/>
            <a:ext cx="572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 erstellen wir ein Schulprogramm?</a:t>
            </a:r>
            <a:endParaRPr b="0" lang="en-US" sz="2400" spc="-1" strike="noStrike">
              <a:solidFill>
                <a:srgbClr val="000000"/>
              </a:solidFill>
              <a:latin typeface="Times New Roman"/>
            </a:endParaRPr>
          </a:p>
        </p:txBody>
      </p:sp>
      <p:sp>
        <p:nvSpPr>
          <p:cNvPr id="1171"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453680" y="2030040"/>
            <a:ext cx="6517440" cy="127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r Weg von der Bestandsaufnahm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m Schulprogramm könnte über 3 Schritte führ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178" name=""/>
          <p:cNvGrpSpPr/>
          <p:nvPr/>
        </p:nvGrpSpPr>
        <p:grpSpPr>
          <a:xfrm>
            <a:off x="1219320" y="3397680"/>
            <a:ext cx="6703560" cy="1464840"/>
            <a:chOff x="1219320" y="3397680"/>
            <a:chExt cx="6703560" cy="1464840"/>
          </a:xfrm>
        </p:grpSpPr>
        <p:sp>
          <p:nvSpPr>
            <p:cNvPr id="1179" name=""/>
            <p:cNvSpPr/>
            <p:nvPr/>
          </p:nvSpPr>
          <p:spPr>
            <a:xfrm>
              <a:off x="1219320" y="3397680"/>
              <a:ext cx="609480" cy="11912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2</a:t>
              </a:r>
              <a:endParaRPr b="0" lang="en-US" sz="7200" spc="-1" strike="noStrike">
                <a:solidFill>
                  <a:srgbClr val="000000"/>
                </a:solidFill>
                <a:latin typeface="Times New Roman"/>
              </a:endParaRPr>
            </a:p>
          </p:txBody>
        </p:sp>
        <p:sp>
          <p:nvSpPr>
            <p:cNvPr id="1180" name=""/>
            <p:cNvSpPr/>
            <p:nvPr/>
          </p:nvSpPr>
          <p:spPr>
            <a:xfrm>
              <a:off x="2021040" y="3427920"/>
              <a:ext cx="590184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on der Reflexion zur Zielbestimmung:</a:t>
              </a:r>
              <a:br>
                <a:rPr sz="2200"/>
              </a:br>
              <a:r>
                <a:rPr b="0" lang="de-DE" sz="2200" spc="-1" strike="noStrike">
                  <a:solidFill>
                    <a:srgbClr val="000000"/>
                  </a:solidFill>
                  <a:latin typeface="Arial"/>
                </a:rPr>
                <a:t>Bündelung, Gewichtung der Meinung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Interessen: Welche Ziele setzen wir un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
        <p:nvSpPr>
          <p:cNvPr id="118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0" y="609480"/>
            <a:ext cx="24382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5" name="bmuk_sw" descr=""/>
          <p:cNvPicPr/>
          <p:nvPr/>
        </p:nvPicPr>
        <p:blipFill>
          <a:blip r:embed="rId1"/>
          <a:stretch/>
        </p:blipFill>
        <p:spPr>
          <a:xfrm>
            <a:off x="76320" y="0"/>
            <a:ext cx="1218960" cy="566640"/>
          </a:xfrm>
          <a:prstGeom prst="rect">
            <a:avLst/>
          </a:prstGeom>
          <a:ln w="0">
            <a:noFill/>
          </a:ln>
        </p:spPr>
      </p:pic>
      <p:sp>
        <p:nvSpPr>
          <p:cNvPr id="118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445040" y="1446840"/>
            <a:ext cx="572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 erstellen wir ein Schulprogramm?</a:t>
            </a:r>
            <a:endParaRPr b="0" lang="en-US" sz="2400" spc="-1" strike="noStrike">
              <a:solidFill>
                <a:srgbClr val="000000"/>
              </a:solidFill>
              <a:latin typeface="Times New Roman"/>
            </a:endParaRPr>
          </a:p>
        </p:txBody>
      </p:sp>
      <p:sp>
        <p:nvSpPr>
          <p:cNvPr id="118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1453680" y="2030040"/>
            <a:ext cx="6517440" cy="127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r Weg von der Bestandsaufnahm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m Schulprogramm könnte über 3 Schritte führ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1195" name=""/>
          <p:cNvGrpSpPr/>
          <p:nvPr/>
        </p:nvGrpSpPr>
        <p:grpSpPr>
          <a:xfrm>
            <a:off x="1219320" y="3351240"/>
            <a:ext cx="6755760" cy="2440080"/>
            <a:chOff x="1219320" y="3351240"/>
            <a:chExt cx="6755760" cy="2440080"/>
          </a:xfrm>
        </p:grpSpPr>
        <p:sp>
          <p:nvSpPr>
            <p:cNvPr id="1196" name=""/>
            <p:cNvSpPr/>
            <p:nvPr/>
          </p:nvSpPr>
          <p:spPr>
            <a:xfrm>
              <a:off x="1219320" y="3397680"/>
              <a:ext cx="609480" cy="1191240"/>
            </a:xfrm>
            <a:prstGeom prst="rect">
              <a:avLst/>
            </a:prstGeom>
            <a:solidFill>
              <a:srgbClr val="3333cc"/>
            </a:solidFill>
            <a:ln w="0">
              <a:noFill/>
            </a:ln>
          </p:spPr>
          <p:style>
            <a:lnRef idx="0"/>
            <a:fillRef idx="0"/>
            <a:effectRef idx="0"/>
            <a:fontRef idx="minor"/>
          </p:style>
          <p:txBody>
            <a:bodyPr lIns="90000" rIns="90000" tIns="46800" bIns="46800" anchor="ctr">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3</a:t>
              </a:r>
              <a:endParaRPr b="0" lang="en-US" sz="7200" spc="-1" strike="noStrike">
                <a:solidFill>
                  <a:srgbClr val="000000"/>
                </a:solidFill>
                <a:latin typeface="Times New Roman"/>
              </a:endParaRPr>
            </a:p>
          </p:txBody>
        </p:sp>
        <p:sp>
          <p:nvSpPr>
            <p:cNvPr id="1197" name=""/>
            <p:cNvSpPr/>
            <p:nvPr/>
          </p:nvSpPr>
          <p:spPr>
            <a:xfrm>
              <a:off x="2062440" y="3351240"/>
              <a:ext cx="5912640" cy="244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on den Zielen zum Programm:</a:t>
              </a:r>
              <a:br>
                <a:rPr sz="2200"/>
              </a:br>
              <a:r>
                <a:rPr b="0" lang="de-DE" sz="2200" spc="-1" strike="noStrike">
                  <a:solidFill>
                    <a:srgbClr val="000000"/>
                  </a:solidFill>
                  <a:latin typeface="Arial"/>
                </a:rPr>
                <a:t>Festlegung von Umsetzungsmaßnahmen u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folgskriteri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elche Vorhaben wollen wir verwirklich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m die Ziele zu erreich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woran werden wir merken, das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r erfolgreich sind?</a:t>
              </a:r>
              <a:endParaRPr b="0" lang="en-US" sz="2200" spc="-1" strike="noStrike">
                <a:solidFill>
                  <a:srgbClr val="000000"/>
                </a:solidFill>
                <a:latin typeface="Times New Roman"/>
              </a:endParaRPr>
            </a:p>
          </p:txBody>
        </p:sp>
      </p:grpSp>
      <p:sp>
        <p:nvSpPr>
          <p:cNvPr id="119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0" y="609480"/>
            <a:ext cx="24382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2" name="bmuk_sw" descr=""/>
          <p:cNvPicPr/>
          <p:nvPr/>
        </p:nvPicPr>
        <p:blipFill>
          <a:blip r:embed="rId1"/>
          <a:stretch/>
        </p:blipFill>
        <p:spPr>
          <a:xfrm>
            <a:off x="76320" y="0"/>
            <a:ext cx="1218960" cy="566640"/>
          </a:xfrm>
          <a:prstGeom prst="rect">
            <a:avLst/>
          </a:prstGeom>
          <a:ln w="0">
            <a:noFill/>
          </a:ln>
        </p:spPr>
      </p:pic>
      <p:sp>
        <p:nvSpPr>
          <p:cNvPr id="120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622520" y="1446840"/>
            <a:ext cx="5702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as lässt Schulprogramme gelingen?</a:t>
            </a:r>
            <a:endParaRPr b="0" lang="en-US" sz="2400" spc="-1" strike="noStrike">
              <a:solidFill>
                <a:srgbClr val="000000"/>
              </a:solidFill>
              <a:latin typeface="Times New Roman"/>
            </a:endParaRPr>
          </a:p>
        </p:txBody>
      </p:sp>
      <p:sp>
        <p:nvSpPr>
          <p:cNvPr id="120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0" y="609480"/>
            <a:ext cx="24382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a:t>
            </a:r>
            <a:endParaRPr b="0" lang="en-US" sz="2200" spc="-1" strike="noStrike">
              <a:solidFill>
                <a:srgbClr val="000000"/>
              </a:solidFill>
              <a:latin typeface="Times New Roman"/>
            </a:endParaRPr>
          </a:p>
        </p:txBody>
      </p:sp>
      <p:grpSp>
        <p:nvGrpSpPr>
          <p:cNvPr id="1215" name=""/>
          <p:cNvGrpSpPr/>
          <p:nvPr/>
        </p:nvGrpSpPr>
        <p:grpSpPr>
          <a:xfrm>
            <a:off x="1219320" y="2209680"/>
            <a:ext cx="5268600" cy="533520"/>
            <a:chOff x="1219320" y="2209680"/>
            <a:chExt cx="5268600" cy="533520"/>
          </a:xfrm>
        </p:grpSpPr>
        <p:sp>
          <p:nvSpPr>
            <p:cNvPr id="1216" name=""/>
            <p:cNvSpPr/>
            <p:nvPr/>
          </p:nvSpPr>
          <p:spPr>
            <a:xfrm>
              <a:off x="1770120" y="2224440"/>
              <a:ext cx="4717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n und Zweck müssen klar sein</a:t>
              </a:r>
              <a:endParaRPr b="0" lang="en-US" sz="2400" spc="-1" strike="noStrike">
                <a:solidFill>
                  <a:srgbClr val="000000"/>
                </a:solidFill>
                <a:latin typeface="Times New Roman"/>
              </a:endParaRPr>
            </a:p>
          </p:txBody>
        </p:sp>
        <p:sp>
          <p:nvSpPr>
            <p:cNvPr id="1217" name=""/>
            <p:cNvSpPr/>
            <p:nvPr/>
          </p:nvSpPr>
          <p:spPr>
            <a:xfrm rot="5400000">
              <a:off x="1143000" y="22860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8" name=""/>
          <p:cNvGrpSpPr/>
          <p:nvPr/>
        </p:nvGrpSpPr>
        <p:grpSpPr>
          <a:xfrm>
            <a:off x="1219320" y="2970720"/>
            <a:ext cx="4647960" cy="534600"/>
            <a:chOff x="1219320" y="2970720"/>
            <a:chExt cx="4647960" cy="534600"/>
          </a:xfrm>
        </p:grpSpPr>
        <p:sp>
          <p:nvSpPr>
            <p:cNvPr id="1219" name=""/>
            <p:cNvSpPr/>
            <p:nvPr/>
          </p:nvSpPr>
          <p:spPr>
            <a:xfrm>
              <a:off x="1752480" y="297072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iger ist oft mehr</a:t>
              </a:r>
              <a:endParaRPr b="0" lang="en-US" sz="2400" spc="-1" strike="noStrike">
                <a:solidFill>
                  <a:srgbClr val="000000"/>
                </a:solidFill>
                <a:latin typeface="Times New Roman"/>
              </a:endParaRPr>
            </a:p>
          </p:txBody>
        </p:sp>
        <p:sp>
          <p:nvSpPr>
            <p:cNvPr id="1220" name=""/>
            <p:cNvSpPr/>
            <p:nvPr/>
          </p:nvSpPr>
          <p:spPr>
            <a:xfrm rot="5400000">
              <a:off x="1143000" y="30481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1219320" y="3625920"/>
            <a:ext cx="6476760" cy="825480"/>
            <a:chOff x="1219320" y="3625920"/>
            <a:chExt cx="6476760" cy="825480"/>
          </a:xfrm>
        </p:grpSpPr>
        <p:sp>
          <p:nvSpPr>
            <p:cNvPr id="1222" name=""/>
            <p:cNvSpPr/>
            <p:nvPr/>
          </p:nvSpPr>
          <p:spPr>
            <a:xfrm>
              <a:off x="1752480" y="3625920"/>
              <a:ext cx="59436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rukturen und Abläufe sind transparent und funktionell</a:t>
              </a:r>
              <a:endParaRPr b="0" lang="en-US" sz="2400" spc="-1" strike="noStrike">
                <a:solidFill>
                  <a:srgbClr val="000000"/>
                </a:solidFill>
                <a:latin typeface="Times New Roman"/>
              </a:endParaRPr>
            </a:p>
          </p:txBody>
        </p:sp>
        <p:sp>
          <p:nvSpPr>
            <p:cNvPr id="1223" name=""/>
            <p:cNvSpPr/>
            <p:nvPr/>
          </p:nvSpPr>
          <p:spPr>
            <a:xfrm rot="5400000">
              <a:off x="1143000" y="38862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4" name=""/>
          <p:cNvGrpSpPr/>
          <p:nvPr/>
        </p:nvGrpSpPr>
        <p:grpSpPr>
          <a:xfrm>
            <a:off x="1219320" y="4601160"/>
            <a:ext cx="6476760" cy="534240"/>
            <a:chOff x="1219320" y="4601160"/>
            <a:chExt cx="6476760" cy="534240"/>
          </a:xfrm>
        </p:grpSpPr>
        <p:sp>
          <p:nvSpPr>
            <p:cNvPr id="1225" name=""/>
            <p:cNvSpPr/>
            <p:nvPr/>
          </p:nvSpPr>
          <p:spPr>
            <a:xfrm>
              <a:off x="1752480" y="4601160"/>
              <a:ext cx="594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schriftlichung fördert Verbindlichkeit</a:t>
              </a:r>
              <a:endParaRPr b="0" lang="en-US" sz="2400" spc="-1" strike="noStrike">
                <a:solidFill>
                  <a:srgbClr val="000000"/>
                </a:solidFill>
                <a:latin typeface="Times New Roman"/>
              </a:endParaRPr>
            </a:p>
          </p:txBody>
        </p:sp>
        <p:sp>
          <p:nvSpPr>
            <p:cNvPr id="1226" name=""/>
            <p:cNvSpPr/>
            <p:nvPr/>
          </p:nvSpPr>
          <p:spPr>
            <a:xfrm rot="5400000">
              <a:off x="1143000" y="467820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7" name=""/>
          <p:cNvGrpSpPr/>
          <p:nvPr/>
        </p:nvGrpSpPr>
        <p:grpSpPr>
          <a:xfrm>
            <a:off x="1219320" y="5332680"/>
            <a:ext cx="7162560" cy="534600"/>
            <a:chOff x="1219320" y="5332680"/>
            <a:chExt cx="7162560" cy="534600"/>
          </a:xfrm>
        </p:grpSpPr>
        <p:sp>
          <p:nvSpPr>
            <p:cNvPr id="1228" name=""/>
            <p:cNvSpPr/>
            <p:nvPr/>
          </p:nvSpPr>
          <p:spPr>
            <a:xfrm>
              <a:off x="1752480" y="5332680"/>
              <a:ext cx="6629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chrittweise Umsetzung kommt es an</a:t>
              </a:r>
              <a:endParaRPr b="0" lang="en-US" sz="2400" spc="-1" strike="noStrike">
                <a:solidFill>
                  <a:srgbClr val="000000"/>
                </a:solidFill>
                <a:latin typeface="Times New Roman"/>
              </a:endParaRPr>
            </a:p>
          </p:txBody>
        </p:sp>
        <p:sp>
          <p:nvSpPr>
            <p:cNvPr id="1229" name=""/>
            <p:cNvSpPr/>
            <p:nvPr/>
          </p:nvSpPr>
          <p:spPr>
            <a:xfrm rot="5400000">
              <a:off x="1143000" y="5410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0" y="609480"/>
            <a:ext cx="26668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 in Schule</a:t>
            </a:r>
            <a:endParaRPr b="0" lang="en-US" sz="2200" spc="-1" strike="noStrike">
              <a:solidFill>
                <a:srgbClr val="000000"/>
              </a:solidFill>
              <a:latin typeface="Times New Roman"/>
            </a:endParaRPr>
          </a:p>
        </p:txBody>
      </p:sp>
      <p:grpSp>
        <p:nvGrpSpPr>
          <p:cNvPr id="1236" name=""/>
          <p:cNvGrpSpPr/>
          <p:nvPr/>
        </p:nvGrpSpPr>
        <p:grpSpPr>
          <a:xfrm>
            <a:off x="1143000" y="913320"/>
            <a:ext cx="3505320" cy="459720"/>
            <a:chOff x="1143000" y="913320"/>
            <a:chExt cx="3505320" cy="459720"/>
          </a:xfrm>
        </p:grpSpPr>
        <p:sp>
          <p:nvSpPr>
            <p:cNvPr id="1237" name=""/>
            <p:cNvSpPr/>
            <p:nvPr/>
          </p:nvSpPr>
          <p:spPr>
            <a:xfrm>
              <a:off x="1143000" y="990720"/>
              <a:ext cx="35053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
            <p:cNvSpPr/>
            <p:nvPr/>
          </p:nvSpPr>
          <p:spPr>
            <a:xfrm>
              <a:off x="1671840" y="913320"/>
              <a:ext cx="251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1239" name=""/>
          <p:cNvGrpSpPr/>
          <p:nvPr/>
        </p:nvGrpSpPr>
        <p:grpSpPr>
          <a:xfrm>
            <a:off x="4648320" y="913320"/>
            <a:ext cx="4495680" cy="459720"/>
            <a:chOff x="4648320" y="913320"/>
            <a:chExt cx="4495680" cy="459720"/>
          </a:xfrm>
        </p:grpSpPr>
        <p:sp>
          <p:nvSpPr>
            <p:cNvPr id="1240" name=""/>
            <p:cNvSpPr/>
            <p:nvPr/>
          </p:nvSpPr>
          <p:spPr>
            <a:xfrm>
              <a:off x="4648320" y="990720"/>
              <a:ext cx="4495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411160" y="913320"/>
              <a:ext cx="172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Times New Roman"/>
              </a:endParaRPr>
            </a:p>
          </p:txBody>
        </p:sp>
      </p:grpSp>
      <p:grpSp>
        <p:nvGrpSpPr>
          <p:cNvPr id="1242" name=""/>
          <p:cNvGrpSpPr/>
          <p:nvPr/>
        </p:nvGrpSpPr>
        <p:grpSpPr>
          <a:xfrm>
            <a:off x="3479760" y="1371600"/>
            <a:ext cx="2297160" cy="1339560"/>
            <a:chOff x="3479760" y="1371600"/>
            <a:chExt cx="2297160" cy="1339560"/>
          </a:xfrm>
        </p:grpSpPr>
        <p:sp>
          <p:nvSpPr>
            <p:cNvPr id="1243" name=""/>
            <p:cNvSpPr/>
            <p:nvPr/>
          </p:nvSpPr>
          <p:spPr>
            <a:xfrm>
              <a:off x="3479760" y="1371600"/>
              <a:ext cx="2297160" cy="133956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823920" y="1517040"/>
              <a:ext cx="1686600" cy="9900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msetzung</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nkreter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ßnahmen</a:t>
              </a:r>
              <a:endParaRPr b="0" lang="en-US" sz="2000" spc="-1" strike="noStrike">
                <a:solidFill>
                  <a:srgbClr val="000000"/>
                </a:solidFill>
                <a:latin typeface="Times New Roman"/>
              </a:endParaRPr>
            </a:p>
          </p:txBody>
        </p:sp>
      </p:grpSp>
      <p:grpSp>
        <p:nvGrpSpPr>
          <p:cNvPr id="1245" name=""/>
          <p:cNvGrpSpPr/>
          <p:nvPr/>
        </p:nvGrpSpPr>
        <p:grpSpPr>
          <a:xfrm>
            <a:off x="6448320" y="3860640"/>
            <a:ext cx="2558520" cy="669960"/>
            <a:chOff x="6448320" y="3860640"/>
            <a:chExt cx="2558520" cy="669960"/>
          </a:xfrm>
        </p:grpSpPr>
        <p:sp>
          <p:nvSpPr>
            <p:cNvPr id="1246" name=""/>
            <p:cNvSpPr/>
            <p:nvPr/>
          </p:nvSpPr>
          <p:spPr>
            <a:xfrm>
              <a:off x="6448320" y="3860640"/>
              <a:ext cx="2543400" cy="669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6476040" y="3964320"/>
              <a:ext cx="253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andsaufnahme</a:t>
              </a:r>
              <a:endParaRPr b="0" lang="en-US" sz="2000" spc="-1" strike="noStrike">
                <a:solidFill>
                  <a:srgbClr val="000000"/>
                </a:solidFill>
                <a:latin typeface="Times New Roman"/>
              </a:endParaRPr>
            </a:p>
          </p:txBody>
        </p:sp>
      </p:grpSp>
      <p:grpSp>
        <p:nvGrpSpPr>
          <p:cNvPr id="1248" name=""/>
          <p:cNvGrpSpPr/>
          <p:nvPr/>
        </p:nvGrpSpPr>
        <p:grpSpPr>
          <a:xfrm>
            <a:off x="3479760" y="5103720"/>
            <a:ext cx="2297160" cy="1339920"/>
            <a:chOff x="3479760" y="5103720"/>
            <a:chExt cx="2297160" cy="1339920"/>
          </a:xfrm>
        </p:grpSpPr>
        <p:sp>
          <p:nvSpPr>
            <p:cNvPr id="1249" name=""/>
            <p:cNvSpPr/>
            <p:nvPr/>
          </p:nvSpPr>
          <p:spPr>
            <a:xfrm>
              <a:off x="3479760" y="5103720"/>
              <a:ext cx="2297160" cy="1339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3710160" y="5393520"/>
              <a:ext cx="1895400" cy="70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flexion</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Ergebnisse</a:t>
              </a:r>
              <a:endParaRPr b="0" lang="en-US" sz="2000" spc="-1" strike="noStrike">
                <a:solidFill>
                  <a:srgbClr val="000000"/>
                </a:solidFill>
                <a:latin typeface="Times New Roman"/>
              </a:endParaRPr>
            </a:p>
          </p:txBody>
        </p:sp>
      </p:grpSp>
      <p:grpSp>
        <p:nvGrpSpPr>
          <p:cNvPr id="1251" name=""/>
          <p:cNvGrpSpPr/>
          <p:nvPr/>
        </p:nvGrpSpPr>
        <p:grpSpPr>
          <a:xfrm>
            <a:off x="583560" y="3189240"/>
            <a:ext cx="2323080" cy="1341360"/>
            <a:chOff x="583560" y="3189240"/>
            <a:chExt cx="2323080" cy="1341360"/>
          </a:xfrm>
        </p:grpSpPr>
        <p:sp>
          <p:nvSpPr>
            <p:cNvPr id="1252" name=""/>
            <p:cNvSpPr/>
            <p:nvPr/>
          </p:nvSpPr>
          <p:spPr>
            <a:xfrm>
              <a:off x="60948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83560" y="3349080"/>
              <a:ext cx="23220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ulprogramm</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ele und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haben</a:t>
              </a:r>
              <a:endParaRPr b="0" lang="en-US" sz="2000" spc="-1" strike="noStrike">
                <a:solidFill>
                  <a:srgbClr val="000000"/>
                </a:solidFill>
                <a:latin typeface="Times New Roman"/>
              </a:endParaRPr>
            </a:p>
          </p:txBody>
        </p:sp>
      </p:grpSp>
      <p:grpSp>
        <p:nvGrpSpPr>
          <p:cNvPr id="1254" name=""/>
          <p:cNvGrpSpPr/>
          <p:nvPr/>
        </p:nvGrpSpPr>
        <p:grpSpPr>
          <a:xfrm>
            <a:off x="3479760" y="3189240"/>
            <a:ext cx="2297160" cy="1341360"/>
            <a:chOff x="3479760" y="3189240"/>
            <a:chExt cx="2297160" cy="1341360"/>
          </a:xfrm>
        </p:grpSpPr>
        <p:sp>
          <p:nvSpPr>
            <p:cNvPr id="1255" name=""/>
            <p:cNvSpPr/>
            <p:nvPr/>
          </p:nvSpPr>
          <p:spPr>
            <a:xfrm>
              <a:off x="347976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3873600" y="3520800"/>
              <a:ext cx="1640880" cy="73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a:t>
              </a:r>
              <a:endParaRPr b="0" lang="en-US" sz="2200" spc="-1" strike="noStrike">
                <a:solidFill>
                  <a:srgbClr val="000000"/>
                </a:solidFill>
                <a:latin typeface="Times New Roman"/>
              </a:endParaRPr>
            </a:p>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kussion</a:t>
              </a:r>
              <a:endParaRPr b="0" lang="en-US" sz="2200" spc="-1" strike="noStrike">
                <a:solidFill>
                  <a:srgbClr val="000000"/>
                </a:solidFill>
                <a:latin typeface="Times New Roman"/>
              </a:endParaRPr>
            </a:p>
          </p:txBody>
        </p:sp>
      </p:grpSp>
      <p:grpSp>
        <p:nvGrpSpPr>
          <p:cNvPr id="1257" name=""/>
          <p:cNvGrpSpPr/>
          <p:nvPr/>
        </p:nvGrpSpPr>
        <p:grpSpPr>
          <a:xfrm>
            <a:off x="6448320" y="3189240"/>
            <a:ext cx="2543400" cy="671400"/>
            <a:chOff x="6448320" y="3189240"/>
            <a:chExt cx="2543400" cy="671400"/>
          </a:xfrm>
        </p:grpSpPr>
        <p:sp>
          <p:nvSpPr>
            <p:cNvPr id="1258" name=""/>
            <p:cNvSpPr/>
            <p:nvPr/>
          </p:nvSpPr>
          <p:spPr>
            <a:xfrm>
              <a:off x="6448320" y="3189240"/>
              <a:ext cx="2543400" cy="671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6749640" y="3400920"/>
              <a:ext cx="187092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Überprüfung</a:t>
              </a:r>
              <a:endParaRPr b="0" lang="en-US" sz="2200" spc="-1" strike="noStrike">
                <a:solidFill>
                  <a:srgbClr val="000000"/>
                </a:solidFill>
                <a:latin typeface="Times New Roman"/>
              </a:endParaRPr>
            </a:p>
          </p:txBody>
        </p:sp>
      </p:grpSp>
      <p:grpSp>
        <p:nvGrpSpPr>
          <p:cNvPr id="1260" name=""/>
          <p:cNvGrpSpPr/>
          <p:nvPr/>
        </p:nvGrpSpPr>
        <p:grpSpPr>
          <a:xfrm>
            <a:off x="5778360" y="2044800"/>
            <a:ext cx="1612800" cy="1155240"/>
            <a:chOff x="5778360" y="2044800"/>
            <a:chExt cx="1612800" cy="1155240"/>
          </a:xfrm>
        </p:grpSpPr>
        <p:sp>
          <p:nvSpPr>
            <p:cNvPr id="1261" name=""/>
            <p:cNvSpPr/>
            <p:nvPr/>
          </p:nvSpPr>
          <p:spPr>
            <a:xfrm>
              <a:off x="5778360" y="2044800"/>
              <a:ext cx="1499040" cy="966600"/>
            </a:xfrm>
            <a:custGeom>
              <a:avLst/>
              <a:gdLst/>
              <a:ahLst/>
              <a:rect l="l" t="t" r="r" b="b"/>
              <a:pathLst>
                <a:path w="5332" h="3582">
                  <a:moveTo>
                    <a:pt x="5332" y="3501"/>
                  </a:moveTo>
                  <a:lnTo>
                    <a:pt x="5283" y="3426"/>
                  </a:lnTo>
                  <a:lnTo>
                    <a:pt x="5233" y="3352"/>
                  </a:lnTo>
                  <a:lnTo>
                    <a:pt x="5183" y="3279"/>
                  </a:lnTo>
                  <a:lnTo>
                    <a:pt x="5130" y="3205"/>
                  </a:lnTo>
                  <a:lnTo>
                    <a:pt x="5077" y="3133"/>
                  </a:lnTo>
                  <a:lnTo>
                    <a:pt x="5022" y="3060"/>
                  </a:lnTo>
                  <a:lnTo>
                    <a:pt x="4967" y="2989"/>
                  </a:lnTo>
                  <a:lnTo>
                    <a:pt x="4910" y="2917"/>
                  </a:lnTo>
                  <a:lnTo>
                    <a:pt x="4851" y="2847"/>
                  </a:lnTo>
                  <a:lnTo>
                    <a:pt x="4791" y="2777"/>
                  </a:lnTo>
                  <a:lnTo>
                    <a:pt x="4730" y="2707"/>
                  </a:lnTo>
                  <a:lnTo>
                    <a:pt x="4669" y="2639"/>
                  </a:lnTo>
                  <a:lnTo>
                    <a:pt x="4605" y="2570"/>
                  </a:lnTo>
                  <a:lnTo>
                    <a:pt x="4541" y="2503"/>
                  </a:lnTo>
                  <a:lnTo>
                    <a:pt x="4476" y="2435"/>
                  </a:lnTo>
                  <a:lnTo>
                    <a:pt x="4409" y="2370"/>
                  </a:lnTo>
                  <a:lnTo>
                    <a:pt x="4341" y="2303"/>
                  </a:lnTo>
                  <a:lnTo>
                    <a:pt x="4271" y="2238"/>
                  </a:lnTo>
                  <a:lnTo>
                    <a:pt x="4201" y="2173"/>
                  </a:lnTo>
                  <a:lnTo>
                    <a:pt x="4131" y="2109"/>
                  </a:lnTo>
                  <a:lnTo>
                    <a:pt x="4058" y="2046"/>
                  </a:lnTo>
                  <a:lnTo>
                    <a:pt x="3984" y="1983"/>
                  </a:lnTo>
                  <a:lnTo>
                    <a:pt x="3909" y="1920"/>
                  </a:lnTo>
                  <a:lnTo>
                    <a:pt x="3834" y="1858"/>
                  </a:lnTo>
                  <a:lnTo>
                    <a:pt x="3756" y="1798"/>
                  </a:lnTo>
                  <a:lnTo>
                    <a:pt x="3679" y="1737"/>
                  </a:lnTo>
                  <a:lnTo>
                    <a:pt x="3600" y="1678"/>
                  </a:lnTo>
                  <a:lnTo>
                    <a:pt x="3521" y="1619"/>
                  </a:lnTo>
                  <a:lnTo>
                    <a:pt x="3440" y="1560"/>
                  </a:lnTo>
                  <a:lnTo>
                    <a:pt x="3358" y="1503"/>
                  </a:lnTo>
                  <a:lnTo>
                    <a:pt x="3274" y="1447"/>
                  </a:lnTo>
                  <a:lnTo>
                    <a:pt x="3191" y="1390"/>
                  </a:lnTo>
                  <a:lnTo>
                    <a:pt x="3105" y="1335"/>
                  </a:lnTo>
                  <a:lnTo>
                    <a:pt x="3020" y="1280"/>
                  </a:lnTo>
                  <a:lnTo>
                    <a:pt x="2933" y="1226"/>
                  </a:lnTo>
                  <a:lnTo>
                    <a:pt x="2845" y="1172"/>
                  </a:lnTo>
                  <a:lnTo>
                    <a:pt x="2757" y="1120"/>
                  </a:lnTo>
                  <a:lnTo>
                    <a:pt x="2667" y="1068"/>
                  </a:lnTo>
                  <a:lnTo>
                    <a:pt x="2576" y="1017"/>
                  </a:lnTo>
                  <a:lnTo>
                    <a:pt x="2485" y="967"/>
                  </a:lnTo>
                  <a:lnTo>
                    <a:pt x="2392" y="916"/>
                  </a:lnTo>
                  <a:lnTo>
                    <a:pt x="2299" y="868"/>
                  </a:lnTo>
                  <a:lnTo>
                    <a:pt x="2204" y="820"/>
                  </a:lnTo>
                  <a:lnTo>
                    <a:pt x="2109" y="773"/>
                  </a:lnTo>
                  <a:lnTo>
                    <a:pt x="2014" y="726"/>
                  </a:lnTo>
                  <a:lnTo>
                    <a:pt x="1917" y="681"/>
                  </a:lnTo>
                  <a:lnTo>
                    <a:pt x="1820" y="636"/>
                  </a:lnTo>
                  <a:lnTo>
                    <a:pt x="1721" y="592"/>
                  </a:lnTo>
                  <a:lnTo>
                    <a:pt x="1621" y="548"/>
                  </a:lnTo>
                  <a:lnTo>
                    <a:pt x="1522" y="506"/>
                  </a:lnTo>
                  <a:lnTo>
                    <a:pt x="1421" y="464"/>
                  </a:lnTo>
                  <a:lnTo>
                    <a:pt x="1319" y="424"/>
                  </a:lnTo>
                  <a:lnTo>
                    <a:pt x="1217" y="384"/>
                  </a:lnTo>
                  <a:lnTo>
                    <a:pt x="1113" y="344"/>
                  </a:lnTo>
                  <a:lnTo>
                    <a:pt x="1009" y="307"/>
                  </a:lnTo>
                  <a:lnTo>
                    <a:pt x="903" y="269"/>
                  </a:lnTo>
                  <a:lnTo>
                    <a:pt x="798" y="231"/>
                  </a:lnTo>
                  <a:lnTo>
                    <a:pt x="692" y="196"/>
                  </a:lnTo>
                  <a:lnTo>
                    <a:pt x="585" y="162"/>
                  </a:lnTo>
                  <a:lnTo>
                    <a:pt x="478" y="128"/>
                  </a:lnTo>
                  <a:lnTo>
                    <a:pt x="368" y="94"/>
                  </a:lnTo>
                  <a:lnTo>
                    <a:pt x="259" y="63"/>
                  </a:lnTo>
                  <a:lnTo>
                    <a:pt x="150" y="31"/>
                  </a:lnTo>
                  <a:lnTo>
                    <a:pt x="40" y="0"/>
                  </a:lnTo>
                  <a:lnTo>
                    <a:pt x="0" y="146"/>
                  </a:lnTo>
                  <a:lnTo>
                    <a:pt x="110" y="176"/>
                  </a:lnTo>
                  <a:lnTo>
                    <a:pt x="218" y="207"/>
                  </a:lnTo>
                  <a:lnTo>
                    <a:pt x="326" y="238"/>
                  </a:lnTo>
                  <a:lnTo>
                    <a:pt x="433" y="271"/>
                  </a:lnTo>
                  <a:lnTo>
                    <a:pt x="540" y="304"/>
                  </a:lnTo>
                  <a:lnTo>
                    <a:pt x="645" y="339"/>
                  </a:lnTo>
                  <a:lnTo>
                    <a:pt x="750" y="375"/>
                  </a:lnTo>
                  <a:lnTo>
                    <a:pt x="854" y="411"/>
                  </a:lnTo>
                  <a:lnTo>
                    <a:pt x="957" y="447"/>
                  </a:lnTo>
                  <a:lnTo>
                    <a:pt x="1061" y="485"/>
                  </a:lnTo>
                  <a:lnTo>
                    <a:pt x="1163" y="523"/>
                  </a:lnTo>
                  <a:lnTo>
                    <a:pt x="1264" y="563"/>
                  </a:lnTo>
                  <a:lnTo>
                    <a:pt x="1364" y="603"/>
                  </a:lnTo>
                  <a:lnTo>
                    <a:pt x="1464" y="644"/>
                  </a:lnTo>
                  <a:lnTo>
                    <a:pt x="1563" y="687"/>
                  </a:lnTo>
                  <a:lnTo>
                    <a:pt x="1660" y="729"/>
                  </a:lnTo>
                  <a:lnTo>
                    <a:pt x="1757" y="773"/>
                  </a:lnTo>
                  <a:lnTo>
                    <a:pt x="1854" y="817"/>
                  </a:lnTo>
                  <a:lnTo>
                    <a:pt x="1949" y="862"/>
                  </a:lnTo>
                  <a:lnTo>
                    <a:pt x="2044" y="908"/>
                  </a:lnTo>
                  <a:lnTo>
                    <a:pt x="2138" y="954"/>
                  </a:lnTo>
                  <a:lnTo>
                    <a:pt x="2230" y="1002"/>
                  </a:lnTo>
                  <a:lnTo>
                    <a:pt x="2322" y="1050"/>
                  </a:lnTo>
                  <a:lnTo>
                    <a:pt x="2413" y="1098"/>
                  </a:lnTo>
                  <a:lnTo>
                    <a:pt x="2504" y="1149"/>
                  </a:lnTo>
                  <a:lnTo>
                    <a:pt x="2593" y="1199"/>
                  </a:lnTo>
                  <a:lnTo>
                    <a:pt x="2681" y="1250"/>
                  </a:lnTo>
                  <a:lnTo>
                    <a:pt x="2769" y="1301"/>
                  </a:lnTo>
                  <a:lnTo>
                    <a:pt x="2854" y="1354"/>
                  </a:lnTo>
                  <a:lnTo>
                    <a:pt x="2940" y="1407"/>
                  </a:lnTo>
                  <a:lnTo>
                    <a:pt x="3024" y="1461"/>
                  </a:lnTo>
                  <a:lnTo>
                    <a:pt x="3108" y="1516"/>
                  </a:lnTo>
                  <a:lnTo>
                    <a:pt x="3191" y="1571"/>
                  </a:lnTo>
                  <a:lnTo>
                    <a:pt x="3272" y="1627"/>
                  </a:lnTo>
                  <a:lnTo>
                    <a:pt x="3353" y="1683"/>
                  </a:lnTo>
                  <a:lnTo>
                    <a:pt x="3433" y="1741"/>
                  </a:lnTo>
                  <a:lnTo>
                    <a:pt x="3510" y="1798"/>
                  </a:lnTo>
                  <a:lnTo>
                    <a:pt x="3587" y="1857"/>
                  </a:lnTo>
                  <a:lnTo>
                    <a:pt x="3665" y="1916"/>
                  </a:lnTo>
                  <a:lnTo>
                    <a:pt x="3740" y="1976"/>
                  </a:lnTo>
                  <a:lnTo>
                    <a:pt x="3814" y="2037"/>
                  </a:lnTo>
                  <a:lnTo>
                    <a:pt x="3887" y="2098"/>
                  </a:lnTo>
                  <a:lnTo>
                    <a:pt x="3959" y="2158"/>
                  </a:lnTo>
                  <a:lnTo>
                    <a:pt x="4030" y="2222"/>
                  </a:lnTo>
                  <a:lnTo>
                    <a:pt x="4100" y="2284"/>
                  </a:lnTo>
                  <a:lnTo>
                    <a:pt x="4169" y="2347"/>
                  </a:lnTo>
                  <a:lnTo>
                    <a:pt x="4236" y="2412"/>
                  </a:lnTo>
                  <a:lnTo>
                    <a:pt x="4303" y="2476"/>
                  </a:lnTo>
                  <a:lnTo>
                    <a:pt x="4369" y="2542"/>
                  </a:lnTo>
                  <a:lnTo>
                    <a:pt x="4432" y="2607"/>
                  </a:lnTo>
                  <a:lnTo>
                    <a:pt x="4495" y="2673"/>
                  </a:lnTo>
                  <a:lnTo>
                    <a:pt x="4558" y="2740"/>
                  </a:lnTo>
                  <a:lnTo>
                    <a:pt x="4619" y="2807"/>
                  </a:lnTo>
                  <a:lnTo>
                    <a:pt x="4677" y="2875"/>
                  </a:lnTo>
                  <a:lnTo>
                    <a:pt x="4736" y="2944"/>
                  </a:lnTo>
                  <a:lnTo>
                    <a:pt x="4793" y="3012"/>
                  </a:lnTo>
                  <a:lnTo>
                    <a:pt x="4849" y="3082"/>
                  </a:lnTo>
                  <a:lnTo>
                    <a:pt x="4904" y="3152"/>
                  </a:lnTo>
                  <a:lnTo>
                    <a:pt x="4957" y="3222"/>
                  </a:lnTo>
                  <a:lnTo>
                    <a:pt x="5009" y="3294"/>
                  </a:lnTo>
                  <a:lnTo>
                    <a:pt x="5060" y="3364"/>
                  </a:lnTo>
                  <a:lnTo>
                    <a:pt x="5109" y="3437"/>
                  </a:lnTo>
                  <a:lnTo>
                    <a:pt x="5158" y="3508"/>
                  </a:lnTo>
                  <a:lnTo>
                    <a:pt x="5204" y="3582"/>
                  </a:lnTo>
                  <a:lnTo>
                    <a:pt x="5332" y="3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7143840" y="2923560"/>
              <a:ext cx="247320" cy="276480"/>
            </a:xfrm>
            <a:custGeom>
              <a:avLst/>
              <a:gdLst/>
              <a:ahLst/>
              <a:rect l="l" t="t" r="r" b="b"/>
              <a:pathLst>
                <a:path w="882" h="1025">
                  <a:moveTo>
                    <a:pt x="882" y="1025"/>
                  </a:moveTo>
                  <a:lnTo>
                    <a:pt x="778" y="0"/>
                  </a:lnTo>
                  <a:lnTo>
                    <a:pt x="0" y="494"/>
                  </a:lnTo>
                  <a:lnTo>
                    <a:pt x="882" y="1025"/>
                  </a:lnTo>
                  <a:lnTo>
                    <a:pt x="882"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895400" y="2057400"/>
            <a:ext cx="1533240" cy="1123560"/>
            <a:chOff x="1895400" y="2057400"/>
            <a:chExt cx="1533240" cy="1123560"/>
          </a:xfrm>
        </p:grpSpPr>
        <p:sp>
          <p:nvSpPr>
            <p:cNvPr id="1264" name=""/>
            <p:cNvSpPr/>
            <p:nvPr/>
          </p:nvSpPr>
          <p:spPr>
            <a:xfrm>
              <a:off x="1895400" y="2142000"/>
              <a:ext cx="1370160" cy="1038960"/>
            </a:xfrm>
            <a:custGeom>
              <a:avLst/>
              <a:gdLst/>
              <a:ahLst/>
              <a:rect l="l" t="t" r="r" b="b"/>
              <a:pathLst>
                <a:path w="5032" h="3494">
                  <a:moveTo>
                    <a:pt x="4990" y="0"/>
                  </a:moveTo>
                  <a:lnTo>
                    <a:pt x="4885" y="31"/>
                  </a:lnTo>
                  <a:lnTo>
                    <a:pt x="4782" y="64"/>
                  </a:lnTo>
                  <a:lnTo>
                    <a:pt x="4680" y="97"/>
                  </a:lnTo>
                  <a:lnTo>
                    <a:pt x="4578" y="131"/>
                  </a:lnTo>
                  <a:lnTo>
                    <a:pt x="4477" y="165"/>
                  </a:lnTo>
                  <a:lnTo>
                    <a:pt x="4376" y="200"/>
                  </a:lnTo>
                  <a:lnTo>
                    <a:pt x="4275" y="236"/>
                  </a:lnTo>
                  <a:lnTo>
                    <a:pt x="4177" y="274"/>
                  </a:lnTo>
                  <a:lnTo>
                    <a:pt x="4078" y="311"/>
                  </a:lnTo>
                  <a:lnTo>
                    <a:pt x="3980" y="350"/>
                  </a:lnTo>
                  <a:lnTo>
                    <a:pt x="3882" y="390"/>
                  </a:lnTo>
                  <a:lnTo>
                    <a:pt x="3786" y="430"/>
                  </a:lnTo>
                  <a:lnTo>
                    <a:pt x="3691" y="471"/>
                  </a:lnTo>
                  <a:lnTo>
                    <a:pt x="3596" y="512"/>
                  </a:lnTo>
                  <a:lnTo>
                    <a:pt x="3502" y="554"/>
                  </a:lnTo>
                  <a:lnTo>
                    <a:pt x="3408" y="597"/>
                  </a:lnTo>
                  <a:lnTo>
                    <a:pt x="3316" y="641"/>
                  </a:lnTo>
                  <a:lnTo>
                    <a:pt x="3224" y="685"/>
                  </a:lnTo>
                  <a:lnTo>
                    <a:pt x="3133" y="730"/>
                  </a:lnTo>
                  <a:lnTo>
                    <a:pt x="3042" y="777"/>
                  </a:lnTo>
                  <a:lnTo>
                    <a:pt x="2953" y="823"/>
                  </a:lnTo>
                  <a:lnTo>
                    <a:pt x="2865" y="871"/>
                  </a:lnTo>
                  <a:lnTo>
                    <a:pt x="2777" y="919"/>
                  </a:lnTo>
                  <a:lnTo>
                    <a:pt x="2690" y="967"/>
                  </a:lnTo>
                  <a:lnTo>
                    <a:pt x="2604" y="1016"/>
                  </a:lnTo>
                  <a:lnTo>
                    <a:pt x="2519" y="1067"/>
                  </a:lnTo>
                  <a:lnTo>
                    <a:pt x="2433" y="1117"/>
                  </a:lnTo>
                  <a:lnTo>
                    <a:pt x="2350" y="1169"/>
                  </a:lnTo>
                  <a:lnTo>
                    <a:pt x="2268" y="1221"/>
                  </a:lnTo>
                  <a:lnTo>
                    <a:pt x="2186" y="1273"/>
                  </a:lnTo>
                  <a:lnTo>
                    <a:pt x="2105" y="1327"/>
                  </a:lnTo>
                  <a:lnTo>
                    <a:pt x="2025" y="1381"/>
                  </a:lnTo>
                  <a:lnTo>
                    <a:pt x="1947" y="1436"/>
                  </a:lnTo>
                  <a:lnTo>
                    <a:pt x="1868" y="1491"/>
                  </a:lnTo>
                  <a:lnTo>
                    <a:pt x="1792" y="1546"/>
                  </a:lnTo>
                  <a:lnTo>
                    <a:pt x="1716" y="1604"/>
                  </a:lnTo>
                  <a:lnTo>
                    <a:pt x="1640" y="1660"/>
                  </a:lnTo>
                  <a:lnTo>
                    <a:pt x="1565" y="1717"/>
                  </a:lnTo>
                  <a:lnTo>
                    <a:pt x="1493" y="1776"/>
                  </a:lnTo>
                  <a:lnTo>
                    <a:pt x="1420" y="1835"/>
                  </a:lnTo>
                  <a:lnTo>
                    <a:pt x="1348" y="1895"/>
                  </a:lnTo>
                  <a:lnTo>
                    <a:pt x="1278" y="1954"/>
                  </a:lnTo>
                  <a:lnTo>
                    <a:pt x="1209" y="2015"/>
                  </a:lnTo>
                  <a:lnTo>
                    <a:pt x="1141" y="2076"/>
                  </a:lnTo>
                  <a:lnTo>
                    <a:pt x="1073" y="2139"/>
                  </a:lnTo>
                  <a:lnTo>
                    <a:pt x="1007" y="2201"/>
                  </a:lnTo>
                  <a:lnTo>
                    <a:pt x="941" y="2264"/>
                  </a:lnTo>
                  <a:lnTo>
                    <a:pt x="877" y="2327"/>
                  </a:lnTo>
                  <a:lnTo>
                    <a:pt x="815" y="2392"/>
                  </a:lnTo>
                  <a:lnTo>
                    <a:pt x="752" y="2456"/>
                  </a:lnTo>
                  <a:lnTo>
                    <a:pt x="691" y="2521"/>
                  </a:lnTo>
                  <a:lnTo>
                    <a:pt x="632" y="2587"/>
                  </a:lnTo>
                  <a:lnTo>
                    <a:pt x="573" y="2653"/>
                  </a:lnTo>
                  <a:lnTo>
                    <a:pt x="514" y="2719"/>
                  </a:lnTo>
                  <a:lnTo>
                    <a:pt x="458" y="2787"/>
                  </a:lnTo>
                  <a:lnTo>
                    <a:pt x="403" y="2855"/>
                  </a:lnTo>
                  <a:lnTo>
                    <a:pt x="348" y="2922"/>
                  </a:lnTo>
                  <a:lnTo>
                    <a:pt x="295" y="2991"/>
                  </a:lnTo>
                  <a:lnTo>
                    <a:pt x="243" y="3060"/>
                  </a:lnTo>
                  <a:lnTo>
                    <a:pt x="193" y="3130"/>
                  </a:lnTo>
                  <a:lnTo>
                    <a:pt x="142" y="3200"/>
                  </a:lnTo>
                  <a:lnTo>
                    <a:pt x="94" y="3270"/>
                  </a:lnTo>
                  <a:lnTo>
                    <a:pt x="46" y="3342"/>
                  </a:lnTo>
                  <a:lnTo>
                    <a:pt x="0" y="3413"/>
                  </a:lnTo>
                  <a:lnTo>
                    <a:pt x="127" y="3494"/>
                  </a:lnTo>
                  <a:lnTo>
                    <a:pt x="173" y="3424"/>
                  </a:lnTo>
                  <a:lnTo>
                    <a:pt x="219" y="3355"/>
                  </a:lnTo>
                  <a:lnTo>
                    <a:pt x="266" y="3286"/>
                  </a:lnTo>
                  <a:lnTo>
                    <a:pt x="314" y="3218"/>
                  </a:lnTo>
                  <a:lnTo>
                    <a:pt x="364" y="3150"/>
                  </a:lnTo>
                  <a:lnTo>
                    <a:pt x="415" y="3083"/>
                  </a:lnTo>
                  <a:lnTo>
                    <a:pt x="466" y="3016"/>
                  </a:lnTo>
                  <a:lnTo>
                    <a:pt x="520" y="2949"/>
                  </a:lnTo>
                  <a:lnTo>
                    <a:pt x="574" y="2883"/>
                  </a:lnTo>
                  <a:lnTo>
                    <a:pt x="629" y="2818"/>
                  </a:lnTo>
                  <a:lnTo>
                    <a:pt x="686" y="2752"/>
                  </a:lnTo>
                  <a:lnTo>
                    <a:pt x="743" y="2687"/>
                  </a:lnTo>
                  <a:lnTo>
                    <a:pt x="802" y="2623"/>
                  </a:lnTo>
                  <a:lnTo>
                    <a:pt x="861" y="2560"/>
                  </a:lnTo>
                  <a:lnTo>
                    <a:pt x="921" y="2496"/>
                  </a:lnTo>
                  <a:lnTo>
                    <a:pt x="983" y="2433"/>
                  </a:lnTo>
                  <a:lnTo>
                    <a:pt x="1047" y="2372"/>
                  </a:lnTo>
                  <a:lnTo>
                    <a:pt x="1110" y="2310"/>
                  </a:lnTo>
                  <a:lnTo>
                    <a:pt x="1176" y="2249"/>
                  </a:lnTo>
                  <a:lnTo>
                    <a:pt x="1242" y="2188"/>
                  </a:lnTo>
                  <a:lnTo>
                    <a:pt x="1308" y="2128"/>
                  </a:lnTo>
                  <a:lnTo>
                    <a:pt x="1376" y="2068"/>
                  </a:lnTo>
                  <a:lnTo>
                    <a:pt x="1446" y="2010"/>
                  </a:lnTo>
                  <a:lnTo>
                    <a:pt x="1515" y="1951"/>
                  </a:lnTo>
                  <a:lnTo>
                    <a:pt x="1586" y="1893"/>
                  </a:lnTo>
                  <a:lnTo>
                    <a:pt x="1658" y="1836"/>
                  </a:lnTo>
                  <a:lnTo>
                    <a:pt x="1731" y="1780"/>
                  </a:lnTo>
                  <a:lnTo>
                    <a:pt x="1805" y="1723"/>
                  </a:lnTo>
                  <a:lnTo>
                    <a:pt x="1880" y="1668"/>
                  </a:lnTo>
                  <a:lnTo>
                    <a:pt x="1956" y="1613"/>
                  </a:lnTo>
                  <a:lnTo>
                    <a:pt x="2032" y="1558"/>
                  </a:lnTo>
                  <a:lnTo>
                    <a:pt x="2110" y="1505"/>
                  </a:lnTo>
                  <a:lnTo>
                    <a:pt x="2189" y="1451"/>
                  </a:lnTo>
                  <a:lnTo>
                    <a:pt x="2268" y="1400"/>
                  </a:lnTo>
                  <a:lnTo>
                    <a:pt x="2349" y="1347"/>
                  </a:lnTo>
                  <a:lnTo>
                    <a:pt x="2430" y="1296"/>
                  </a:lnTo>
                  <a:lnTo>
                    <a:pt x="2512" y="1246"/>
                  </a:lnTo>
                  <a:lnTo>
                    <a:pt x="2595" y="1196"/>
                  </a:lnTo>
                  <a:lnTo>
                    <a:pt x="2679" y="1146"/>
                  </a:lnTo>
                  <a:lnTo>
                    <a:pt x="2764" y="1098"/>
                  </a:lnTo>
                  <a:lnTo>
                    <a:pt x="2850" y="1050"/>
                  </a:lnTo>
                  <a:lnTo>
                    <a:pt x="2936" y="1002"/>
                  </a:lnTo>
                  <a:lnTo>
                    <a:pt x="3024" y="956"/>
                  </a:lnTo>
                  <a:lnTo>
                    <a:pt x="3112" y="909"/>
                  </a:lnTo>
                  <a:lnTo>
                    <a:pt x="3201" y="865"/>
                  </a:lnTo>
                  <a:lnTo>
                    <a:pt x="3290" y="820"/>
                  </a:lnTo>
                  <a:lnTo>
                    <a:pt x="3380" y="776"/>
                  </a:lnTo>
                  <a:lnTo>
                    <a:pt x="3472" y="733"/>
                  </a:lnTo>
                  <a:lnTo>
                    <a:pt x="3564" y="691"/>
                  </a:lnTo>
                  <a:lnTo>
                    <a:pt x="3657" y="649"/>
                  </a:lnTo>
                  <a:lnTo>
                    <a:pt x="3751" y="608"/>
                  </a:lnTo>
                  <a:lnTo>
                    <a:pt x="3845" y="568"/>
                  </a:lnTo>
                  <a:lnTo>
                    <a:pt x="3940" y="528"/>
                  </a:lnTo>
                  <a:lnTo>
                    <a:pt x="4036" y="489"/>
                  </a:lnTo>
                  <a:lnTo>
                    <a:pt x="4132" y="452"/>
                  </a:lnTo>
                  <a:lnTo>
                    <a:pt x="4230" y="414"/>
                  </a:lnTo>
                  <a:lnTo>
                    <a:pt x="4328" y="378"/>
                  </a:lnTo>
                  <a:lnTo>
                    <a:pt x="4427" y="342"/>
                  </a:lnTo>
                  <a:lnTo>
                    <a:pt x="4525" y="306"/>
                  </a:lnTo>
                  <a:lnTo>
                    <a:pt x="4626" y="272"/>
                  </a:lnTo>
                  <a:lnTo>
                    <a:pt x="4726" y="240"/>
                  </a:lnTo>
                  <a:lnTo>
                    <a:pt x="4828" y="207"/>
                  </a:lnTo>
                  <a:lnTo>
                    <a:pt x="4930" y="175"/>
                  </a:lnTo>
                  <a:lnTo>
                    <a:pt x="5032" y="143"/>
                  </a:lnTo>
                  <a:lnTo>
                    <a:pt x="4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212640" y="2057400"/>
              <a:ext cx="216000" cy="224280"/>
            </a:xfrm>
            <a:custGeom>
              <a:avLst/>
              <a:gdLst/>
              <a:ahLst/>
              <a:rect l="l" t="t" r="r" b="b"/>
              <a:pathLst>
                <a:path w="796" h="753">
                  <a:moveTo>
                    <a:pt x="0" y="0"/>
                  </a:moveTo>
                  <a:lnTo>
                    <a:pt x="796" y="174"/>
                  </a:lnTo>
                  <a:lnTo>
                    <a:pt x="224" y="753"/>
                  </a:lnTo>
                  <a:lnTo>
                    <a:pt x="0" y="0"/>
                  </a:lnTo>
                  <a:lnTo>
                    <a:pt x="796" y="1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752480" y="4572000"/>
            <a:ext cx="1741320" cy="1320480"/>
            <a:chOff x="1752480" y="4572000"/>
            <a:chExt cx="1741320" cy="1320480"/>
          </a:xfrm>
        </p:grpSpPr>
        <p:sp>
          <p:nvSpPr>
            <p:cNvPr id="1267" name=""/>
            <p:cNvSpPr/>
            <p:nvPr/>
          </p:nvSpPr>
          <p:spPr>
            <a:xfrm>
              <a:off x="1834920" y="4726440"/>
              <a:ext cx="1658880" cy="1166040"/>
            </a:xfrm>
            <a:custGeom>
              <a:avLst/>
              <a:gdLst/>
              <a:ahLst/>
              <a:rect l="l" t="t" r="r" b="b"/>
              <a:pathLst>
                <a:path w="5500" h="4384">
                  <a:moveTo>
                    <a:pt x="0" y="54"/>
                  </a:moveTo>
                  <a:lnTo>
                    <a:pt x="37" y="146"/>
                  </a:lnTo>
                  <a:lnTo>
                    <a:pt x="75" y="236"/>
                  </a:lnTo>
                  <a:lnTo>
                    <a:pt x="115" y="326"/>
                  </a:lnTo>
                  <a:lnTo>
                    <a:pt x="158" y="416"/>
                  </a:lnTo>
                  <a:lnTo>
                    <a:pt x="202" y="504"/>
                  </a:lnTo>
                  <a:lnTo>
                    <a:pt x="248" y="594"/>
                  </a:lnTo>
                  <a:lnTo>
                    <a:pt x="295" y="682"/>
                  </a:lnTo>
                  <a:lnTo>
                    <a:pt x="344" y="768"/>
                  </a:lnTo>
                  <a:lnTo>
                    <a:pt x="396" y="855"/>
                  </a:lnTo>
                  <a:lnTo>
                    <a:pt x="448" y="941"/>
                  </a:lnTo>
                  <a:lnTo>
                    <a:pt x="502" y="1026"/>
                  </a:lnTo>
                  <a:lnTo>
                    <a:pt x="559" y="1112"/>
                  </a:lnTo>
                  <a:lnTo>
                    <a:pt x="617" y="1195"/>
                  </a:lnTo>
                  <a:lnTo>
                    <a:pt x="677" y="1279"/>
                  </a:lnTo>
                  <a:lnTo>
                    <a:pt x="738" y="1362"/>
                  </a:lnTo>
                  <a:lnTo>
                    <a:pt x="802" y="1444"/>
                  </a:lnTo>
                  <a:lnTo>
                    <a:pt x="866" y="1525"/>
                  </a:lnTo>
                  <a:lnTo>
                    <a:pt x="932" y="1606"/>
                  </a:lnTo>
                  <a:lnTo>
                    <a:pt x="1000" y="1687"/>
                  </a:lnTo>
                  <a:lnTo>
                    <a:pt x="1069" y="1765"/>
                  </a:lnTo>
                  <a:lnTo>
                    <a:pt x="1141" y="1844"/>
                  </a:lnTo>
                  <a:lnTo>
                    <a:pt x="1212" y="1921"/>
                  </a:lnTo>
                  <a:lnTo>
                    <a:pt x="1286" y="1999"/>
                  </a:lnTo>
                  <a:lnTo>
                    <a:pt x="1362" y="2075"/>
                  </a:lnTo>
                  <a:lnTo>
                    <a:pt x="1440" y="2150"/>
                  </a:lnTo>
                  <a:lnTo>
                    <a:pt x="1517" y="2225"/>
                  </a:lnTo>
                  <a:lnTo>
                    <a:pt x="1598" y="2299"/>
                  </a:lnTo>
                  <a:lnTo>
                    <a:pt x="1679" y="2372"/>
                  </a:lnTo>
                  <a:lnTo>
                    <a:pt x="1762" y="2444"/>
                  </a:lnTo>
                  <a:lnTo>
                    <a:pt x="1847" y="2516"/>
                  </a:lnTo>
                  <a:lnTo>
                    <a:pt x="1932" y="2586"/>
                  </a:lnTo>
                  <a:lnTo>
                    <a:pt x="2019" y="2655"/>
                  </a:lnTo>
                  <a:lnTo>
                    <a:pt x="2108" y="2725"/>
                  </a:lnTo>
                  <a:lnTo>
                    <a:pt x="2198" y="2793"/>
                  </a:lnTo>
                  <a:lnTo>
                    <a:pt x="2289" y="2861"/>
                  </a:lnTo>
                  <a:lnTo>
                    <a:pt x="2382" y="2926"/>
                  </a:lnTo>
                  <a:lnTo>
                    <a:pt x="2476" y="2992"/>
                  </a:lnTo>
                  <a:lnTo>
                    <a:pt x="2571" y="3057"/>
                  </a:lnTo>
                  <a:lnTo>
                    <a:pt x="2668" y="3120"/>
                  </a:lnTo>
                  <a:lnTo>
                    <a:pt x="2765" y="3183"/>
                  </a:lnTo>
                  <a:lnTo>
                    <a:pt x="2864" y="3244"/>
                  </a:lnTo>
                  <a:lnTo>
                    <a:pt x="2965" y="3305"/>
                  </a:lnTo>
                  <a:lnTo>
                    <a:pt x="3067" y="3365"/>
                  </a:lnTo>
                  <a:lnTo>
                    <a:pt x="3169" y="3424"/>
                  </a:lnTo>
                  <a:lnTo>
                    <a:pt x="3273" y="3482"/>
                  </a:lnTo>
                  <a:lnTo>
                    <a:pt x="3379" y="3539"/>
                  </a:lnTo>
                  <a:lnTo>
                    <a:pt x="3485" y="3595"/>
                  </a:lnTo>
                  <a:lnTo>
                    <a:pt x="3592" y="3650"/>
                  </a:lnTo>
                  <a:lnTo>
                    <a:pt x="3702" y="3704"/>
                  </a:lnTo>
                  <a:lnTo>
                    <a:pt x="3811" y="3757"/>
                  </a:lnTo>
                  <a:lnTo>
                    <a:pt x="3922" y="3808"/>
                  </a:lnTo>
                  <a:lnTo>
                    <a:pt x="4034" y="3859"/>
                  </a:lnTo>
                  <a:lnTo>
                    <a:pt x="4147" y="3909"/>
                  </a:lnTo>
                  <a:lnTo>
                    <a:pt x="4261" y="3957"/>
                  </a:lnTo>
                  <a:lnTo>
                    <a:pt x="4376" y="4005"/>
                  </a:lnTo>
                  <a:lnTo>
                    <a:pt x="4492" y="4052"/>
                  </a:lnTo>
                  <a:lnTo>
                    <a:pt x="4610" y="4097"/>
                  </a:lnTo>
                  <a:lnTo>
                    <a:pt x="4728" y="4142"/>
                  </a:lnTo>
                  <a:lnTo>
                    <a:pt x="4848" y="4185"/>
                  </a:lnTo>
                  <a:lnTo>
                    <a:pt x="4967" y="4227"/>
                  </a:lnTo>
                  <a:lnTo>
                    <a:pt x="5088" y="4268"/>
                  </a:lnTo>
                  <a:lnTo>
                    <a:pt x="5210" y="4308"/>
                  </a:lnTo>
                  <a:lnTo>
                    <a:pt x="5333" y="4347"/>
                  </a:lnTo>
                  <a:lnTo>
                    <a:pt x="5458" y="4384"/>
                  </a:lnTo>
                  <a:lnTo>
                    <a:pt x="5500" y="4240"/>
                  </a:lnTo>
                  <a:lnTo>
                    <a:pt x="5378" y="4204"/>
                  </a:lnTo>
                  <a:lnTo>
                    <a:pt x="5256" y="4165"/>
                  </a:lnTo>
                  <a:lnTo>
                    <a:pt x="5135" y="4125"/>
                  </a:lnTo>
                  <a:lnTo>
                    <a:pt x="5017" y="4085"/>
                  </a:lnTo>
                  <a:lnTo>
                    <a:pt x="4897" y="4043"/>
                  </a:lnTo>
                  <a:lnTo>
                    <a:pt x="4780" y="4001"/>
                  </a:lnTo>
                  <a:lnTo>
                    <a:pt x="4664" y="3957"/>
                  </a:lnTo>
                  <a:lnTo>
                    <a:pt x="4547" y="3912"/>
                  </a:lnTo>
                  <a:lnTo>
                    <a:pt x="4432" y="3866"/>
                  </a:lnTo>
                  <a:lnTo>
                    <a:pt x="4319" y="3819"/>
                  </a:lnTo>
                  <a:lnTo>
                    <a:pt x="4206" y="3771"/>
                  </a:lnTo>
                  <a:lnTo>
                    <a:pt x="4095" y="3722"/>
                  </a:lnTo>
                  <a:lnTo>
                    <a:pt x="3984" y="3672"/>
                  </a:lnTo>
                  <a:lnTo>
                    <a:pt x="3875" y="3621"/>
                  </a:lnTo>
                  <a:lnTo>
                    <a:pt x="3767" y="3569"/>
                  </a:lnTo>
                  <a:lnTo>
                    <a:pt x="3660" y="3515"/>
                  </a:lnTo>
                  <a:lnTo>
                    <a:pt x="3554" y="3461"/>
                  </a:lnTo>
                  <a:lnTo>
                    <a:pt x="3449" y="3406"/>
                  </a:lnTo>
                  <a:lnTo>
                    <a:pt x="3346" y="3350"/>
                  </a:lnTo>
                  <a:lnTo>
                    <a:pt x="3243" y="3294"/>
                  </a:lnTo>
                  <a:lnTo>
                    <a:pt x="3142" y="3235"/>
                  </a:lnTo>
                  <a:lnTo>
                    <a:pt x="3042" y="3176"/>
                  </a:lnTo>
                  <a:lnTo>
                    <a:pt x="2944" y="3116"/>
                  </a:lnTo>
                  <a:lnTo>
                    <a:pt x="2845" y="3055"/>
                  </a:lnTo>
                  <a:lnTo>
                    <a:pt x="2749" y="2994"/>
                  </a:lnTo>
                  <a:lnTo>
                    <a:pt x="2655" y="2931"/>
                  </a:lnTo>
                  <a:lnTo>
                    <a:pt x="2561" y="2868"/>
                  </a:lnTo>
                  <a:lnTo>
                    <a:pt x="2469" y="2803"/>
                  </a:lnTo>
                  <a:lnTo>
                    <a:pt x="2377" y="2739"/>
                  </a:lnTo>
                  <a:lnTo>
                    <a:pt x="2288" y="2673"/>
                  </a:lnTo>
                  <a:lnTo>
                    <a:pt x="2200" y="2606"/>
                  </a:lnTo>
                  <a:lnTo>
                    <a:pt x="2113" y="2538"/>
                  </a:lnTo>
                  <a:lnTo>
                    <a:pt x="2027" y="2470"/>
                  </a:lnTo>
                  <a:lnTo>
                    <a:pt x="1943" y="2400"/>
                  </a:lnTo>
                  <a:lnTo>
                    <a:pt x="1860" y="2331"/>
                  </a:lnTo>
                  <a:lnTo>
                    <a:pt x="1779" y="2259"/>
                  </a:lnTo>
                  <a:lnTo>
                    <a:pt x="1699" y="2188"/>
                  </a:lnTo>
                  <a:lnTo>
                    <a:pt x="1620" y="2116"/>
                  </a:lnTo>
                  <a:lnTo>
                    <a:pt x="1543" y="2042"/>
                  </a:lnTo>
                  <a:lnTo>
                    <a:pt x="1468" y="1968"/>
                  </a:lnTo>
                  <a:lnTo>
                    <a:pt x="1394" y="1894"/>
                  </a:lnTo>
                  <a:lnTo>
                    <a:pt x="1321" y="1818"/>
                  </a:lnTo>
                  <a:lnTo>
                    <a:pt x="1251" y="1742"/>
                  </a:lnTo>
                  <a:lnTo>
                    <a:pt x="1182" y="1666"/>
                  </a:lnTo>
                  <a:lnTo>
                    <a:pt x="1114" y="1588"/>
                  </a:lnTo>
                  <a:lnTo>
                    <a:pt x="1047" y="1510"/>
                  </a:lnTo>
                  <a:lnTo>
                    <a:pt x="982" y="1431"/>
                  </a:lnTo>
                  <a:lnTo>
                    <a:pt x="920" y="1351"/>
                  </a:lnTo>
                  <a:lnTo>
                    <a:pt x="858" y="1271"/>
                  </a:lnTo>
                  <a:lnTo>
                    <a:pt x="798" y="1191"/>
                  </a:lnTo>
                  <a:lnTo>
                    <a:pt x="741" y="1110"/>
                  </a:lnTo>
                  <a:lnTo>
                    <a:pt x="684" y="1028"/>
                  </a:lnTo>
                  <a:lnTo>
                    <a:pt x="629" y="945"/>
                  </a:lnTo>
                  <a:lnTo>
                    <a:pt x="575" y="862"/>
                  </a:lnTo>
                  <a:lnTo>
                    <a:pt x="525" y="778"/>
                  </a:lnTo>
                  <a:lnTo>
                    <a:pt x="474" y="693"/>
                  </a:lnTo>
                  <a:lnTo>
                    <a:pt x="427" y="609"/>
                  </a:lnTo>
                  <a:lnTo>
                    <a:pt x="380" y="523"/>
                  </a:lnTo>
                  <a:lnTo>
                    <a:pt x="336" y="438"/>
                  </a:lnTo>
                  <a:lnTo>
                    <a:pt x="294" y="351"/>
                  </a:lnTo>
                  <a:lnTo>
                    <a:pt x="253" y="264"/>
                  </a:lnTo>
                  <a:lnTo>
                    <a:pt x="213" y="176"/>
                  </a:lnTo>
                  <a:lnTo>
                    <a:pt x="176" y="88"/>
                  </a:lnTo>
                  <a:lnTo>
                    <a:pt x="140"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1752480" y="4572000"/>
              <a:ext cx="219600" cy="214200"/>
            </a:xfrm>
            <a:custGeom>
              <a:avLst/>
              <a:gdLst/>
              <a:ahLst/>
              <a:rect l="l" t="t" r="r" b="b"/>
              <a:pathLst>
                <a:path w="732" h="806">
                  <a:moveTo>
                    <a:pt x="0" y="806"/>
                  </a:moveTo>
                  <a:lnTo>
                    <a:pt x="107" y="0"/>
                  </a:lnTo>
                  <a:lnTo>
                    <a:pt x="732" y="521"/>
                  </a:lnTo>
                  <a:lnTo>
                    <a:pt x="0" y="806"/>
                  </a:lnTo>
                  <a:lnTo>
                    <a:pt x="107" y="0"/>
                  </a:lnTo>
                  <a:lnTo>
                    <a:pt x="0"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5791320" y="4502160"/>
            <a:ext cx="1828440" cy="1517400"/>
            <a:chOff x="5791320" y="4502160"/>
            <a:chExt cx="1828440" cy="1517400"/>
          </a:xfrm>
        </p:grpSpPr>
        <p:sp>
          <p:nvSpPr>
            <p:cNvPr id="1270" name=""/>
            <p:cNvSpPr/>
            <p:nvPr/>
          </p:nvSpPr>
          <p:spPr>
            <a:xfrm>
              <a:off x="5965200" y="4502160"/>
              <a:ext cx="1654560" cy="1424880"/>
            </a:xfrm>
            <a:custGeom>
              <a:avLst/>
              <a:gdLst/>
              <a:ahLst/>
              <a:rect l="l" t="t" r="r" b="b"/>
              <a:pathLst>
                <a:path w="5800" h="4471">
                  <a:moveTo>
                    <a:pt x="40" y="4471"/>
                  </a:moveTo>
                  <a:lnTo>
                    <a:pt x="170" y="4435"/>
                  </a:lnTo>
                  <a:lnTo>
                    <a:pt x="300" y="4397"/>
                  </a:lnTo>
                  <a:lnTo>
                    <a:pt x="429" y="4359"/>
                  </a:lnTo>
                  <a:lnTo>
                    <a:pt x="557" y="4320"/>
                  </a:lnTo>
                  <a:lnTo>
                    <a:pt x="684" y="4279"/>
                  </a:lnTo>
                  <a:lnTo>
                    <a:pt x="810" y="4237"/>
                  </a:lnTo>
                  <a:lnTo>
                    <a:pt x="935" y="4193"/>
                  </a:lnTo>
                  <a:lnTo>
                    <a:pt x="1059" y="4147"/>
                  </a:lnTo>
                  <a:lnTo>
                    <a:pt x="1181" y="4102"/>
                  </a:lnTo>
                  <a:lnTo>
                    <a:pt x="1303" y="4055"/>
                  </a:lnTo>
                  <a:lnTo>
                    <a:pt x="1424" y="4007"/>
                  </a:lnTo>
                  <a:lnTo>
                    <a:pt x="1544" y="3957"/>
                  </a:lnTo>
                  <a:lnTo>
                    <a:pt x="1662" y="3906"/>
                  </a:lnTo>
                  <a:lnTo>
                    <a:pt x="1779" y="3854"/>
                  </a:lnTo>
                  <a:lnTo>
                    <a:pt x="1895" y="3801"/>
                  </a:lnTo>
                  <a:lnTo>
                    <a:pt x="2010" y="3747"/>
                  </a:lnTo>
                  <a:lnTo>
                    <a:pt x="2123" y="3692"/>
                  </a:lnTo>
                  <a:lnTo>
                    <a:pt x="2236" y="3636"/>
                  </a:lnTo>
                  <a:lnTo>
                    <a:pt x="2347" y="3579"/>
                  </a:lnTo>
                  <a:lnTo>
                    <a:pt x="2458" y="3521"/>
                  </a:lnTo>
                  <a:lnTo>
                    <a:pt x="2566" y="3461"/>
                  </a:lnTo>
                  <a:lnTo>
                    <a:pt x="2674" y="3400"/>
                  </a:lnTo>
                  <a:lnTo>
                    <a:pt x="2779" y="3339"/>
                  </a:lnTo>
                  <a:lnTo>
                    <a:pt x="2885" y="3276"/>
                  </a:lnTo>
                  <a:lnTo>
                    <a:pt x="2988" y="3213"/>
                  </a:lnTo>
                  <a:lnTo>
                    <a:pt x="3090" y="3148"/>
                  </a:lnTo>
                  <a:lnTo>
                    <a:pt x="3191" y="3082"/>
                  </a:lnTo>
                  <a:lnTo>
                    <a:pt x="3290" y="3016"/>
                  </a:lnTo>
                  <a:lnTo>
                    <a:pt x="3388" y="2949"/>
                  </a:lnTo>
                  <a:lnTo>
                    <a:pt x="3484" y="2880"/>
                  </a:lnTo>
                  <a:lnTo>
                    <a:pt x="3579" y="2810"/>
                  </a:lnTo>
                  <a:lnTo>
                    <a:pt x="3673" y="2740"/>
                  </a:lnTo>
                  <a:lnTo>
                    <a:pt x="3766" y="2668"/>
                  </a:lnTo>
                  <a:lnTo>
                    <a:pt x="3856" y="2597"/>
                  </a:lnTo>
                  <a:lnTo>
                    <a:pt x="3945" y="2523"/>
                  </a:lnTo>
                  <a:lnTo>
                    <a:pt x="4033" y="2449"/>
                  </a:lnTo>
                  <a:lnTo>
                    <a:pt x="4119" y="2374"/>
                  </a:lnTo>
                  <a:lnTo>
                    <a:pt x="4203" y="2298"/>
                  </a:lnTo>
                  <a:lnTo>
                    <a:pt x="4287" y="2222"/>
                  </a:lnTo>
                  <a:lnTo>
                    <a:pt x="4369" y="2144"/>
                  </a:lnTo>
                  <a:lnTo>
                    <a:pt x="4447" y="2066"/>
                  </a:lnTo>
                  <a:lnTo>
                    <a:pt x="4526" y="1986"/>
                  </a:lnTo>
                  <a:lnTo>
                    <a:pt x="4602" y="1906"/>
                  </a:lnTo>
                  <a:lnTo>
                    <a:pt x="4677" y="1825"/>
                  </a:lnTo>
                  <a:lnTo>
                    <a:pt x="4751" y="1744"/>
                  </a:lnTo>
                  <a:lnTo>
                    <a:pt x="4822" y="1661"/>
                  </a:lnTo>
                  <a:lnTo>
                    <a:pt x="4892" y="1578"/>
                  </a:lnTo>
                  <a:lnTo>
                    <a:pt x="4960" y="1493"/>
                  </a:lnTo>
                  <a:lnTo>
                    <a:pt x="5027" y="1409"/>
                  </a:lnTo>
                  <a:lnTo>
                    <a:pt x="5091" y="1323"/>
                  </a:lnTo>
                  <a:lnTo>
                    <a:pt x="5154" y="1237"/>
                  </a:lnTo>
                  <a:lnTo>
                    <a:pt x="5215" y="1151"/>
                  </a:lnTo>
                  <a:lnTo>
                    <a:pt x="5274" y="1063"/>
                  </a:lnTo>
                  <a:lnTo>
                    <a:pt x="5332" y="974"/>
                  </a:lnTo>
                  <a:lnTo>
                    <a:pt x="5387" y="884"/>
                  </a:lnTo>
                  <a:lnTo>
                    <a:pt x="5441" y="795"/>
                  </a:lnTo>
                  <a:lnTo>
                    <a:pt x="5493" y="705"/>
                  </a:lnTo>
                  <a:lnTo>
                    <a:pt x="5542" y="614"/>
                  </a:lnTo>
                  <a:lnTo>
                    <a:pt x="5590" y="522"/>
                  </a:lnTo>
                  <a:lnTo>
                    <a:pt x="5636" y="429"/>
                  </a:lnTo>
                  <a:lnTo>
                    <a:pt x="5680" y="337"/>
                  </a:lnTo>
                  <a:lnTo>
                    <a:pt x="5721" y="243"/>
                  </a:lnTo>
                  <a:lnTo>
                    <a:pt x="5762" y="149"/>
                  </a:lnTo>
                  <a:lnTo>
                    <a:pt x="5800" y="54"/>
                  </a:lnTo>
                  <a:lnTo>
                    <a:pt x="5660" y="0"/>
                  </a:lnTo>
                  <a:lnTo>
                    <a:pt x="5623" y="92"/>
                  </a:lnTo>
                  <a:lnTo>
                    <a:pt x="5584" y="183"/>
                  </a:lnTo>
                  <a:lnTo>
                    <a:pt x="5543" y="273"/>
                  </a:lnTo>
                  <a:lnTo>
                    <a:pt x="5501" y="364"/>
                  </a:lnTo>
                  <a:lnTo>
                    <a:pt x="5456" y="454"/>
                  </a:lnTo>
                  <a:lnTo>
                    <a:pt x="5409" y="543"/>
                  </a:lnTo>
                  <a:lnTo>
                    <a:pt x="5361" y="631"/>
                  </a:lnTo>
                  <a:lnTo>
                    <a:pt x="5311" y="719"/>
                  </a:lnTo>
                  <a:lnTo>
                    <a:pt x="5258" y="807"/>
                  </a:lnTo>
                  <a:lnTo>
                    <a:pt x="5204" y="894"/>
                  </a:lnTo>
                  <a:lnTo>
                    <a:pt x="5149" y="979"/>
                  </a:lnTo>
                  <a:lnTo>
                    <a:pt x="5091" y="1065"/>
                  </a:lnTo>
                  <a:lnTo>
                    <a:pt x="5032" y="1150"/>
                  </a:lnTo>
                  <a:lnTo>
                    <a:pt x="4971" y="1234"/>
                  </a:lnTo>
                  <a:lnTo>
                    <a:pt x="4907" y="1317"/>
                  </a:lnTo>
                  <a:lnTo>
                    <a:pt x="4843" y="1401"/>
                  </a:lnTo>
                  <a:lnTo>
                    <a:pt x="4776" y="1483"/>
                  </a:lnTo>
                  <a:lnTo>
                    <a:pt x="4708" y="1564"/>
                  </a:lnTo>
                  <a:lnTo>
                    <a:pt x="4637" y="1644"/>
                  </a:lnTo>
                  <a:lnTo>
                    <a:pt x="4566" y="1724"/>
                  </a:lnTo>
                  <a:lnTo>
                    <a:pt x="4493" y="1803"/>
                  </a:lnTo>
                  <a:lnTo>
                    <a:pt x="4418" y="1881"/>
                  </a:lnTo>
                  <a:lnTo>
                    <a:pt x="4342" y="1959"/>
                  </a:lnTo>
                  <a:lnTo>
                    <a:pt x="4263" y="2036"/>
                  </a:lnTo>
                  <a:lnTo>
                    <a:pt x="4183" y="2112"/>
                  </a:lnTo>
                  <a:lnTo>
                    <a:pt x="4102" y="2188"/>
                  </a:lnTo>
                  <a:lnTo>
                    <a:pt x="4019" y="2261"/>
                  </a:lnTo>
                  <a:lnTo>
                    <a:pt x="3935" y="2335"/>
                  </a:lnTo>
                  <a:lnTo>
                    <a:pt x="3849" y="2408"/>
                  </a:lnTo>
                  <a:lnTo>
                    <a:pt x="3761" y="2480"/>
                  </a:lnTo>
                  <a:lnTo>
                    <a:pt x="3672" y="2551"/>
                  </a:lnTo>
                  <a:lnTo>
                    <a:pt x="3582" y="2620"/>
                  </a:lnTo>
                  <a:lnTo>
                    <a:pt x="3490" y="2690"/>
                  </a:lnTo>
                  <a:lnTo>
                    <a:pt x="3396" y="2759"/>
                  </a:lnTo>
                  <a:lnTo>
                    <a:pt x="3302" y="2826"/>
                  </a:lnTo>
                  <a:lnTo>
                    <a:pt x="3206" y="2892"/>
                  </a:lnTo>
                  <a:lnTo>
                    <a:pt x="3108" y="2957"/>
                  </a:lnTo>
                  <a:lnTo>
                    <a:pt x="3009" y="3021"/>
                  </a:lnTo>
                  <a:lnTo>
                    <a:pt x="2908" y="3086"/>
                  </a:lnTo>
                  <a:lnTo>
                    <a:pt x="2806" y="3148"/>
                  </a:lnTo>
                  <a:lnTo>
                    <a:pt x="2703" y="3210"/>
                  </a:lnTo>
                  <a:lnTo>
                    <a:pt x="2599" y="3270"/>
                  </a:lnTo>
                  <a:lnTo>
                    <a:pt x="2493" y="3330"/>
                  </a:lnTo>
                  <a:lnTo>
                    <a:pt x="2386" y="3389"/>
                  </a:lnTo>
                  <a:lnTo>
                    <a:pt x="2278" y="3446"/>
                  </a:lnTo>
                  <a:lnTo>
                    <a:pt x="2168" y="3502"/>
                  </a:lnTo>
                  <a:lnTo>
                    <a:pt x="2058" y="3557"/>
                  </a:lnTo>
                  <a:lnTo>
                    <a:pt x="1945" y="3611"/>
                  </a:lnTo>
                  <a:lnTo>
                    <a:pt x="1832" y="3665"/>
                  </a:lnTo>
                  <a:lnTo>
                    <a:pt x="1718" y="3717"/>
                  </a:lnTo>
                  <a:lnTo>
                    <a:pt x="1603" y="3769"/>
                  </a:lnTo>
                  <a:lnTo>
                    <a:pt x="1485" y="3819"/>
                  </a:lnTo>
                  <a:lnTo>
                    <a:pt x="1368" y="3867"/>
                  </a:lnTo>
                  <a:lnTo>
                    <a:pt x="1248" y="3915"/>
                  </a:lnTo>
                  <a:lnTo>
                    <a:pt x="1129" y="3961"/>
                  </a:lnTo>
                  <a:lnTo>
                    <a:pt x="1007" y="4007"/>
                  </a:lnTo>
                  <a:lnTo>
                    <a:pt x="885" y="4051"/>
                  </a:lnTo>
                  <a:lnTo>
                    <a:pt x="761" y="4093"/>
                  </a:lnTo>
                  <a:lnTo>
                    <a:pt x="637" y="4136"/>
                  </a:lnTo>
                  <a:lnTo>
                    <a:pt x="512" y="4176"/>
                  </a:lnTo>
                  <a:lnTo>
                    <a:pt x="386" y="4215"/>
                  </a:lnTo>
                  <a:lnTo>
                    <a:pt x="258" y="4253"/>
                  </a:lnTo>
                  <a:lnTo>
                    <a:pt x="130" y="4291"/>
                  </a:lnTo>
                  <a:lnTo>
                    <a:pt x="0" y="4326"/>
                  </a:lnTo>
                  <a:lnTo>
                    <a:pt x="40" y="4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5791320" y="5777640"/>
              <a:ext cx="225360" cy="241920"/>
            </a:xfrm>
            <a:custGeom>
              <a:avLst/>
              <a:gdLst/>
              <a:ahLst/>
              <a:rect l="l" t="t" r="r" b="b"/>
              <a:pathLst>
                <a:path w="792" h="759">
                  <a:moveTo>
                    <a:pt x="792" y="759"/>
                  </a:moveTo>
                  <a:lnTo>
                    <a:pt x="0" y="565"/>
                  </a:lnTo>
                  <a:lnTo>
                    <a:pt x="588" y="0"/>
                  </a:lnTo>
                  <a:lnTo>
                    <a:pt x="792" y="759"/>
                  </a:lnTo>
                  <a:lnTo>
                    <a:pt x="0" y="565"/>
                  </a:lnTo>
                  <a:lnTo>
                    <a:pt x="792"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2" name=""/>
          <p:cNvSpPr/>
          <p:nvPr/>
        </p:nvSpPr>
        <p:spPr>
          <a:xfrm>
            <a:off x="4602240" y="4516560"/>
            <a:ext cx="47520" cy="209520"/>
          </a:xfrm>
          <a:custGeom>
            <a:avLst/>
            <a:gdLst/>
            <a:ahLst/>
            <a:rect l="l" t="t" r="r" b="b"/>
            <a:pathLst>
              <a:path w="151" h="660">
                <a:moveTo>
                  <a:pt x="75" y="660"/>
                </a:moveTo>
                <a:lnTo>
                  <a:pt x="151" y="660"/>
                </a:lnTo>
                <a:lnTo>
                  <a:pt x="151" y="0"/>
                </a:lnTo>
                <a:lnTo>
                  <a:pt x="0" y="0"/>
                </a:lnTo>
                <a:lnTo>
                  <a:pt x="0" y="660"/>
                </a:lnTo>
                <a:lnTo>
                  <a:pt x="75" y="6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4500720" y="4707000"/>
            <a:ext cx="249120" cy="226800"/>
          </a:xfrm>
          <a:custGeom>
            <a:avLst/>
            <a:gdLst/>
            <a:ahLst/>
            <a:rect l="l" t="t" r="r" b="b"/>
            <a:pathLst>
              <a:path w="787" h="717">
                <a:moveTo>
                  <a:pt x="787" y="0"/>
                </a:moveTo>
                <a:lnTo>
                  <a:pt x="393" y="717"/>
                </a:lnTo>
                <a:lnTo>
                  <a:pt x="0" y="0"/>
                </a:lnTo>
                <a:lnTo>
                  <a:pt x="787" y="0"/>
                </a:lnTo>
                <a:lnTo>
                  <a:pt x="393" y="717"/>
                </a:lnTo>
                <a:lnTo>
                  <a:pt x="7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500720" y="2771640"/>
            <a:ext cx="249120" cy="228600"/>
          </a:xfrm>
          <a:custGeom>
            <a:avLst/>
            <a:gdLst/>
            <a:ahLst/>
            <a:rect l="l" t="t" r="r" b="b"/>
            <a:pathLst>
              <a:path w="787" h="716">
                <a:moveTo>
                  <a:pt x="787" y="716"/>
                </a:moveTo>
                <a:lnTo>
                  <a:pt x="393" y="0"/>
                </a:lnTo>
                <a:lnTo>
                  <a:pt x="0" y="716"/>
                </a:lnTo>
                <a:lnTo>
                  <a:pt x="787" y="716"/>
                </a:lnTo>
                <a:lnTo>
                  <a:pt x="393" y="0"/>
                </a:lnTo>
                <a:lnTo>
                  <a:pt x="787" y="7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4602240" y="2979720"/>
            <a:ext cx="47520" cy="150840"/>
          </a:xfrm>
          <a:custGeom>
            <a:avLst/>
            <a:gdLst/>
            <a:ahLst/>
            <a:rect l="l" t="t" r="r" b="b"/>
            <a:pathLst>
              <a:path w="151" h="476">
                <a:moveTo>
                  <a:pt x="75" y="476"/>
                </a:moveTo>
                <a:lnTo>
                  <a:pt x="151" y="476"/>
                </a:lnTo>
                <a:lnTo>
                  <a:pt x="151" y="0"/>
                </a:lnTo>
                <a:lnTo>
                  <a:pt x="0" y="0"/>
                </a:lnTo>
                <a:lnTo>
                  <a:pt x="0" y="476"/>
                </a:lnTo>
                <a:lnTo>
                  <a:pt x="75"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2932200" y="3843360"/>
            <a:ext cx="549360" cy="47520"/>
          </a:xfrm>
          <a:custGeom>
            <a:avLst/>
            <a:gdLst/>
            <a:ahLst/>
            <a:rect l="l" t="t" r="r" b="b"/>
            <a:pathLst>
              <a:path w="1728" h="150">
                <a:moveTo>
                  <a:pt x="0" y="75"/>
                </a:moveTo>
                <a:lnTo>
                  <a:pt x="0" y="150"/>
                </a:lnTo>
                <a:lnTo>
                  <a:pt x="1728" y="150"/>
                </a:lnTo>
                <a:lnTo>
                  <a:pt x="1728" y="0"/>
                </a:lnTo>
                <a:lnTo>
                  <a:pt x="0" y="0"/>
                </a:lnTo>
                <a:lnTo>
                  <a:pt x="0"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7" name=""/>
          <p:cNvSpPr/>
          <p:nvPr/>
        </p:nvSpPr>
        <p:spPr>
          <a:xfrm>
            <a:off x="2725560" y="3743280"/>
            <a:ext cx="227160" cy="249120"/>
          </a:xfrm>
          <a:custGeom>
            <a:avLst/>
            <a:gdLst/>
            <a:ahLst/>
            <a:rect l="l" t="t" r="r" b="b"/>
            <a:pathLst>
              <a:path w="717" h="787">
                <a:moveTo>
                  <a:pt x="717" y="787"/>
                </a:moveTo>
                <a:lnTo>
                  <a:pt x="0" y="393"/>
                </a:lnTo>
                <a:lnTo>
                  <a:pt x="717" y="0"/>
                </a:lnTo>
                <a:lnTo>
                  <a:pt x="717" y="787"/>
                </a:lnTo>
                <a:lnTo>
                  <a:pt x="0" y="393"/>
                </a:lnTo>
                <a:lnTo>
                  <a:pt x="717" y="7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5778360" y="3533760"/>
            <a:ext cx="382680" cy="47520"/>
          </a:xfrm>
          <a:custGeom>
            <a:avLst/>
            <a:gdLst/>
            <a:ahLst/>
            <a:rect l="l" t="t" r="r" b="b"/>
            <a:pathLst>
              <a:path w="1203" h="150">
                <a:moveTo>
                  <a:pt x="1203" y="75"/>
                </a:moveTo>
                <a:lnTo>
                  <a:pt x="1203" y="0"/>
                </a:lnTo>
                <a:lnTo>
                  <a:pt x="0" y="0"/>
                </a:lnTo>
                <a:lnTo>
                  <a:pt x="0" y="150"/>
                </a:lnTo>
                <a:lnTo>
                  <a:pt x="1203" y="150"/>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9" name=""/>
          <p:cNvSpPr/>
          <p:nvPr/>
        </p:nvSpPr>
        <p:spPr>
          <a:xfrm>
            <a:off x="6145200" y="3411360"/>
            <a:ext cx="293760" cy="292320"/>
          </a:xfrm>
          <a:custGeom>
            <a:avLst/>
            <a:gdLst/>
            <a:ahLst/>
            <a:rect l="l" t="t" r="r" b="b"/>
            <a:pathLst>
              <a:path w="922" h="922">
                <a:moveTo>
                  <a:pt x="922" y="461"/>
                </a:moveTo>
                <a:lnTo>
                  <a:pt x="0" y="0"/>
                </a:lnTo>
                <a:lnTo>
                  <a:pt x="0" y="922"/>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778360" y="4148280"/>
            <a:ext cx="382680" cy="47520"/>
          </a:xfrm>
          <a:custGeom>
            <a:avLst/>
            <a:gdLst/>
            <a:ahLst/>
            <a:rect l="l" t="t" r="r" b="b"/>
            <a:pathLst>
              <a:path w="1203" h="151">
                <a:moveTo>
                  <a:pt x="1203" y="75"/>
                </a:moveTo>
                <a:lnTo>
                  <a:pt x="1203" y="0"/>
                </a:lnTo>
                <a:lnTo>
                  <a:pt x="0" y="0"/>
                </a:lnTo>
                <a:lnTo>
                  <a:pt x="0" y="151"/>
                </a:lnTo>
                <a:lnTo>
                  <a:pt x="1203" y="151"/>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81" name=""/>
          <p:cNvSpPr/>
          <p:nvPr/>
        </p:nvSpPr>
        <p:spPr>
          <a:xfrm>
            <a:off x="6145200" y="4025880"/>
            <a:ext cx="293760" cy="291960"/>
          </a:xfrm>
          <a:custGeom>
            <a:avLst/>
            <a:gdLst/>
            <a:ahLst/>
            <a:rect l="l" t="t" r="r" b="b"/>
            <a:pathLst>
              <a:path w="922" h="923">
                <a:moveTo>
                  <a:pt x="922" y="461"/>
                </a:moveTo>
                <a:lnTo>
                  <a:pt x="0" y="0"/>
                </a:lnTo>
                <a:lnTo>
                  <a:pt x="0" y="923"/>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0" y="609480"/>
            <a:ext cx="26668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
          <p:cNvSpPr/>
          <p:nvPr/>
        </p:nvSpPr>
        <p:spPr>
          <a:xfrm>
            <a:off x="76320" y="609480"/>
            <a:ext cx="2590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ualität in Schule</a:t>
            </a:r>
            <a:endParaRPr b="0" lang="en-US" sz="2200" spc="-1" strike="noStrike">
              <a:solidFill>
                <a:srgbClr val="000000"/>
              </a:solidFill>
              <a:latin typeface="Times New Roman"/>
            </a:endParaRPr>
          </a:p>
        </p:txBody>
      </p:sp>
      <p:grpSp>
        <p:nvGrpSpPr>
          <p:cNvPr id="1288" name=""/>
          <p:cNvGrpSpPr/>
          <p:nvPr/>
        </p:nvGrpSpPr>
        <p:grpSpPr>
          <a:xfrm>
            <a:off x="1143000" y="913320"/>
            <a:ext cx="3505320" cy="459720"/>
            <a:chOff x="1143000" y="913320"/>
            <a:chExt cx="3505320" cy="459720"/>
          </a:xfrm>
        </p:grpSpPr>
        <p:sp>
          <p:nvSpPr>
            <p:cNvPr id="1289" name=""/>
            <p:cNvSpPr/>
            <p:nvPr/>
          </p:nvSpPr>
          <p:spPr>
            <a:xfrm>
              <a:off x="1143000" y="990720"/>
              <a:ext cx="350532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
            <p:cNvSpPr/>
            <p:nvPr/>
          </p:nvSpPr>
          <p:spPr>
            <a:xfrm>
              <a:off x="1671840" y="913320"/>
              <a:ext cx="2517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ulprogramm</a:t>
              </a:r>
              <a:endParaRPr b="0" lang="en-US" sz="2400" spc="-1" strike="noStrike">
                <a:solidFill>
                  <a:srgbClr val="000000"/>
                </a:solidFill>
                <a:latin typeface="Times New Roman"/>
              </a:endParaRPr>
            </a:p>
          </p:txBody>
        </p:sp>
      </p:grpSp>
      <p:grpSp>
        <p:nvGrpSpPr>
          <p:cNvPr id="1291" name=""/>
          <p:cNvGrpSpPr/>
          <p:nvPr/>
        </p:nvGrpSpPr>
        <p:grpSpPr>
          <a:xfrm>
            <a:off x="4648320" y="913320"/>
            <a:ext cx="4495680" cy="459720"/>
            <a:chOff x="4648320" y="913320"/>
            <a:chExt cx="4495680" cy="459720"/>
          </a:xfrm>
        </p:grpSpPr>
        <p:sp>
          <p:nvSpPr>
            <p:cNvPr id="1292" name=""/>
            <p:cNvSpPr/>
            <p:nvPr/>
          </p:nvSpPr>
          <p:spPr>
            <a:xfrm>
              <a:off x="4648320" y="990720"/>
              <a:ext cx="4495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411160" y="913320"/>
              <a:ext cx="1721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a:t>
              </a:r>
              <a:endParaRPr b="0" lang="en-US" sz="2400" spc="-1" strike="noStrike">
                <a:solidFill>
                  <a:srgbClr val="000000"/>
                </a:solidFill>
                <a:latin typeface="Times New Roman"/>
              </a:endParaRPr>
            </a:p>
          </p:txBody>
        </p:sp>
      </p:grpSp>
      <p:grpSp>
        <p:nvGrpSpPr>
          <p:cNvPr id="1294" name=""/>
          <p:cNvGrpSpPr/>
          <p:nvPr/>
        </p:nvGrpSpPr>
        <p:grpSpPr>
          <a:xfrm>
            <a:off x="3479760" y="1371600"/>
            <a:ext cx="2297160" cy="1339560"/>
            <a:chOff x="3479760" y="1371600"/>
            <a:chExt cx="2297160" cy="1339560"/>
          </a:xfrm>
        </p:grpSpPr>
        <p:sp>
          <p:nvSpPr>
            <p:cNvPr id="1295" name=""/>
            <p:cNvSpPr/>
            <p:nvPr/>
          </p:nvSpPr>
          <p:spPr>
            <a:xfrm>
              <a:off x="3479760" y="1371600"/>
              <a:ext cx="2297160" cy="1339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823920" y="1517040"/>
              <a:ext cx="16866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msetzung</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kreter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ßnahmen</a:t>
              </a:r>
              <a:endParaRPr b="0" lang="en-US" sz="2000" spc="-1" strike="noStrike">
                <a:solidFill>
                  <a:srgbClr val="000000"/>
                </a:solidFill>
                <a:latin typeface="Times New Roman"/>
              </a:endParaRPr>
            </a:p>
          </p:txBody>
        </p:sp>
      </p:grpSp>
      <p:grpSp>
        <p:nvGrpSpPr>
          <p:cNvPr id="1297" name=""/>
          <p:cNvGrpSpPr/>
          <p:nvPr/>
        </p:nvGrpSpPr>
        <p:grpSpPr>
          <a:xfrm>
            <a:off x="6448320" y="3860640"/>
            <a:ext cx="2558520" cy="669960"/>
            <a:chOff x="6448320" y="3860640"/>
            <a:chExt cx="2558520" cy="669960"/>
          </a:xfrm>
        </p:grpSpPr>
        <p:sp>
          <p:nvSpPr>
            <p:cNvPr id="1298" name=""/>
            <p:cNvSpPr/>
            <p:nvPr/>
          </p:nvSpPr>
          <p:spPr>
            <a:xfrm>
              <a:off x="6448320" y="3860640"/>
              <a:ext cx="2543400" cy="669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6476040" y="3964320"/>
              <a:ext cx="2530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andsaufnahme</a:t>
              </a:r>
              <a:endParaRPr b="0" lang="en-US" sz="2000" spc="-1" strike="noStrike">
                <a:solidFill>
                  <a:srgbClr val="000000"/>
                </a:solidFill>
                <a:latin typeface="Times New Roman"/>
              </a:endParaRPr>
            </a:p>
          </p:txBody>
        </p:sp>
      </p:grpSp>
      <p:grpSp>
        <p:nvGrpSpPr>
          <p:cNvPr id="1300" name=""/>
          <p:cNvGrpSpPr/>
          <p:nvPr/>
        </p:nvGrpSpPr>
        <p:grpSpPr>
          <a:xfrm>
            <a:off x="3479760" y="5103720"/>
            <a:ext cx="2297160" cy="1339920"/>
            <a:chOff x="3479760" y="5103720"/>
            <a:chExt cx="2297160" cy="1339920"/>
          </a:xfrm>
        </p:grpSpPr>
        <p:sp>
          <p:nvSpPr>
            <p:cNvPr id="1301" name=""/>
            <p:cNvSpPr/>
            <p:nvPr/>
          </p:nvSpPr>
          <p:spPr>
            <a:xfrm>
              <a:off x="3479760" y="5103720"/>
              <a:ext cx="2297160" cy="1339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3710160" y="5393520"/>
              <a:ext cx="1895400" cy="709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flexion</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Ergebnisse</a:t>
              </a:r>
              <a:endParaRPr b="0" lang="en-US" sz="2000" spc="-1" strike="noStrike">
                <a:solidFill>
                  <a:srgbClr val="000000"/>
                </a:solidFill>
                <a:latin typeface="Times New Roman"/>
              </a:endParaRPr>
            </a:p>
          </p:txBody>
        </p:sp>
      </p:grpSp>
      <p:grpSp>
        <p:nvGrpSpPr>
          <p:cNvPr id="1303" name=""/>
          <p:cNvGrpSpPr/>
          <p:nvPr/>
        </p:nvGrpSpPr>
        <p:grpSpPr>
          <a:xfrm>
            <a:off x="583560" y="3189240"/>
            <a:ext cx="2323080" cy="1341360"/>
            <a:chOff x="583560" y="3189240"/>
            <a:chExt cx="2323080" cy="1341360"/>
          </a:xfrm>
        </p:grpSpPr>
        <p:sp>
          <p:nvSpPr>
            <p:cNvPr id="1304" name=""/>
            <p:cNvSpPr/>
            <p:nvPr/>
          </p:nvSpPr>
          <p:spPr>
            <a:xfrm>
              <a:off x="60948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583560" y="3349080"/>
              <a:ext cx="2322000" cy="990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ulprogramm</a:t>
              </a:r>
              <a:endParaRPr b="0" lang="en-US" sz="22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iele und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haben</a:t>
              </a:r>
              <a:endParaRPr b="0" lang="en-US" sz="2000" spc="-1" strike="noStrike">
                <a:solidFill>
                  <a:srgbClr val="000000"/>
                </a:solidFill>
                <a:latin typeface="Times New Roman"/>
              </a:endParaRPr>
            </a:p>
          </p:txBody>
        </p:sp>
      </p:grpSp>
      <p:grpSp>
        <p:nvGrpSpPr>
          <p:cNvPr id="1306" name=""/>
          <p:cNvGrpSpPr/>
          <p:nvPr/>
        </p:nvGrpSpPr>
        <p:grpSpPr>
          <a:xfrm>
            <a:off x="3479760" y="3189240"/>
            <a:ext cx="2297160" cy="1341360"/>
            <a:chOff x="3479760" y="3189240"/>
            <a:chExt cx="2297160" cy="1341360"/>
          </a:xfrm>
        </p:grpSpPr>
        <p:sp>
          <p:nvSpPr>
            <p:cNvPr id="1307" name=""/>
            <p:cNvSpPr/>
            <p:nvPr/>
          </p:nvSpPr>
          <p:spPr>
            <a:xfrm>
              <a:off x="3479760" y="3189240"/>
              <a:ext cx="2297160" cy="13413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873600" y="3520800"/>
              <a:ext cx="1640880" cy="73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a:t>
              </a:r>
              <a:endParaRPr b="0" lang="en-US" sz="2200" spc="-1" strike="noStrike">
                <a:solidFill>
                  <a:srgbClr val="000000"/>
                </a:solidFill>
                <a:latin typeface="Times New Roman"/>
              </a:endParaRPr>
            </a:p>
            <a:p>
              <a:pPr algn="ct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kussion</a:t>
              </a:r>
              <a:endParaRPr b="0" lang="en-US" sz="2200" spc="-1" strike="noStrike">
                <a:solidFill>
                  <a:srgbClr val="000000"/>
                </a:solidFill>
                <a:latin typeface="Times New Roman"/>
              </a:endParaRPr>
            </a:p>
          </p:txBody>
        </p:sp>
      </p:grpSp>
      <p:grpSp>
        <p:nvGrpSpPr>
          <p:cNvPr id="1309" name=""/>
          <p:cNvGrpSpPr/>
          <p:nvPr/>
        </p:nvGrpSpPr>
        <p:grpSpPr>
          <a:xfrm>
            <a:off x="6448320" y="3189240"/>
            <a:ext cx="2543400" cy="671400"/>
            <a:chOff x="6448320" y="3189240"/>
            <a:chExt cx="2543400" cy="671400"/>
          </a:xfrm>
        </p:grpSpPr>
        <p:sp>
          <p:nvSpPr>
            <p:cNvPr id="1310" name=""/>
            <p:cNvSpPr/>
            <p:nvPr/>
          </p:nvSpPr>
          <p:spPr>
            <a:xfrm>
              <a:off x="6448320" y="3189240"/>
              <a:ext cx="2543400" cy="671400"/>
            </a:xfrm>
            <a:prstGeom prst="rect">
              <a:avLst/>
            </a:prstGeom>
            <a:solidFill>
              <a:srgbClr val="33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6749640" y="3400920"/>
              <a:ext cx="1870920" cy="42912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Überprüfung</a:t>
              </a:r>
              <a:endParaRPr b="0" lang="en-US" sz="2200" spc="-1" strike="noStrike">
                <a:solidFill>
                  <a:srgbClr val="000000"/>
                </a:solidFill>
                <a:latin typeface="Times New Roman"/>
              </a:endParaRPr>
            </a:p>
          </p:txBody>
        </p:sp>
      </p:grpSp>
      <p:grpSp>
        <p:nvGrpSpPr>
          <p:cNvPr id="1312" name=""/>
          <p:cNvGrpSpPr/>
          <p:nvPr/>
        </p:nvGrpSpPr>
        <p:grpSpPr>
          <a:xfrm>
            <a:off x="5778360" y="2044800"/>
            <a:ext cx="1612800" cy="1155240"/>
            <a:chOff x="5778360" y="2044800"/>
            <a:chExt cx="1612800" cy="1155240"/>
          </a:xfrm>
        </p:grpSpPr>
        <p:sp>
          <p:nvSpPr>
            <p:cNvPr id="1313" name=""/>
            <p:cNvSpPr/>
            <p:nvPr/>
          </p:nvSpPr>
          <p:spPr>
            <a:xfrm>
              <a:off x="5778360" y="2044800"/>
              <a:ext cx="1499040" cy="966600"/>
            </a:xfrm>
            <a:custGeom>
              <a:avLst/>
              <a:gdLst/>
              <a:ahLst/>
              <a:rect l="l" t="t" r="r" b="b"/>
              <a:pathLst>
                <a:path w="5332" h="3582">
                  <a:moveTo>
                    <a:pt x="5332" y="3501"/>
                  </a:moveTo>
                  <a:lnTo>
                    <a:pt x="5283" y="3426"/>
                  </a:lnTo>
                  <a:lnTo>
                    <a:pt x="5233" y="3352"/>
                  </a:lnTo>
                  <a:lnTo>
                    <a:pt x="5183" y="3279"/>
                  </a:lnTo>
                  <a:lnTo>
                    <a:pt x="5130" y="3205"/>
                  </a:lnTo>
                  <a:lnTo>
                    <a:pt x="5077" y="3133"/>
                  </a:lnTo>
                  <a:lnTo>
                    <a:pt x="5022" y="3060"/>
                  </a:lnTo>
                  <a:lnTo>
                    <a:pt x="4967" y="2989"/>
                  </a:lnTo>
                  <a:lnTo>
                    <a:pt x="4910" y="2917"/>
                  </a:lnTo>
                  <a:lnTo>
                    <a:pt x="4851" y="2847"/>
                  </a:lnTo>
                  <a:lnTo>
                    <a:pt x="4791" y="2777"/>
                  </a:lnTo>
                  <a:lnTo>
                    <a:pt x="4730" y="2707"/>
                  </a:lnTo>
                  <a:lnTo>
                    <a:pt x="4669" y="2639"/>
                  </a:lnTo>
                  <a:lnTo>
                    <a:pt x="4605" y="2570"/>
                  </a:lnTo>
                  <a:lnTo>
                    <a:pt x="4541" y="2503"/>
                  </a:lnTo>
                  <a:lnTo>
                    <a:pt x="4476" y="2435"/>
                  </a:lnTo>
                  <a:lnTo>
                    <a:pt x="4409" y="2370"/>
                  </a:lnTo>
                  <a:lnTo>
                    <a:pt x="4341" y="2303"/>
                  </a:lnTo>
                  <a:lnTo>
                    <a:pt x="4271" y="2238"/>
                  </a:lnTo>
                  <a:lnTo>
                    <a:pt x="4201" y="2173"/>
                  </a:lnTo>
                  <a:lnTo>
                    <a:pt x="4131" y="2109"/>
                  </a:lnTo>
                  <a:lnTo>
                    <a:pt x="4058" y="2046"/>
                  </a:lnTo>
                  <a:lnTo>
                    <a:pt x="3984" y="1983"/>
                  </a:lnTo>
                  <a:lnTo>
                    <a:pt x="3909" y="1920"/>
                  </a:lnTo>
                  <a:lnTo>
                    <a:pt x="3834" y="1858"/>
                  </a:lnTo>
                  <a:lnTo>
                    <a:pt x="3756" y="1798"/>
                  </a:lnTo>
                  <a:lnTo>
                    <a:pt x="3679" y="1737"/>
                  </a:lnTo>
                  <a:lnTo>
                    <a:pt x="3600" y="1678"/>
                  </a:lnTo>
                  <a:lnTo>
                    <a:pt x="3521" y="1619"/>
                  </a:lnTo>
                  <a:lnTo>
                    <a:pt x="3440" y="1560"/>
                  </a:lnTo>
                  <a:lnTo>
                    <a:pt x="3358" y="1503"/>
                  </a:lnTo>
                  <a:lnTo>
                    <a:pt x="3274" y="1447"/>
                  </a:lnTo>
                  <a:lnTo>
                    <a:pt x="3191" y="1390"/>
                  </a:lnTo>
                  <a:lnTo>
                    <a:pt x="3105" y="1335"/>
                  </a:lnTo>
                  <a:lnTo>
                    <a:pt x="3020" y="1280"/>
                  </a:lnTo>
                  <a:lnTo>
                    <a:pt x="2933" y="1226"/>
                  </a:lnTo>
                  <a:lnTo>
                    <a:pt x="2845" y="1172"/>
                  </a:lnTo>
                  <a:lnTo>
                    <a:pt x="2757" y="1120"/>
                  </a:lnTo>
                  <a:lnTo>
                    <a:pt x="2667" y="1068"/>
                  </a:lnTo>
                  <a:lnTo>
                    <a:pt x="2576" y="1017"/>
                  </a:lnTo>
                  <a:lnTo>
                    <a:pt x="2485" y="967"/>
                  </a:lnTo>
                  <a:lnTo>
                    <a:pt x="2392" y="916"/>
                  </a:lnTo>
                  <a:lnTo>
                    <a:pt x="2299" y="868"/>
                  </a:lnTo>
                  <a:lnTo>
                    <a:pt x="2204" y="820"/>
                  </a:lnTo>
                  <a:lnTo>
                    <a:pt x="2109" y="773"/>
                  </a:lnTo>
                  <a:lnTo>
                    <a:pt x="2014" y="726"/>
                  </a:lnTo>
                  <a:lnTo>
                    <a:pt x="1917" y="681"/>
                  </a:lnTo>
                  <a:lnTo>
                    <a:pt x="1820" y="636"/>
                  </a:lnTo>
                  <a:lnTo>
                    <a:pt x="1721" y="592"/>
                  </a:lnTo>
                  <a:lnTo>
                    <a:pt x="1621" y="548"/>
                  </a:lnTo>
                  <a:lnTo>
                    <a:pt x="1522" y="506"/>
                  </a:lnTo>
                  <a:lnTo>
                    <a:pt x="1421" y="464"/>
                  </a:lnTo>
                  <a:lnTo>
                    <a:pt x="1319" y="424"/>
                  </a:lnTo>
                  <a:lnTo>
                    <a:pt x="1217" y="384"/>
                  </a:lnTo>
                  <a:lnTo>
                    <a:pt x="1113" y="344"/>
                  </a:lnTo>
                  <a:lnTo>
                    <a:pt x="1009" y="307"/>
                  </a:lnTo>
                  <a:lnTo>
                    <a:pt x="903" y="269"/>
                  </a:lnTo>
                  <a:lnTo>
                    <a:pt x="798" y="231"/>
                  </a:lnTo>
                  <a:lnTo>
                    <a:pt x="692" y="196"/>
                  </a:lnTo>
                  <a:lnTo>
                    <a:pt x="585" y="162"/>
                  </a:lnTo>
                  <a:lnTo>
                    <a:pt x="478" y="128"/>
                  </a:lnTo>
                  <a:lnTo>
                    <a:pt x="368" y="94"/>
                  </a:lnTo>
                  <a:lnTo>
                    <a:pt x="259" y="63"/>
                  </a:lnTo>
                  <a:lnTo>
                    <a:pt x="150" y="31"/>
                  </a:lnTo>
                  <a:lnTo>
                    <a:pt x="40" y="0"/>
                  </a:lnTo>
                  <a:lnTo>
                    <a:pt x="0" y="146"/>
                  </a:lnTo>
                  <a:lnTo>
                    <a:pt x="110" y="176"/>
                  </a:lnTo>
                  <a:lnTo>
                    <a:pt x="218" y="207"/>
                  </a:lnTo>
                  <a:lnTo>
                    <a:pt x="326" y="238"/>
                  </a:lnTo>
                  <a:lnTo>
                    <a:pt x="433" y="271"/>
                  </a:lnTo>
                  <a:lnTo>
                    <a:pt x="540" y="304"/>
                  </a:lnTo>
                  <a:lnTo>
                    <a:pt x="645" y="339"/>
                  </a:lnTo>
                  <a:lnTo>
                    <a:pt x="750" y="375"/>
                  </a:lnTo>
                  <a:lnTo>
                    <a:pt x="854" y="411"/>
                  </a:lnTo>
                  <a:lnTo>
                    <a:pt x="957" y="447"/>
                  </a:lnTo>
                  <a:lnTo>
                    <a:pt x="1061" y="485"/>
                  </a:lnTo>
                  <a:lnTo>
                    <a:pt x="1163" y="523"/>
                  </a:lnTo>
                  <a:lnTo>
                    <a:pt x="1264" y="563"/>
                  </a:lnTo>
                  <a:lnTo>
                    <a:pt x="1364" y="603"/>
                  </a:lnTo>
                  <a:lnTo>
                    <a:pt x="1464" y="644"/>
                  </a:lnTo>
                  <a:lnTo>
                    <a:pt x="1563" y="687"/>
                  </a:lnTo>
                  <a:lnTo>
                    <a:pt x="1660" y="729"/>
                  </a:lnTo>
                  <a:lnTo>
                    <a:pt x="1757" y="773"/>
                  </a:lnTo>
                  <a:lnTo>
                    <a:pt x="1854" y="817"/>
                  </a:lnTo>
                  <a:lnTo>
                    <a:pt x="1949" y="862"/>
                  </a:lnTo>
                  <a:lnTo>
                    <a:pt x="2044" y="908"/>
                  </a:lnTo>
                  <a:lnTo>
                    <a:pt x="2138" y="954"/>
                  </a:lnTo>
                  <a:lnTo>
                    <a:pt x="2230" y="1002"/>
                  </a:lnTo>
                  <a:lnTo>
                    <a:pt x="2322" y="1050"/>
                  </a:lnTo>
                  <a:lnTo>
                    <a:pt x="2413" y="1098"/>
                  </a:lnTo>
                  <a:lnTo>
                    <a:pt x="2504" y="1149"/>
                  </a:lnTo>
                  <a:lnTo>
                    <a:pt x="2593" y="1199"/>
                  </a:lnTo>
                  <a:lnTo>
                    <a:pt x="2681" y="1250"/>
                  </a:lnTo>
                  <a:lnTo>
                    <a:pt x="2769" y="1301"/>
                  </a:lnTo>
                  <a:lnTo>
                    <a:pt x="2854" y="1354"/>
                  </a:lnTo>
                  <a:lnTo>
                    <a:pt x="2940" y="1407"/>
                  </a:lnTo>
                  <a:lnTo>
                    <a:pt x="3024" y="1461"/>
                  </a:lnTo>
                  <a:lnTo>
                    <a:pt x="3108" y="1516"/>
                  </a:lnTo>
                  <a:lnTo>
                    <a:pt x="3191" y="1571"/>
                  </a:lnTo>
                  <a:lnTo>
                    <a:pt x="3272" y="1627"/>
                  </a:lnTo>
                  <a:lnTo>
                    <a:pt x="3353" y="1683"/>
                  </a:lnTo>
                  <a:lnTo>
                    <a:pt x="3433" y="1741"/>
                  </a:lnTo>
                  <a:lnTo>
                    <a:pt x="3510" y="1798"/>
                  </a:lnTo>
                  <a:lnTo>
                    <a:pt x="3587" y="1857"/>
                  </a:lnTo>
                  <a:lnTo>
                    <a:pt x="3665" y="1916"/>
                  </a:lnTo>
                  <a:lnTo>
                    <a:pt x="3740" y="1976"/>
                  </a:lnTo>
                  <a:lnTo>
                    <a:pt x="3814" y="2037"/>
                  </a:lnTo>
                  <a:lnTo>
                    <a:pt x="3887" y="2098"/>
                  </a:lnTo>
                  <a:lnTo>
                    <a:pt x="3959" y="2158"/>
                  </a:lnTo>
                  <a:lnTo>
                    <a:pt x="4030" y="2222"/>
                  </a:lnTo>
                  <a:lnTo>
                    <a:pt x="4100" y="2284"/>
                  </a:lnTo>
                  <a:lnTo>
                    <a:pt x="4169" y="2347"/>
                  </a:lnTo>
                  <a:lnTo>
                    <a:pt x="4236" y="2412"/>
                  </a:lnTo>
                  <a:lnTo>
                    <a:pt x="4303" y="2476"/>
                  </a:lnTo>
                  <a:lnTo>
                    <a:pt x="4369" y="2542"/>
                  </a:lnTo>
                  <a:lnTo>
                    <a:pt x="4432" y="2607"/>
                  </a:lnTo>
                  <a:lnTo>
                    <a:pt x="4495" y="2673"/>
                  </a:lnTo>
                  <a:lnTo>
                    <a:pt x="4558" y="2740"/>
                  </a:lnTo>
                  <a:lnTo>
                    <a:pt x="4619" y="2807"/>
                  </a:lnTo>
                  <a:lnTo>
                    <a:pt x="4677" y="2875"/>
                  </a:lnTo>
                  <a:lnTo>
                    <a:pt x="4736" y="2944"/>
                  </a:lnTo>
                  <a:lnTo>
                    <a:pt x="4793" y="3012"/>
                  </a:lnTo>
                  <a:lnTo>
                    <a:pt x="4849" y="3082"/>
                  </a:lnTo>
                  <a:lnTo>
                    <a:pt x="4904" y="3152"/>
                  </a:lnTo>
                  <a:lnTo>
                    <a:pt x="4957" y="3222"/>
                  </a:lnTo>
                  <a:lnTo>
                    <a:pt x="5009" y="3294"/>
                  </a:lnTo>
                  <a:lnTo>
                    <a:pt x="5060" y="3364"/>
                  </a:lnTo>
                  <a:lnTo>
                    <a:pt x="5109" y="3437"/>
                  </a:lnTo>
                  <a:lnTo>
                    <a:pt x="5158" y="3508"/>
                  </a:lnTo>
                  <a:lnTo>
                    <a:pt x="5204" y="3582"/>
                  </a:lnTo>
                  <a:lnTo>
                    <a:pt x="5332" y="3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143840" y="2923560"/>
              <a:ext cx="247320" cy="276480"/>
            </a:xfrm>
            <a:custGeom>
              <a:avLst/>
              <a:gdLst/>
              <a:ahLst/>
              <a:rect l="l" t="t" r="r" b="b"/>
              <a:pathLst>
                <a:path w="882" h="1025">
                  <a:moveTo>
                    <a:pt x="882" y="1025"/>
                  </a:moveTo>
                  <a:lnTo>
                    <a:pt x="778" y="0"/>
                  </a:lnTo>
                  <a:lnTo>
                    <a:pt x="0" y="494"/>
                  </a:lnTo>
                  <a:lnTo>
                    <a:pt x="882" y="1025"/>
                  </a:lnTo>
                  <a:lnTo>
                    <a:pt x="882"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5" name=""/>
          <p:cNvGrpSpPr/>
          <p:nvPr/>
        </p:nvGrpSpPr>
        <p:grpSpPr>
          <a:xfrm>
            <a:off x="1895400" y="2057400"/>
            <a:ext cx="1533240" cy="1123560"/>
            <a:chOff x="1895400" y="2057400"/>
            <a:chExt cx="1533240" cy="1123560"/>
          </a:xfrm>
        </p:grpSpPr>
        <p:sp>
          <p:nvSpPr>
            <p:cNvPr id="1316" name=""/>
            <p:cNvSpPr/>
            <p:nvPr/>
          </p:nvSpPr>
          <p:spPr>
            <a:xfrm>
              <a:off x="1895400" y="2142000"/>
              <a:ext cx="1370160" cy="1038960"/>
            </a:xfrm>
            <a:custGeom>
              <a:avLst/>
              <a:gdLst/>
              <a:ahLst/>
              <a:rect l="l" t="t" r="r" b="b"/>
              <a:pathLst>
                <a:path w="5032" h="3494">
                  <a:moveTo>
                    <a:pt x="4990" y="0"/>
                  </a:moveTo>
                  <a:lnTo>
                    <a:pt x="4885" y="31"/>
                  </a:lnTo>
                  <a:lnTo>
                    <a:pt x="4782" y="64"/>
                  </a:lnTo>
                  <a:lnTo>
                    <a:pt x="4680" y="97"/>
                  </a:lnTo>
                  <a:lnTo>
                    <a:pt x="4578" y="131"/>
                  </a:lnTo>
                  <a:lnTo>
                    <a:pt x="4477" y="165"/>
                  </a:lnTo>
                  <a:lnTo>
                    <a:pt x="4376" y="200"/>
                  </a:lnTo>
                  <a:lnTo>
                    <a:pt x="4275" y="236"/>
                  </a:lnTo>
                  <a:lnTo>
                    <a:pt x="4177" y="274"/>
                  </a:lnTo>
                  <a:lnTo>
                    <a:pt x="4078" y="311"/>
                  </a:lnTo>
                  <a:lnTo>
                    <a:pt x="3980" y="350"/>
                  </a:lnTo>
                  <a:lnTo>
                    <a:pt x="3882" y="390"/>
                  </a:lnTo>
                  <a:lnTo>
                    <a:pt x="3786" y="430"/>
                  </a:lnTo>
                  <a:lnTo>
                    <a:pt x="3691" y="471"/>
                  </a:lnTo>
                  <a:lnTo>
                    <a:pt x="3596" y="512"/>
                  </a:lnTo>
                  <a:lnTo>
                    <a:pt x="3502" y="554"/>
                  </a:lnTo>
                  <a:lnTo>
                    <a:pt x="3408" y="597"/>
                  </a:lnTo>
                  <a:lnTo>
                    <a:pt x="3316" y="641"/>
                  </a:lnTo>
                  <a:lnTo>
                    <a:pt x="3224" y="685"/>
                  </a:lnTo>
                  <a:lnTo>
                    <a:pt x="3133" y="730"/>
                  </a:lnTo>
                  <a:lnTo>
                    <a:pt x="3042" y="777"/>
                  </a:lnTo>
                  <a:lnTo>
                    <a:pt x="2953" y="823"/>
                  </a:lnTo>
                  <a:lnTo>
                    <a:pt x="2865" y="871"/>
                  </a:lnTo>
                  <a:lnTo>
                    <a:pt x="2777" y="919"/>
                  </a:lnTo>
                  <a:lnTo>
                    <a:pt x="2690" y="967"/>
                  </a:lnTo>
                  <a:lnTo>
                    <a:pt x="2604" y="1016"/>
                  </a:lnTo>
                  <a:lnTo>
                    <a:pt x="2519" y="1067"/>
                  </a:lnTo>
                  <a:lnTo>
                    <a:pt x="2433" y="1117"/>
                  </a:lnTo>
                  <a:lnTo>
                    <a:pt x="2350" y="1169"/>
                  </a:lnTo>
                  <a:lnTo>
                    <a:pt x="2268" y="1221"/>
                  </a:lnTo>
                  <a:lnTo>
                    <a:pt x="2186" y="1273"/>
                  </a:lnTo>
                  <a:lnTo>
                    <a:pt x="2105" y="1327"/>
                  </a:lnTo>
                  <a:lnTo>
                    <a:pt x="2025" y="1381"/>
                  </a:lnTo>
                  <a:lnTo>
                    <a:pt x="1947" y="1436"/>
                  </a:lnTo>
                  <a:lnTo>
                    <a:pt x="1868" y="1491"/>
                  </a:lnTo>
                  <a:lnTo>
                    <a:pt x="1792" y="1546"/>
                  </a:lnTo>
                  <a:lnTo>
                    <a:pt x="1716" y="1604"/>
                  </a:lnTo>
                  <a:lnTo>
                    <a:pt x="1640" y="1660"/>
                  </a:lnTo>
                  <a:lnTo>
                    <a:pt x="1565" y="1717"/>
                  </a:lnTo>
                  <a:lnTo>
                    <a:pt x="1493" y="1776"/>
                  </a:lnTo>
                  <a:lnTo>
                    <a:pt x="1420" y="1835"/>
                  </a:lnTo>
                  <a:lnTo>
                    <a:pt x="1348" y="1895"/>
                  </a:lnTo>
                  <a:lnTo>
                    <a:pt x="1278" y="1954"/>
                  </a:lnTo>
                  <a:lnTo>
                    <a:pt x="1209" y="2015"/>
                  </a:lnTo>
                  <a:lnTo>
                    <a:pt x="1141" y="2076"/>
                  </a:lnTo>
                  <a:lnTo>
                    <a:pt x="1073" y="2139"/>
                  </a:lnTo>
                  <a:lnTo>
                    <a:pt x="1007" y="2201"/>
                  </a:lnTo>
                  <a:lnTo>
                    <a:pt x="941" y="2264"/>
                  </a:lnTo>
                  <a:lnTo>
                    <a:pt x="877" y="2327"/>
                  </a:lnTo>
                  <a:lnTo>
                    <a:pt x="815" y="2392"/>
                  </a:lnTo>
                  <a:lnTo>
                    <a:pt x="752" y="2456"/>
                  </a:lnTo>
                  <a:lnTo>
                    <a:pt x="691" y="2521"/>
                  </a:lnTo>
                  <a:lnTo>
                    <a:pt x="632" y="2587"/>
                  </a:lnTo>
                  <a:lnTo>
                    <a:pt x="573" y="2653"/>
                  </a:lnTo>
                  <a:lnTo>
                    <a:pt x="514" y="2719"/>
                  </a:lnTo>
                  <a:lnTo>
                    <a:pt x="458" y="2787"/>
                  </a:lnTo>
                  <a:lnTo>
                    <a:pt x="403" y="2855"/>
                  </a:lnTo>
                  <a:lnTo>
                    <a:pt x="348" y="2922"/>
                  </a:lnTo>
                  <a:lnTo>
                    <a:pt x="295" y="2991"/>
                  </a:lnTo>
                  <a:lnTo>
                    <a:pt x="243" y="3060"/>
                  </a:lnTo>
                  <a:lnTo>
                    <a:pt x="193" y="3130"/>
                  </a:lnTo>
                  <a:lnTo>
                    <a:pt x="142" y="3200"/>
                  </a:lnTo>
                  <a:lnTo>
                    <a:pt x="94" y="3270"/>
                  </a:lnTo>
                  <a:lnTo>
                    <a:pt x="46" y="3342"/>
                  </a:lnTo>
                  <a:lnTo>
                    <a:pt x="0" y="3413"/>
                  </a:lnTo>
                  <a:lnTo>
                    <a:pt x="127" y="3494"/>
                  </a:lnTo>
                  <a:lnTo>
                    <a:pt x="173" y="3424"/>
                  </a:lnTo>
                  <a:lnTo>
                    <a:pt x="219" y="3355"/>
                  </a:lnTo>
                  <a:lnTo>
                    <a:pt x="266" y="3286"/>
                  </a:lnTo>
                  <a:lnTo>
                    <a:pt x="314" y="3218"/>
                  </a:lnTo>
                  <a:lnTo>
                    <a:pt x="364" y="3150"/>
                  </a:lnTo>
                  <a:lnTo>
                    <a:pt x="415" y="3083"/>
                  </a:lnTo>
                  <a:lnTo>
                    <a:pt x="466" y="3016"/>
                  </a:lnTo>
                  <a:lnTo>
                    <a:pt x="520" y="2949"/>
                  </a:lnTo>
                  <a:lnTo>
                    <a:pt x="574" y="2883"/>
                  </a:lnTo>
                  <a:lnTo>
                    <a:pt x="629" y="2818"/>
                  </a:lnTo>
                  <a:lnTo>
                    <a:pt x="686" y="2752"/>
                  </a:lnTo>
                  <a:lnTo>
                    <a:pt x="743" y="2687"/>
                  </a:lnTo>
                  <a:lnTo>
                    <a:pt x="802" y="2623"/>
                  </a:lnTo>
                  <a:lnTo>
                    <a:pt x="861" y="2560"/>
                  </a:lnTo>
                  <a:lnTo>
                    <a:pt x="921" y="2496"/>
                  </a:lnTo>
                  <a:lnTo>
                    <a:pt x="983" y="2433"/>
                  </a:lnTo>
                  <a:lnTo>
                    <a:pt x="1047" y="2372"/>
                  </a:lnTo>
                  <a:lnTo>
                    <a:pt x="1110" y="2310"/>
                  </a:lnTo>
                  <a:lnTo>
                    <a:pt x="1176" y="2249"/>
                  </a:lnTo>
                  <a:lnTo>
                    <a:pt x="1242" y="2188"/>
                  </a:lnTo>
                  <a:lnTo>
                    <a:pt x="1308" y="2128"/>
                  </a:lnTo>
                  <a:lnTo>
                    <a:pt x="1376" y="2068"/>
                  </a:lnTo>
                  <a:lnTo>
                    <a:pt x="1446" y="2010"/>
                  </a:lnTo>
                  <a:lnTo>
                    <a:pt x="1515" y="1951"/>
                  </a:lnTo>
                  <a:lnTo>
                    <a:pt x="1586" y="1893"/>
                  </a:lnTo>
                  <a:lnTo>
                    <a:pt x="1658" y="1836"/>
                  </a:lnTo>
                  <a:lnTo>
                    <a:pt x="1731" y="1780"/>
                  </a:lnTo>
                  <a:lnTo>
                    <a:pt x="1805" y="1723"/>
                  </a:lnTo>
                  <a:lnTo>
                    <a:pt x="1880" y="1668"/>
                  </a:lnTo>
                  <a:lnTo>
                    <a:pt x="1956" y="1613"/>
                  </a:lnTo>
                  <a:lnTo>
                    <a:pt x="2032" y="1558"/>
                  </a:lnTo>
                  <a:lnTo>
                    <a:pt x="2110" y="1505"/>
                  </a:lnTo>
                  <a:lnTo>
                    <a:pt x="2189" y="1451"/>
                  </a:lnTo>
                  <a:lnTo>
                    <a:pt x="2268" y="1400"/>
                  </a:lnTo>
                  <a:lnTo>
                    <a:pt x="2349" y="1347"/>
                  </a:lnTo>
                  <a:lnTo>
                    <a:pt x="2430" y="1296"/>
                  </a:lnTo>
                  <a:lnTo>
                    <a:pt x="2512" y="1246"/>
                  </a:lnTo>
                  <a:lnTo>
                    <a:pt x="2595" y="1196"/>
                  </a:lnTo>
                  <a:lnTo>
                    <a:pt x="2679" y="1146"/>
                  </a:lnTo>
                  <a:lnTo>
                    <a:pt x="2764" y="1098"/>
                  </a:lnTo>
                  <a:lnTo>
                    <a:pt x="2850" y="1050"/>
                  </a:lnTo>
                  <a:lnTo>
                    <a:pt x="2936" y="1002"/>
                  </a:lnTo>
                  <a:lnTo>
                    <a:pt x="3024" y="956"/>
                  </a:lnTo>
                  <a:lnTo>
                    <a:pt x="3112" y="909"/>
                  </a:lnTo>
                  <a:lnTo>
                    <a:pt x="3201" y="865"/>
                  </a:lnTo>
                  <a:lnTo>
                    <a:pt x="3290" y="820"/>
                  </a:lnTo>
                  <a:lnTo>
                    <a:pt x="3380" y="776"/>
                  </a:lnTo>
                  <a:lnTo>
                    <a:pt x="3472" y="733"/>
                  </a:lnTo>
                  <a:lnTo>
                    <a:pt x="3564" y="691"/>
                  </a:lnTo>
                  <a:lnTo>
                    <a:pt x="3657" y="649"/>
                  </a:lnTo>
                  <a:lnTo>
                    <a:pt x="3751" y="608"/>
                  </a:lnTo>
                  <a:lnTo>
                    <a:pt x="3845" y="568"/>
                  </a:lnTo>
                  <a:lnTo>
                    <a:pt x="3940" y="528"/>
                  </a:lnTo>
                  <a:lnTo>
                    <a:pt x="4036" y="489"/>
                  </a:lnTo>
                  <a:lnTo>
                    <a:pt x="4132" y="452"/>
                  </a:lnTo>
                  <a:lnTo>
                    <a:pt x="4230" y="414"/>
                  </a:lnTo>
                  <a:lnTo>
                    <a:pt x="4328" y="378"/>
                  </a:lnTo>
                  <a:lnTo>
                    <a:pt x="4427" y="342"/>
                  </a:lnTo>
                  <a:lnTo>
                    <a:pt x="4525" y="306"/>
                  </a:lnTo>
                  <a:lnTo>
                    <a:pt x="4626" y="272"/>
                  </a:lnTo>
                  <a:lnTo>
                    <a:pt x="4726" y="240"/>
                  </a:lnTo>
                  <a:lnTo>
                    <a:pt x="4828" y="207"/>
                  </a:lnTo>
                  <a:lnTo>
                    <a:pt x="4930" y="175"/>
                  </a:lnTo>
                  <a:lnTo>
                    <a:pt x="5032" y="143"/>
                  </a:lnTo>
                  <a:lnTo>
                    <a:pt x="49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212640" y="2057400"/>
              <a:ext cx="216000" cy="224280"/>
            </a:xfrm>
            <a:custGeom>
              <a:avLst/>
              <a:gdLst/>
              <a:ahLst/>
              <a:rect l="l" t="t" r="r" b="b"/>
              <a:pathLst>
                <a:path w="796" h="753">
                  <a:moveTo>
                    <a:pt x="0" y="0"/>
                  </a:moveTo>
                  <a:lnTo>
                    <a:pt x="796" y="174"/>
                  </a:lnTo>
                  <a:lnTo>
                    <a:pt x="224" y="753"/>
                  </a:lnTo>
                  <a:lnTo>
                    <a:pt x="0" y="0"/>
                  </a:lnTo>
                  <a:lnTo>
                    <a:pt x="796" y="1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8" name=""/>
          <p:cNvGrpSpPr/>
          <p:nvPr/>
        </p:nvGrpSpPr>
        <p:grpSpPr>
          <a:xfrm>
            <a:off x="1752480" y="4572000"/>
            <a:ext cx="1741320" cy="1320480"/>
            <a:chOff x="1752480" y="4572000"/>
            <a:chExt cx="1741320" cy="1320480"/>
          </a:xfrm>
        </p:grpSpPr>
        <p:sp>
          <p:nvSpPr>
            <p:cNvPr id="1319" name=""/>
            <p:cNvSpPr/>
            <p:nvPr/>
          </p:nvSpPr>
          <p:spPr>
            <a:xfrm>
              <a:off x="1834920" y="4726440"/>
              <a:ext cx="1658880" cy="1166040"/>
            </a:xfrm>
            <a:custGeom>
              <a:avLst/>
              <a:gdLst/>
              <a:ahLst/>
              <a:rect l="l" t="t" r="r" b="b"/>
              <a:pathLst>
                <a:path w="5500" h="4384">
                  <a:moveTo>
                    <a:pt x="0" y="54"/>
                  </a:moveTo>
                  <a:lnTo>
                    <a:pt x="37" y="146"/>
                  </a:lnTo>
                  <a:lnTo>
                    <a:pt x="75" y="236"/>
                  </a:lnTo>
                  <a:lnTo>
                    <a:pt x="115" y="326"/>
                  </a:lnTo>
                  <a:lnTo>
                    <a:pt x="158" y="416"/>
                  </a:lnTo>
                  <a:lnTo>
                    <a:pt x="202" y="504"/>
                  </a:lnTo>
                  <a:lnTo>
                    <a:pt x="248" y="594"/>
                  </a:lnTo>
                  <a:lnTo>
                    <a:pt x="295" y="682"/>
                  </a:lnTo>
                  <a:lnTo>
                    <a:pt x="344" y="768"/>
                  </a:lnTo>
                  <a:lnTo>
                    <a:pt x="396" y="855"/>
                  </a:lnTo>
                  <a:lnTo>
                    <a:pt x="448" y="941"/>
                  </a:lnTo>
                  <a:lnTo>
                    <a:pt x="502" y="1026"/>
                  </a:lnTo>
                  <a:lnTo>
                    <a:pt x="559" y="1112"/>
                  </a:lnTo>
                  <a:lnTo>
                    <a:pt x="617" y="1195"/>
                  </a:lnTo>
                  <a:lnTo>
                    <a:pt x="677" y="1279"/>
                  </a:lnTo>
                  <a:lnTo>
                    <a:pt x="738" y="1362"/>
                  </a:lnTo>
                  <a:lnTo>
                    <a:pt x="802" y="1444"/>
                  </a:lnTo>
                  <a:lnTo>
                    <a:pt x="866" y="1525"/>
                  </a:lnTo>
                  <a:lnTo>
                    <a:pt x="932" y="1606"/>
                  </a:lnTo>
                  <a:lnTo>
                    <a:pt x="1000" y="1687"/>
                  </a:lnTo>
                  <a:lnTo>
                    <a:pt x="1069" y="1765"/>
                  </a:lnTo>
                  <a:lnTo>
                    <a:pt x="1141" y="1844"/>
                  </a:lnTo>
                  <a:lnTo>
                    <a:pt x="1212" y="1921"/>
                  </a:lnTo>
                  <a:lnTo>
                    <a:pt x="1286" y="1999"/>
                  </a:lnTo>
                  <a:lnTo>
                    <a:pt x="1362" y="2075"/>
                  </a:lnTo>
                  <a:lnTo>
                    <a:pt x="1440" y="2150"/>
                  </a:lnTo>
                  <a:lnTo>
                    <a:pt x="1517" y="2225"/>
                  </a:lnTo>
                  <a:lnTo>
                    <a:pt x="1598" y="2299"/>
                  </a:lnTo>
                  <a:lnTo>
                    <a:pt x="1679" y="2372"/>
                  </a:lnTo>
                  <a:lnTo>
                    <a:pt x="1762" y="2444"/>
                  </a:lnTo>
                  <a:lnTo>
                    <a:pt x="1847" y="2516"/>
                  </a:lnTo>
                  <a:lnTo>
                    <a:pt x="1932" y="2586"/>
                  </a:lnTo>
                  <a:lnTo>
                    <a:pt x="2019" y="2655"/>
                  </a:lnTo>
                  <a:lnTo>
                    <a:pt x="2108" y="2725"/>
                  </a:lnTo>
                  <a:lnTo>
                    <a:pt x="2198" y="2793"/>
                  </a:lnTo>
                  <a:lnTo>
                    <a:pt x="2289" y="2861"/>
                  </a:lnTo>
                  <a:lnTo>
                    <a:pt x="2382" y="2926"/>
                  </a:lnTo>
                  <a:lnTo>
                    <a:pt x="2476" y="2992"/>
                  </a:lnTo>
                  <a:lnTo>
                    <a:pt x="2571" y="3057"/>
                  </a:lnTo>
                  <a:lnTo>
                    <a:pt x="2668" y="3120"/>
                  </a:lnTo>
                  <a:lnTo>
                    <a:pt x="2765" y="3183"/>
                  </a:lnTo>
                  <a:lnTo>
                    <a:pt x="2864" y="3244"/>
                  </a:lnTo>
                  <a:lnTo>
                    <a:pt x="2965" y="3305"/>
                  </a:lnTo>
                  <a:lnTo>
                    <a:pt x="3067" y="3365"/>
                  </a:lnTo>
                  <a:lnTo>
                    <a:pt x="3169" y="3424"/>
                  </a:lnTo>
                  <a:lnTo>
                    <a:pt x="3273" y="3482"/>
                  </a:lnTo>
                  <a:lnTo>
                    <a:pt x="3379" y="3539"/>
                  </a:lnTo>
                  <a:lnTo>
                    <a:pt x="3485" y="3595"/>
                  </a:lnTo>
                  <a:lnTo>
                    <a:pt x="3592" y="3650"/>
                  </a:lnTo>
                  <a:lnTo>
                    <a:pt x="3702" y="3704"/>
                  </a:lnTo>
                  <a:lnTo>
                    <a:pt x="3811" y="3757"/>
                  </a:lnTo>
                  <a:lnTo>
                    <a:pt x="3922" y="3808"/>
                  </a:lnTo>
                  <a:lnTo>
                    <a:pt x="4034" y="3859"/>
                  </a:lnTo>
                  <a:lnTo>
                    <a:pt x="4147" y="3909"/>
                  </a:lnTo>
                  <a:lnTo>
                    <a:pt x="4261" y="3957"/>
                  </a:lnTo>
                  <a:lnTo>
                    <a:pt x="4376" y="4005"/>
                  </a:lnTo>
                  <a:lnTo>
                    <a:pt x="4492" y="4052"/>
                  </a:lnTo>
                  <a:lnTo>
                    <a:pt x="4610" y="4097"/>
                  </a:lnTo>
                  <a:lnTo>
                    <a:pt x="4728" y="4142"/>
                  </a:lnTo>
                  <a:lnTo>
                    <a:pt x="4848" y="4185"/>
                  </a:lnTo>
                  <a:lnTo>
                    <a:pt x="4967" y="4227"/>
                  </a:lnTo>
                  <a:lnTo>
                    <a:pt x="5088" y="4268"/>
                  </a:lnTo>
                  <a:lnTo>
                    <a:pt x="5210" y="4308"/>
                  </a:lnTo>
                  <a:lnTo>
                    <a:pt x="5333" y="4347"/>
                  </a:lnTo>
                  <a:lnTo>
                    <a:pt x="5458" y="4384"/>
                  </a:lnTo>
                  <a:lnTo>
                    <a:pt x="5500" y="4240"/>
                  </a:lnTo>
                  <a:lnTo>
                    <a:pt x="5378" y="4204"/>
                  </a:lnTo>
                  <a:lnTo>
                    <a:pt x="5256" y="4165"/>
                  </a:lnTo>
                  <a:lnTo>
                    <a:pt x="5135" y="4125"/>
                  </a:lnTo>
                  <a:lnTo>
                    <a:pt x="5017" y="4085"/>
                  </a:lnTo>
                  <a:lnTo>
                    <a:pt x="4897" y="4043"/>
                  </a:lnTo>
                  <a:lnTo>
                    <a:pt x="4780" y="4001"/>
                  </a:lnTo>
                  <a:lnTo>
                    <a:pt x="4664" y="3957"/>
                  </a:lnTo>
                  <a:lnTo>
                    <a:pt x="4547" y="3912"/>
                  </a:lnTo>
                  <a:lnTo>
                    <a:pt x="4432" y="3866"/>
                  </a:lnTo>
                  <a:lnTo>
                    <a:pt x="4319" y="3819"/>
                  </a:lnTo>
                  <a:lnTo>
                    <a:pt x="4206" y="3771"/>
                  </a:lnTo>
                  <a:lnTo>
                    <a:pt x="4095" y="3722"/>
                  </a:lnTo>
                  <a:lnTo>
                    <a:pt x="3984" y="3672"/>
                  </a:lnTo>
                  <a:lnTo>
                    <a:pt x="3875" y="3621"/>
                  </a:lnTo>
                  <a:lnTo>
                    <a:pt x="3767" y="3569"/>
                  </a:lnTo>
                  <a:lnTo>
                    <a:pt x="3660" y="3515"/>
                  </a:lnTo>
                  <a:lnTo>
                    <a:pt x="3554" y="3461"/>
                  </a:lnTo>
                  <a:lnTo>
                    <a:pt x="3449" y="3406"/>
                  </a:lnTo>
                  <a:lnTo>
                    <a:pt x="3346" y="3350"/>
                  </a:lnTo>
                  <a:lnTo>
                    <a:pt x="3243" y="3294"/>
                  </a:lnTo>
                  <a:lnTo>
                    <a:pt x="3142" y="3235"/>
                  </a:lnTo>
                  <a:lnTo>
                    <a:pt x="3042" y="3176"/>
                  </a:lnTo>
                  <a:lnTo>
                    <a:pt x="2944" y="3116"/>
                  </a:lnTo>
                  <a:lnTo>
                    <a:pt x="2845" y="3055"/>
                  </a:lnTo>
                  <a:lnTo>
                    <a:pt x="2749" y="2994"/>
                  </a:lnTo>
                  <a:lnTo>
                    <a:pt x="2655" y="2931"/>
                  </a:lnTo>
                  <a:lnTo>
                    <a:pt x="2561" y="2868"/>
                  </a:lnTo>
                  <a:lnTo>
                    <a:pt x="2469" y="2803"/>
                  </a:lnTo>
                  <a:lnTo>
                    <a:pt x="2377" y="2739"/>
                  </a:lnTo>
                  <a:lnTo>
                    <a:pt x="2288" y="2673"/>
                  </a:lnTo>
                  <a:lnTo>
                    <a:pt x="2200" y="2606"/>
                  </a:lnTo>
                  <a:lnTo>
                    <a:pt x="2113" y="2538"/>
                  </a:lnTo>
                  <a:lnTo>
                    <a:pt x="2027" y="2470"/>
                  </a:lnTo>
                  <a:lnTo>
                    <a:pt x="1943" y="2400"/>
                  </a:lnTo>
                  <a:lnTo>
                    <a:pt x="1860" y="2331"/>
                  </a:lnTo>
                  <a:lnTo>
                    <a:pt x="1779" y="2259"/>
                  </a:lnTo>
                  <a:lnTo>
                    <a:pt x="1699" y="2188"/>
                  </a:lnTo>
                  <a:lnTo>
                    <a:pt x="1620" y="2116"/>
                  </a:lnTo>
                  <a:lnTo>
                    <a:pt x="1543" y="2042"/>
                  </a:lnTo>
                  <a:lnTo>
                    <a:pt x="1468" y="1968"/>
                  </a:lnTo>
                  <a:lnTo>
                    <a:pt x="1394" y="1894"/>
                  </a:lnTo>
                  <a:lnTo>
                    <a:pt x="1321" y="1818"/>
                  </a:lnTo>
                  <a:lnTo>
                    <a:pt x="1251" y="1742"/>
                  </a:lnTo>
                  <a:lnTo>
                    <a:pt x="1182" y="1666"/>
                  </a:lnTo>
                  <a:lnTo>
                    <a:pt x="1114" y="1588"/>
                  </a:lnTo>
                  <a:lnTo>
                    <a:pt x="1047" y="1510"/>
                  </a:lnTo>
                  <a:lnTo>
                    <a:pt x="982" y="1431"/>
                  </a:lnTo>
                  <a:lnTo>
                    <a:pt x="920" y="1351"/>
                  </a:lnTo>
                  <a:lnTo>
                    <a:pt x="858" y="1271"/>
                  </a:lnTo>
                  <a:lnTo>
                    <a:pt x="798" y="1191"/>
                  </a:lnTo>
                  <a:lnTo>
                    <a:pt x="741" y="1110"/>
                  </a:lnTo>
                  <a:lnTo>
                    <a:pt x="684" y="1028"/>
                  </a:lnTo>
                  <a:lnTo>
                    <a:pt x="629" y="945"/>
                  </a:lnTo>
                  <a:lnTo>
                    <a:pt x="575" y="862"/>
                  </a:lnTo>
                  <a:lnTo>
                    <a:pt x="525" y="778"/>
                  </a:lnTo>
                  <a:lnTo>
                    <a:pt x="474" y="693"/>
                  </a:lnTo>
                  <a:lnTo>
                    <a:pt x="427" y="609"/>
                  </a:lnTo>
                  <a:lnTo>
                    <a:pt x="380" y="523"/>
                  </a:lnTo>
                  <a:lnTo>
                    <a:pt x="336" y="438"/>
                  </a:lnTo>
                  <a:lnTo>
                    <a:pt x="294" y="351"/>
                  </a:lnTo>
                  <a:lnTo>
                    <a:pt x="253" y="264"/>
                  </a:lnTo>
                  <a:lnTo>
                    <a:pt x="213" y="176"/>
                  </a:lnTo>
                  <a:lnTo>
                    <a:pt x="176" y="88"/>
                  </a:lnTo>
                  <a:lnTo>
                    <a:pt x="140"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752480" y="4572000"/>
              <a:ext cx="219600" cy="214200"/>
            </a:xfrm>
            <a:custGeom>
              <a:avLst/>
              <a:gdLst/>
              <a:ahLst/>
              <a:rect l="l" t="t" r="r" b="b"/>
              <a:pathLst>
                <a:path w="732" h="806">
                  <a:moveTo>
                    <a:pt x="0" y="806"/>
                  </a:moveTo>
                  <a:lnTo>
                    <a:pt x="107" y="0"/>
                  </a:lnTo>
                  <a:lnTo>
                    <a:pt x="732" y="521"/>
                  </a:lnTo>
                  <a:lnTo>
                    <a:pt x="0" y="806"/>
                  </a:lnTo>
                  <a:lnTo>
                    <a:pt x="107" y="0"/>
                  </a:lnTo>
                  <a:lnTo>
                    <a:pt x="0"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1" name=""/>
          <p:cNvGrpSpPr/>
          <p:nvPr/>
        </p:nvGrpSpPr>
        <p:grpSpPr>
          <a:xfrm>
            <a:off x="5791320" y="4502160"/>
            <a:ext cx="1828440" cy="1517400"/>
            <a:chOff x="5791320" y="4502160"/>
            <a:chExt cx="1828440" cy="1517400"/>
          </a:xfrm>
        </p:grpSpPr>
        <p:sp>
          <p:nvSpPr>
            <p:cNvPr id="1322" name=""/>
            <p:cNvSpPr/>
            <p:nvPr/>
          </p:nvSpPr>
          <p:spPr>
            <a:xfrm>
              <a:off x="5965200" y="4502160"/>
              <a:ext cx="1654560" cy="1424880"/>
            </a:xfrm>
            <a:custGeom>
              <a:avLst/>
              <a:gdLst/>
              <a:ahLst/>
              <a:rect l="l" t="t" r="r" b="b"/>
              <a:pathLst>
                <a:path w="5800" h="4471">
                  <a:moveTo>
                    <a:pt x="40" y="4471"/>
                  </a:moveTo>
                  <a:lnTo>
                    <a:pt x="170" y="4435"/>
                  </a:lnTo>
                  <a:lnTo>
                    <a:pt x="300" y="4397"/>
                  </a:lnTo>
                  <a:lnTo>
                    <a:pt x="429" y="4359"/>
                  </a:lnTo>
                  <a:lnTo>
                    <a:pt x="557" y="4320"/>
                  </a:lnTo>
                  <a:lnTo>
                    <a:pt x="684" y="4279"/>
                  </a:lnTo>
                  <a:lnTo>
                    <a:pt x="810" y="4237"/>
                  </a:lnTo>
                  <a:lnTo>
                    <a:pt x="935" y="4193"/>
                  </a:lnTo>
                  <a:lnTo>
                    <a:pt x="1059" y="4147"/>
                  </a:lnTo>
                  <a:lnTo>
                    <a:pt x="1181" y="4102"/>
                  </a:lnTo>
                  <a:lnTo>
                    <a:pt x="1303" y="4055"/>
                  </a:lnTo>
                  <a:lnTo>
                    <a:pt x="1424" y="4007"/>
                  </a:lnTo>
                  <a:lnTo>
                    <a:pt x="1544" y="3957"/>
                  </a:lnTo>
                  <a:lnTo>
                    <a:pt x="1662" y="3906"/>
                  </a:lnTo>
                  <a:lnTo>
                    <a:pt x="1779" y="3854"/>
                  </a:lnTo>
                  <a:lnTo>
                    <a:pt x="1895" y="3801"/>
                  </a:lnTo>
                  <a:lnTo>
                    <a:pt x="2010" y="3747"/>
                  </a:lnTo>
                  <a:lnTo>
                    <a:pt x="2123" y="3692"/>
                  </a:lnTo>
                  <a:lnTo>
                    <a:pt x="2236" y="3636"/>
                  </a:lnTo>
                  <a:lnTo>
                    <a:pt x="2347" y="3579"/>
                  </a:lnTo>
                  <a:lnTo>
                    <a:pt x="2458" y="3521"/>
                  </a:lnTo>
                  <a:lnTo>
                    <a:pt x="2566" y="3461"/>
                  </a:lnTo>
                  <a:lnTo>
                    <a:pt x="2674" y="3400"/>
                  </a:lnTo>
                  <a:lnTo>
                    <a:pt x="2779" y="3339"/>
                  </a:lnTo>
                  <a:lnTo>
                    <a:pt x="2885" y="3276"/>
                  </a:lnTo>
                  <a:lnTo>
                    <a:pt x="2988" y="3213"/>
                  </a:lnTo>
                  <a:lnTo>
                    <a:pt x="3090" y="3148"/>
                  </a:lnTo>
                  <a:lnTo>
                    <a:pt x="3191" y="3082"/>
                  </a:lnTo>
                  <a:lnTo>
                    <a:pt x="3290" y="3016"/>
                  </a:lnTo>
                  <a:lnTo>
                    <a:pt x="3388" y="2949"/>
                  </a:lnTo>
                  <a:lnTo>
                    <a:pt x="3484" y="2880"/>
                  </a:lnTo>
                  <a:lnTo>
                    <a:pt x="3579" y="2810"/>
                  </a:lnTo>
                  <a:lnTo>
                    <a:pt x="3673" y="2740"/>
                  </a:lnTo>
                  <a:lnTo>
                    <a:pt x="3766" y="2668"/>
                  </a:lnTo>
                  <a:lnTo>
                    <a:pt x="3856" y="2597"/>
                  </a:lnTo>
                  <a:lnTo>
                    <a:pt x="3945" y="2523"/>
                  </a:lnTo>
                  <a:lnTo>
                    <a:pt x="4033" y="2449"/>
                  </a:lnTo>
                  <a:lnTo>
                    <a:pt x="4119" y="2374"/>
                  </a:lnTo>
                  <a:lnTo>
                    <a:pt x="4203" y="2298"/>
                  </a:lnTo>
                  <a:lnTo>
                    <a:pt x="4287" y="2222"/>
                  </a:lnTo>
                  <a:lnTo>
                    <a:pt x="4369" y="2144"/>
                  </a:lnTo>
                  <a:lnTo>
                    <a:pt x="4447" y="2066"/>
                  </a:lnTo>
                  <a:lnTo>
                    <a:pt x="4526" y="1986"/>
                  </a:lnTo>
                  <a:lnTo>
                    <a:pt x="4602" y="1906"/>
                  </a:lnTo>
                  <a:lnTo>
                    <a:pt x="4677" y="1825"/>
                  </a:lnTo>
                  <a:lnTo>
                    <a:pt x="4751" y="1744"/>
                  </a:lnTo>
                  <a:lnTo>
                    <a:pt x="4822" y="1661"/>
                  </a:lnTo>
                  <a:lnTo>
                    <a:pt x="4892" y="1578"/>
                  </a:lnTo>
                  <a:lnTo>
                    <a:pt x="4960" y="1493"/>
                  </a:lnTo>
                  <a:lnTo>
                    <a:pt x="5027" y="1409"/>
                  </a:lnTo>
                  <a:lnTo>
                    <a:pt x="5091" y="1323"/>
                  </a:lnTo>
                  <a:lnTo>
                    <a:pt x="5154" y="1237"/>
                  </a:lnTo>
                  <a:lnTo>
                    <a:pt x="5215" y="1151"/>
                  </a:lnTo>
                  <a:lnTo>
                    <a:pt x="5274" y="1063"/>
                  </a:lnTo>
                  <a:lnTo>
                    <a:pt x="5332" y="974"/>
                  </a:lnTo>
                  <a:lnTo>
                    <a:pt x="5387" y="884"/>
                  </a:lnTo>
                  <a:lnTo>
                    <a:pt x="5441" y="795"/>
                  </a:lnTo>
                  <a:lnTo>
                    <a:pt x="5493" y="705"/>
                  </a:lnTo>
                  <a:lnTo>
                    <a:pt x="5542" y="614"/>
                  </a:lnTo>
                  <a:lnTo>
                    <a:pt x="5590" y="522"/>
                  </a:lnTo>
                  <a:lnTo>
                    <a:pt x="5636" y="429"/>
                  </a:lnTo>
                  <a:lnTo>
                    <a:pt x="5680" y="337"/>
                  </a:lnTo>
                  <a:lnTo>
                    <a:pt x="5721" y="243"/>
                  </a:lnTo>
                  <a:lnTo>
                    <a:pt x="5762" y="149"/>
                  </a:lnTo>
                  <a:lnTo>
                    <a:pt x="5800" y="54"/>
                  </a:lnTo>
                  <a:lnTo>
                    <a:pt x="5660" y="0"/>
                  </a:lnTo>
                  <a:lnTo>
                    <a:pt x="5623" y="92"/>
                  </a:lnTo>
                  <a:lnTo>
                    <a:pt x="5584" y="183"/>
                  </a:lnTo>
                  <a:lnTo>
                    <a:pt x="5543" y="273"/>
                  </a:lnTo>
                  <a:lnTo>
                    <a:pt x="5501" y="364"/>
                  </a:lnTo>
                  <a:lnTo>
                    <a:pt x="5456" y="454"/>
                  </a:lnTo>
                  <a:lnTo>
                    <a:pt x="5409" y="543"/>
                  </a:lnTo>
                  <a:lnTo>
                    <a:pt x="5361" y="631"/>
                  </a:lnTo>
                  <a:lnTo>
                    <a:pt x="5311" y="719"/>
                  </a:lnTo>
                  <a:lnTo>
                    <a:pt x="5258" y="807"/>
                  </a:lnTo>
                  <a:lnTo>
                    <a:pt x="5204" y="894"/>
                  </a:lnTo>
                  <a:lnTo>
                    <a:pt x="5149" y="979"/>
                  </a:lnTo>
                  <a:lnTo>
                    <a:pt x="5091" y="1065"/>
                  </a:lnTo>
                  <a:lnTo>
                    <a:pt x="5032" y="1150"/>
                  </a:lnTo>
                  <a:lnTo>
                    <a:pt x="4971" y="1234"/>
                  </a:lnTo>
                  <a:lnTo>
                    <a:pt x="4907" y="1317"/>
                  </a:lnTo>
                  <a:lnTo>
                    <a:pt x="4843" y="1401"/>
                  </a:lnTo>
                  <a:lnTo>
                    <a:pt x="4776" y="1483"/>
                  </a:lnTo>
                  <a:lnTo>
                    <a:pt x="4708" y="1564"/>
                  </a:lnTo>
                  <a:lnTo>
                    <a:pt x="4637" y="1644"/>
                  </a:lnTo>
                  <a:lnTo>
                    <a:pt x="4566" y="1724"/>
                  </a:lnTo>
                  <a:lnTo>
                    <a:pt x="4493" y="1803"/>
                  </a:lnTo>
                  <a:lnTo>
                    <a:pt x="4418" y="1881"/>
                  </a:lnTo>
                  <a:lnTo>
                    <a:pt x="4342" y="1959"/>
                  </a:lnTo>
                  <a:lnTo>
                    <a:pt x="4263" y="2036"/>
                  </a:lnTo>
                  <a:lnTo>
                    <a:pt x="4183" y="2112"/>
                  </a:lnTo>
                  <a:lnTo>
                    <a:pt x="4102" y="2188"/>
                  </a:lnTo>
                  <a:lnTo>
                    <a:pt x="4019" y="2261"/>
                  </a:lnTo>
                  <a:lnTo>
                    <a:pt x="3935" y="2335"/>
                  </a:lnTo>
                  <a:lnTo>
                    <a:pt x="3849" y="2408"/>
                  </a:lnTo>
                  <a:lnTo>
                    <a:pt x="3761" y="2480"/>
                  </a:lnTo>
                  <a:lnTo>
                    <a:pt x="3672" y="2551"/>
                  </a:lnTo>
                  <a:lnTo>
                    <a:pt x="3582" y="2620"/>
                  </a:lnTo>
                  <a:lnTo>
                    <a:pt x="3490" y="2690"/>
                  </a:lnTo>
                  <a:lnTo>
                    <a:pt x="3396" y="2759"/>
                  </a:lnTo>
                  <a:lnTo>
                    <a:pt x="3302" y="2826"/>
                  </a:lnTo>
                  <a:lnTo>
                    <a:pt x="3206" y="2892"/>
                  </a:lnTo>
                  <a:lnTo>
                    <a:pt x="3108" y="2957"/>
                  </a:lnTo>
                  <a:lnTo>
                    <a:pt x="3009" y="3021"/>
                  </a:lnTo>
                  <a:lnTo>
                    <a:pt x="2908" y="3086"/>
                  </a:lnTo>
                  <a:lnTo>
                    <a:pt x="2806" y="3148"/>
                  </a:lnTo>
                  <a:lnTo>
                    <a:pt x="2703" y="3210"/>
                  </a:lnTo>
                  <a:lnTo>
                    <a:pt x="2599" y="3270"/>
                  </a:lnTo>
                  <a:lnTo>
                    <a:pt x="2493" y="3330"/>
                  </a:lnTo>
                  <a:lnTo>
                    <a:pt x="2386" y="3389"/>
                  </a:lnTo>
                  <a:lnTo>
                    <a:pt x="2278" y="3446"/>
                  </a:lnTo>
                  <a:lnTo>
                    <a:pt x="2168" y="3502"/>
                  </a:lnTo>
                  <a:lnTo>
                    <a:pt x="2058" y="3557"/>
                  </a:lnTo>
                  <a:lnTo>
                    <a:pt x="1945" y="3611"/>
                  </a:lnTo>
                  <a:lnTo>
                    <a:pt x="1832" y="3665"/>
                  </a:lnTo>
                  <a:lnTo>
                    <a:pt x="1718" y="3717"/>
                  </a:lnTo>
                  <a:lnTo>
                    <a:pt x="1603" y="3769"/>
                  </a:lnTo>
                  <a:lnTo>
                    <a:pt x="1485" y="3819"/>
                  </a:lnTo>
                  <a:lnTo>
                    <a:pt x="1368" y="3867"/>
                  </a:lnTo>
                  <a:lnTo>
                    <a:pt x="1248" y="3915"/>
                  </a:lnTo>
                  <a:lnTo>
                    <a:pt x="1129" y="3961"/>
                  </a:lnTo>
                  <a:lnTo>
                    <a:pt x="1007" y="4007"/>
                  </a:lnTo>
                  <a:lnTo>
                    <a:pt x="885" y="4051"/>
                  </a:lnTo>
                  <a:lnTo>
                    <a:pt x="761" y="4093"/>
                  </a:lnTo>
                  <a:lnTo>
                    <a:pt x="637" y="4136"/>
                  </a:lnTo>
                  <a:lnTo>
                    <a:pt x="512" y="4176"/>
                  </a:lnTo>
                  <a:lnTo>
                    <a:pt x="386" y="4215"/>
                  </a:lnTo>
                  <a:lnTo>
                    <a:pt x="258" y="4253"/>
                  </a:lnTo>
                  <a:lnTo>
                    <a:pt x="130" y="4291"/>
                  </a:lnTo>
                  <a:lnTo>
                    <a:pt x="0" y="4326"/>
                  </a:lnTo>
                  <a:lnTo>
                    <a:pt x="40" y="4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791320" y="5777640"/>
              <a:ext cx="225360" cy="241920"/>
            </a:xfrm>
            <a:custGeom>
              <a:avLst/>
              <a:gdLst/>
              <a:ahLst/>
              <a:rect l="l" t="t" r="r" b="b"/>
              <a:pathLst>
                <a:path w="792" h="759">
                  <a:moveTo>
                    <a:pt x="792" y="759"/>
                  </a:moveTo>
                  <a:lnTo>
                    <a:pt x="0" y="565"/>
                  </a:lnTo>
                  <a:lnTo>
                    <a:pt x="588" y="0"/>
                  </a:lnTo>
                  <a:lnTo>
                    <a:pt x="792" y="759"/>
                  </a:lnTo>
                  <a:lnTo>
                    <a:pt x="0" y="565"/>
                  </a:lnTo>
                  <a:lnTo>
                    <a:pt x="792" y="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4" name=""/>
          <p:cNvSpPr/>
          <p:nvPr/>
        </p:nvSpPr>
        <p:spPr>
          <a:xfrm>
            <a:off x="4602240" y="4516560"/>
            <a:ext cx="47520" cy="209520"/>
          </a:xfrm>
          <a:custGeom>
            <a:avLst/>
            <a:gdLst/>
            <a:ahLst/>
            <a:rect l="l" t="t" r="r" b="b"/>
            <a:pathLst>
              <a:path w="151" h="660">
                <a:moveTo>
                  <a:pt x="75" y="660"/>
                </a:moveTo>
                <a:lnTo>
                  <a:pt x="151" y="660"/>
                </a:lnTo>
                <a:lnTo>
                  <a:pt x="151" y="0"/>
                </a:lnTo>
                <a:lnTo>
                  <a:pt x="0" y="0"/>
                </a:lnTo>
                <a:lnTo>
                  <a:pt x="0" y="660"/>
                </a:lnTo>
                <a:lnTo>
                  <a:pt x="75" y="6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4500720" y="4707000"/>
            <a:ext cx="249120" cy="226800"/>
          </a:xfrm>
          <a:custGeom>
            <a:avLst/>
            <a:gdLst/>
            <a:ahLst/>
            <a:rect l="l" t="t" r="r" b="b"/>
            <a:pathLst>
              <a:path w="787" h="717">
                <a:moveTo>
                  <a:pt x="787" y="0"/>
                </a:moveTo>
                <a:lnTo>
                  <a:pt x="393" y="717"/>
                </a:lnTo>
                <a:lnTo>
                  <a:pt x="0" y="0"/>
                </a:lnTo>
                <a:lnTo>
                  <a:pt x="787" y="0"/>
                </a:lnTo>
                <a:lnTo>
                  <a:pt x="393" y="717"/>
                </a:lnTo>
                <a:lnTo>
                  <a:pt x="787"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4500720" y="2771640"/>
            <a:ext cx="249120" cy="228600"/>
          </a:xfrm>
          <a:custGeom>
            <a:avLst/>
            <a:gdLst/>
            <a:ahLst/>
            <a:rect l="l" t="t" r="r" b="b"/>
            <a:pathLst>
              <a:path w="787" h="716">
                <a:moveTo>
                  <a:pt x="787" y="716"/>
                </a:moveTo>
                <a:lnTo>
                  <a:pt x="393" y="0"/>
                </a:lnTo>
                <a:lnTo>
                  <a:pt x="0" y="716"/>
                </a:lnTo>
                <a:lnTo>
                  <a:pt x="787" y="716"/>
                </a:lnTo>
                <a:lnTo>
                  <a:pt x="393" y="0"/>
                </a:lnTo>
                <a:lnTo>
                  <a:pt x="787" y="7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4602240" y="2979720"/>
            <a:ext cx="47520" cy="150840"/>
          </a:xfrm>
          <a:custGeom>
            <a:avLst/>
            <a:gdLst/>
            <a:ahLst/>
            <a:rect l="l" t="t" r="r" b="b"/>
            <a:pathLst>
              <a:path w="151" h="476">
                <a:moveTo>
                  <a:pt x="75" y="476"/>
                </a:moveTo>
                <a:lnTo>
                  <a:pt x="151" y="476"/>
                </a:lnTo>
                <a:lnTo>
                  <a:pt x="151" y="0"/>
                </a:lnTo>
                <a:lnTo>
                  <a:pt x="0" y="0"/>
                </a:lnTo>
                <a:lnTo>
                  <a:pt x="0" y="476"/>
                </a:lnTo>
                <a:lnTo>
                  <a:pt x="75" y="47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932200" y="3843360"/>
            <a:ext cx="549360" cy="47520"/>
          </a:xfrm>
          <a:custGeom>
            <a:avLst/>
            <a:gdLst/>
            <a:ahLst/>
            <a:rect l="l" t="t" r="r" b="b"/>
            <a:pathLst>
              <a:path w="1728" h="150">
                <a:moveTo>
                  <a:pt x="0" y="75"/>
                </a:moveTo>
                <a:lnTo>
                  <a:pt x="0" y="150"/>
                </a:lnTo>
                <a:lnTo>
                  <a:pt x="1728" y="150"/>
                </a:lnTo>
                <a:lnTo>
                  <a:pt x="1728" y="0"/>
                </a:lnTo>
                <a:lnTo>
                  <a:pt x="0" y="0"/>
                </a:lnTo>
                <a:lnTo>
                  <a:pt x="0"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9" name=""/>
          <p:cNvSpPr/>
          <p:nvPr/>
        </p:nvSpPr>
        <p:spPr>
          <a:xfrm>
            <a:off x="2725560" y="3743280"/>
            <a:ext cx="227160" cy="249120"/>
          </a:xfrm>
          <a:custGeom>
            <a:avLst/>
            <a:gdLst/>
            <a:ahLst/>
            <a:rect l="l" t="t" r="r" b="b"/>
            <a:pathLst>
              <a:path w="717" h="787">
                <a:moveTo>
                  <a:pt x="717" y="787"/>
                </a:moveTo>
                <a:lnTo>
                  <a:pt x="0" y="393"/>
                </a:lnTo>
                <a:lnTo>
                  <a:pt x="717" y="0"/>
                </a:lnTo>
                <a:lnTo>
                  <a:pt x="717" y="787"/>
                </a:lnTo>
                <a:lnTo>
                  <a:pt x="0" y="393"/>
                </a:lnTo>
                <a:lnTo>
                  <a:pt x="717" y="78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5778360" y="3533760"/>
            <a:ext cx="382680" cy="47520"/>
          </a:xfrm>
          <a:custGeom>
            <a:avLst/>
            <a:gdLst/>
            <a:ahLst/>
            <a:rect l="l" t="t" r="r" b="b"/>
            <a:pathLst>
              <a:path w="1203" h="150">
                <a:moveTo>
                  <a:pt x="1203" y="75"/>
                </a:moveTo>
                <a:lnTo>
                  <a:pt x="1203" y="0"/>
                </a:lnTo>
                <a:lnTo>
                  <a:pt x="0" y="0"/>
                </a:lnTo>
                <a:lnTo>
                  <a:pt x="0" y="150"/>
                </a:lnTo>
                <a:lnTo>
                  <a:pt x="1203" y="150"/>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1" name=""/>
          <p:cNvSpPr/>
          <p:nvPr/>
        </p:nvSpPr>
        <p:spPr>
          <a:xfrm>
            <a:off x="6145200" y="3411360"/>
            <a:ext cx="293760" cy="292320"/>
          </a:xfrm>
          <a:custGeom>
            <a:avLst/>
            <a:gdLst/>
            <a:ahLst/>
            <a:rect l="l" t="t" r="r" b="b"/>
            <a:pathLst>
              <a:path w="922" h="922">
                <a:moveTo>
                  <a:pt x="922" y="461"/>
                </a:moveTo>
                <a:lnTo>
                  <a:pt x="0" y="0"/>
                </a:lnTo>
                <a:lnTo>
                  <a:pt x="0" y="922"/>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5778360" y="4148280"/>
            <a:ext cx="382680" cy="47520"/>
          </a:xfrm>
          <a:custGeom>
            <a:avLst/>
            <a:gdLst/>
            <a:ahLst/>
            <a:rect l="l" t="t" r="r" b="b"/>
            <a:pathLst>
              <a:path w="1203" h="151">
                <a:moveTo>
                  <a:pt x="1203" y="75"/>
                </a:moveTo>
                <a:lnTo>
                  <a:pt x="1203" y="0"/>
                </a:lnTo>
                <a:lnTo>
                  <a:pt x="0" y="0"/>
                </a:lnTo>
                <a:lnTo>
                  <a:pt x="0" y="151"/>
                </a:lnTo>
                <a:lnTo>
                  <a:pt x="1203" y="151"/>
                </a:lnTo>
                <a:lnTo>
                  <a:pt x="1203" y="75"/>
                </a:lnTo>
                <a:close/>
              </a:path>
            </a:pathLst>
          </a:custGeom>
          <a:solidFill>
            <a:srgbClr val="1f1a17"/>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33" name=""/>
          <p:cNvSpPr/>
          <p:nvPr/>
        </p:nvSpPr>
        <p:spPr>
          <a:xfrm>
            <a:off x="6145200" y="4025880"/>
            <a:ext cx="293760" cy="291960"/>
          </a:xfrm>
          <a:custGeom>
            <a:avLst/>
            <a:gdLst/>
            <a:ahLst/>
            <a:rect l="l" t="t" r="r" b="b"/>
            <a:pathLst>
              <a:path w="922" h="923">
                <a:moveTo>
                  <a:pt x="922" y="461"/>
                </a:moveTo>
                <a:lnTo>
                  <a:pt x="0" y="0"/>
                </a:lnTo>
                <a:lnTo>
                  <a:pt x="0" y="923"/>
                </a:lnTo>
                <a:lnTo>
                  <a:pt x="922" y="461"/>
                </a:lnTo>
                <a:lnTo>
                  <a:pt x="922" y="4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5" name="bmuk_sw" descr=""/>
          <p:cNvPicPr/>
          <p:nvPr/>
        </p:nvPicPr>
        <p:blipFill>
          <a:blip r:embed="rId1"/>
          <a:stretch/>
        </p:blipFill>
        <p:spPr>
          <a:xfrm>
            <a:off x="76320" y="0"/>
            <a:ext cx="1218960" cy="566640"/>
          </a:xfrm>
          <a:prstGeom prst="rect">
            <a:avLst/>
          </a:prstGeom>
          <a:ln w="0">
            <a:noFill/>
          </a:ln>
        </p:spPr>
      </p:pic>
      <p:sp>
        <p:nvSpPr>
          <p:cNvPr id="133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1625040" y="1263960"/>
            <a:ext cx="5360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Überprüfung konkreter Maßnah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 gehen wir es an?</a:t>
            </a:r>
            <a:endParaRPr b="0" lang="en-US" sz="2400" spc="-1" strike="noStrike">
              <a:solidFill>
                <a:srgbClr val="000000"/>
              </a:solidFill>
              <a:latin typeface="Times New Roman"/>
            </a:endParaRPr>
          </a:p>
        </p:txBody>
      </p:sp>
      <p:sp>
        <p:nvSpPr>
          <p:cNvPr id="133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0" y="609480"/>
            <a:ext cx="17524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Evaluation</a:t>
            </a:r>
            <a:endParaRPr b="0" lang="en-US" sz="2200" spc="-1" strike="noStrike">
              <a:solidFill>
                <a:srgbClr val="000000"/>
              </a:solidFill>
              <a:latin typeface="Times New Roman"/>
            </a:endParaRPr>
          </a:p>
        </p:txBody>
      </p:sp>
      <p:grpSp>
        <p:nvGrpSpPr>
          <p:cNvPr id="1346" name=""/>
          <p:cNvGrpSpPr/>
          <p:nvPr/>
        </p:nvGrpSpPr>
        <p:grpSpPr>
          <a:xfrm>
            <a:off x="1812960" y="1828080"/>
            <a:ext cx="1918800" cy="1312920"/>
            <a:chOff x="1812960" y="1828080"/>
            <a:chExt cx="1918800" cy="1312920"/>
          </a:xfrm>
        </p:grpSpPr>
        <p:sp>
          <p:nvSpPr>
            <p:cNvPr id="1347" name=""/>
            <p:cNvSpPr/>
            <p:nvPr/>
          </p:nvSpPr>
          <p:spPr>
            <a:xfrm>
              <a:off x="2930760" y="1828080"/>
              <a:ext cx="8010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2b2b2"/>
                  </a:solidFill>
                  <a:latin typeface="Arial"/>
                </a:rPr>
                <a:t>?</a:t>
              </a:r>
              <a:endParaRPr b="0" lang="en-US" sz="8000" spc="-1" strike="noStrike">
                <a:solidFill>
                  <a:srgbClr val="000000"/>
                </a:solidFill>
                <a:latin typeface="Times New Roman"/>
              </a:endParaRPr>
            </a:p>
          </p:txBody>
        </p:sp>
        <p:sp>
          <p:nvSpPr>
            <p:cNvPr id="1348" name=""/>
            <p:cNvSpPr/>
            <p:nvPr/>
          </p:nvSpPr>
          <p:spPr>
            <a:xfrm>
              <a:off x="1812960" y="2179080"/>
              <a:ext cx="1247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ER</a:t>
              </a:r>
              <a:endParaRPr b="0" lang="en-US" sz="3600" spc="-1" strike="noStrike">
                <a:solidFill>
                  <a:srgbClr val="000000"/>
                </a:solidFill>
                <a:latin typeface="Times New Roman"/>
              </a:endParaRPr>
            </a:p>
          </p:txBody>
        </p:sp>
      </p:grpSp>
      <p:grpSp>
        <p:nvGrpSpPr>
          <p:cNvPr id="1349" name=""/>
          <p:cNvGrpSpPr/>
          <p:nvPr/>
        </p:nvGrpSpPr>
        <p:grpSpPr>
          <a:xfrm>
            <a:off x="6479280" y="3351960"/>
            <a:ext cx="2281680" cy="1312920"/>
            <a:chOff x="6479280" y="3351960"/>
            <a:chExt cx="2281680" cy="1312920"/>
          </a:xfrm>
        </p:grpSpPr>
        <p:sp>
          <p:nvSpPr>
            <p:cNvPr id="1350" name=""/>
            <p:cNvSpPr/>
            <p:nvPr/>
          </p:nvSpPr>
          <p:spPr>
            <a:xfrm>
              <a:off x="6479280" y="3687120"/>
              <a:ext cx="15768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ZU</a:t>
              </a:r>
              <a:endParaRPr b="0" lang="en-US" sz="3600" spc="-1" strike="noStrike">
                <a:solidFill>
                  <a:srgbClr val="000000"/>
                </a:solidFill>
                <a:latin typeface="Times New Roman"/>
              </a:endParaRPr>
            </a:p>
          </p:txBody>
        </p:sp>
        <p:sp>
          <p:nvSpPr>
            <p:cNvPr id="1351" name=""/>
            <p:cNvSpPr/>
            <p:nvPr/>
          </p:nvSpPr>
          <p:spPr>
            <a:xfrm>
              <a:off x="7959960" y="3351960"/>
              <a:ext cx="8010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2b2b2"/>
                  </a:solidFill>
                  <a:latin typeface="Arial"/>
                </a:rPr>
                <a:t>?</a:t>
              </a:r>
              <a:endParaRPr b="0" lang="en-US" sz="8000" spc="-1" strike="noStrike">
                <a:solidFill>
                  <a:srgbClr val="000000"/>
                </a:solidFill>
                <a:latin typeface="Times New Roman"/>
              </a:endParaRPr>
            </a:p>
          </p:txBody>
        </p:sp>
      </p:grpSp>
      <p:grpSp>
        <p:nvGrpSpPr>
          <p:cNvPr id="1352" name=""/>
          <p:cNvGrpSpPr/>
          <p:nvPr/>
        </p:nvGrpSpPr>
        <p:grpSpPr>
          <a:xfrm>
            <a:off x="3870360" y="4631760"/>
            <a:ext cx="1885320" cy="1312920"/>
            <a:chOff x="3870360" y="4631760"/>
            <a:chExt cx="1885320" cy="1312920"/>
          </a:xfrm>
        </p:grpSpPr>
        <p:sp>
          <p:nvSpPr>
            <p:cNvPr id="1353" name=""/>
            <p:cNvSpPr/>
            <p:nvPr/>
          </p:nvSpPr>
          <p:spPr>
            <a:xfrm>
              <a:off x="3870360" y="4906440"/>
              <a:ext cx="12474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AS</a:t>
              </a:r>
              <a:endParaRPr b="0" lang="en-US" sz="3600" spc="-1" strike="noStrike">
                <a:solidFill>
                  <a:srgbClr val="000000"/>
                </a:solidFill>
                <a:latin typeface="Times New Roman"/>
              </a:endParaRPr>
            </a:p>
          </p:txBody>
        </p:sp>
        <p:sp>
          <p:nvSpPr>
            <p:cNvPr id="1354" name=""/>
            <p:cNvSpPr/>
            <p:nvPr/>
          </p:nvSpPr>
          <p:spPr>
            <a:xfrm>
              <a:off x="4954680" y="4631760"/>
              <a:ext cx="8010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2b2b2"/>
                  </a:solidFill>
                  <a:latin typeface="Arial"/>
                </a:rPr>
                <a:t>?</a:t>
              </a:r>
              <a:endParaRPr b="0" lang="en-US" sz="8000" spc="-1" strike="noStrike">
                <a:solidFill>
                  <a:srgbClr val="000000"/>
                </a:solidFill>
                <a:latin typeface="Times New Roman"/>
              </a:endParaRPr>
            </a:p>
          </p:txBody>
        </p:sp>
      </p:grpSp>
      <p:sp>
        <p:nvSpPr>
          <p:cNvPr id="1355" name=""/>
          <p:cNvSpPr/>
          <p:nvPr/>
        </p:nvSpPr>
        <p:spPr>
          <a:xfrm>
            <a:off x="3735720" y="2284920"/>
            <a:ext cx="5077440" cy="1434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reis der Beteiligten/Betroffenen </a:t>
            </a:r>
            <a:br>
              <a:rPr sz="2200"/>
            </a:br>
            <a:r>
              <a:rPr b="0" lang="de-DE" sz="2200" spc="-1" strike="noStrike">
                <a:solidFill>
                  <a:srgbClr val="000000"/>
                </a:solidFill>
                <a:latin typeface="Arial"/>
              </a:rPr>
              <a:t>definieren, Verantwortlichkeiten klären, </a:t>
            </a:r>
            <a:br>
              <a:rPr sz="2200"/>
            </a:br>
            <a:r>
              <a:rPr b="0" lang="de-DE" sz="2200" spc="-1" strike="noStrike">
                <a:solidFill>
                  <a:srgbClr val="000000"/>
                </a:solidFill>
                <a:latin typeface="Arial"/>
              </a:rPr>
              <a:t>Entscheidungsabläufe festlegen</a:t>
            </a:r>
            <a:br>
              <a:rPr sz="2200"/>
            </a:br>
            <a:endParaRPr b="0" lang="en-US" sz="2200" spc="-1" strike="noStrike">
              <a:solidFill>
                <a:srgbClr val="000000"/>
              </a:solidFill>
              <a:latin typeface="Times New Roman"/>
            </a:endParaRPr>
          </a:p>
        </p:txBody>
      </p:sp>
      <p:sp>
        <p:nvSpPr>
          <p:cNvPr id="1356" name=""/>
          <p:cNvSpPr/>
          <p:nvPr/>
        </p:nvSpPr>
        <p:spPr>
          <a:xfrm>
            <a:off x="1453320" y="3656520"/>
            <a:ext cx="4932720" cy="10994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weck und Nutzen der Überprüfungs-</a:t>
            </a:r>
            <a:endParaRPr b="0" lang="en-US" sz="2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ßnahme klären, sich über Umgang </a:t>
            </a:r>
            <a:endParaRPr b="0" lang="en-US" sz="2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it Daten und Ergebnissen einigen</a:t>
            </a:r>
            <a:endParaRPr b="0" lang="en-US" sz="2200" spc="-1" strike="noStrike">
              <a:solidFill>
                <a:srgbClr val="000000"/>
              </a:solidFill>
              <a:latin typeface="Times New Roman"/>
            </a:endParaRPr>
          </a:p>
        </p:txBody>
      </p:sp>
      <p:sp>
        <p:nvSpPr>
          <p:cNvPr id="1357" name=""/>
          <p:cNvSpPr/>
          <p:nvPr/>
        </p:nvSpPr>
        <p:spPr>
          <a:xfrm>
            <a:off x="1756440" y="5591520"/>
            <a:ext cx="6086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genstand der Untersuchung präzis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rmulieren, Kriterien und Indikatoren definieren</a:t>
            </a:r>
            <a:endParaRPr b="0" lang="en-US" sz="2200" spc="-1" strike="noStrike">
              <a:solidFill>
                <a:srgbClr val="000000"/>
              </a:solidFill>
              <a:latin typeface="Times New Roman"/>
            </a:endParaRPr>
          </a:p>
        </p:txBody>
      </p:sp>
      <p:sp>
        <p:nvSpPr>
          <p:cNvPr id="135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2" name="bmuk_sw" descr=""/>
          <p:cNvPicPr/>
          <p:nvPr/>
        </p:nvPicPr>
        <p:blipFill>
          <a:blip r:embed="rId1"/>
          <a:stretch/>
        </p:blipFill>
        <p:spPr>
          <a:xfrm>
            <a:off x="76320" y="0"/>
            <a:ext cx="1218960" cy="566640"/>
          </a:xfrm>
          <a:prstGeom prst="rect">
            <a:avLst/>
          </a:prstGeom>
          <a:ln w="0">
            <a:noFill/>
          </a:ln>
        </p:spPr>
      </p:pic>
      <p:sp>
        <p:nvSpPr>
          <p:cNvPr id="136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1625040" y="1263960"/>
            <a:ext cx="5360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Überprüfung konkreter Maßnah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ie gehen wir es an?</a:t>
            </a:r>
            <a:endParaRPr b="0" lang="en-US" sz="2400" spc="-1" strike="noStrike">
              <a:solidFill>
                <a:srgbClr val="000000"/>
              </a:solidFill>
              <a:latin typeface="Times New Roman"/>
            </a:endParaRPr>
          </a:p>
        </p:txBody>
      </p:sp>
      <p:sp>
        <p:nvSpPr>
          <p:cNvPr id="136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1" name=""/>
          <p:cNvGrpSpPr/>
          <p:nvPr/>
        </p:nvGrpSpPr>
        <p:grpSpPr>
          <a:xfrm>
            <a:off x="1602360" y="1828080"/>
            <a:ext cx="1816560" cy="1312920"/>
            <a:chOff x="1602360" y="1828080"/>
            <a:chExt cx="1816560" cy="1312920"/>
          </a:xfrm>
        </p:grpSpPr>
        <p:sp>
          <p:nvSpPr>
            <p:cNvPr id="1372" name=""/>
            <p:cNvSpPr/>
            <p:nvPr/>
          </p:nvSpPr>
          <p:spPr>
            <a:xfrm>
              <a:off x="2617920" y="1828080"/>
              <a:ext cx="8010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2b2b2"/>
                  </a:solidFill>
                  <a:latin typeface="Arial"/>
                </a:rPr>
                <a:t>?</a:t>
              </a:r>
              <a:endParaRPr b="0" lang="en-US" sz="8000" spc="-1" strike="noStrike">
                <a:solidFill>
                  <a:srgbClr val="000000"/>
                </a:solidFill>
                <a:latin typeface="Times New Roman"/>
              </a:endParaRPr>
            </a:p>
          </p:txBody>
        </p:sp>
        <p:sp>
          <p:nvSpPr>
            <p:cNvPr id="1373" name=""/>
            <p:cNvSpPr/>
            <p:nvPr/>
          </p:nvSpPr>
          <p:spPr>
            <a:xfrm>
              <a:off x="1602360" y="2179080"/>
              <a:ext cx="1043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IE</a:t>
              </a:r>
              <a:endParaRPr b="0" lang="en-US" sz="3600" spc="-1" strike="noStrike">
                <a:solidFill>
                  <a:srgbClr val="000000"/>
                </a:solidFill>
                <a:latin typeface="Times New Roman"/>
              </a:endParaRPr>
            </a:p>
          </p:txBody>
        </p:sp>
      </p:grpSp>
      <p:grpSp>
        <p:nvGrpSpPr>
          <p:cNvPr id="1374" name=""/>
          <p:cNvGrpSpPr/>
          <p:nvPr/>
        </p:nvGrpSpPr>
        <p:grpSpPr>
          <a:xfrm>
            <a:off x="5868360" y="3123360"/>
            <a:ext cx="2295360" cy="1312920"/>
            <a:chOff x="5868360" y="3123360"/>
            <a:chExt cx="2295360" cy="1312920"/>
          </a:xfrm>
        </p:grpSpPr>
        <p:sp>
          <p:nvSpPr>
            <p:cNvPr id="1375" name=""/>
            <p:cNvSpPr/>
            <p:nvPr/>
          </p:nvSpPr>
          <p:spPr>
            <a:xfrm>
              <a:off x="5868360" y="3458520"/>
              <a:ext cx="1604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ANN</a:t>
              </a:r>
              <a:endParaRPr b="0" lang="en-US" sz="3600" spc="-1" strike="noStrike">
                <a:solidFill>
                  <a:srgbClr val="000000"/>
                </a:solidFill>
                <a:latin typeface="Times New Roman"/>
              </a:endParaRPr>
            </a:p>
          </p:txBody>
        </p:sp>
        <p:sp>
          <p:nvSpPr>
            <p:cNvPr id="1376" name=""/>
            <p:cNvSpPr/>
            <p:nvPr/>
          </p:nvSpPr>
          <p:spPr>
            <a:xfrm>
              <a:off x="7362720" y="3123360"/>
              <a:ext cx="8010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2b2b2"/>
                  </a:solidFill>
                  <a:latin typeface="Arial"/>
                </a:rPr>
                <a:t>?</a:t>
              </a:r>
              <a:endParaRPr b="0" lang="en-US" sz="8000" spc="-1" strike="noStrike">
                <a:solidFill>
                  <a:srgbClr val="000000"/>
                </a:solidFill>
                <a:latin typeface="Times New Roman"/>
              </a:endParaRPr>
            </a:p>
          </p:txBody>
        </p:sp>
      </p:grpSp>
      <p:grpSp>
        <p:nvGrpSpPr>
          <p:cNvPr id="1377" name=""/>
          <p:cNvGrpSpPr/>
          <p:nvPr/>
        </p:nvGrpSpPr>
        <p:grpSpPr>
          <a:xfrm>
            <a:off x="3278880" y="5104800"/>
            <a:ext cx="1744920" cy="1312920"/>
            <a:chOff x="3278880" y="5104800"/>
            <a:chExt cx="1744920" cy="1312920"/>
          </a:xfrm>
        </p:grpSpPr>
        <p:sp>
          <p:nvSpPr>
            <p:cNvPr id="1378" name=""/>
            <p:cNvSpPr/>
            <p:nvPr/>
          </p:nvSpPr>
          <p:spPr>
            <a:xfrm>
              <a:off x="3278880" y="5379120"/>
              <a:ext cx="966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O</a:t>
              </a:r>
              <a:endParaRPr b="0" lang="en-US" sz="3600" spc="-1" strike="noStrike">
                <a:solidFill>
                  <a:srgbClr val="000000"/>
                </a:solidFill>
                <a:latin typeface="Times New Roman"/>
              </a:endParaRPr>
            </a:p>
          </p:txBody>
        </p:sp>
        <p:sp>
          <p:nvSpPr>
            <p:cNvPr id="1379" name=""/>
            <p:cNvSpPr/>
            <p:nvPr/>
          </p:nvSpPr>
          <p:spPr>
            <a:xfrm>
              <a:off x="4222800" y="5104800"/>
              <a:ext cx="8010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b2b2b2"/>
                  </a:solidFill>
                  <a:latin typeface="Arial"/>
                </a:rPr>
                <a:t>?</a:t>
              </a:r>
              <a:endParaRPr b="0" lang="en-US" sz="8000" spc="-1" strike="noStrike">
                <a:solidFill>
                  <a:srgbClr val="000000"/>
                </a:solidFill>
                <a:latin typeface="Times New Roman"/>
              </a:endParaRPr>
            </a:p>
          </p:txBody>
        </p:sp>
      </p:grpSp>
      <p:sp>
        <p:nvSpPr>
          <p:cNvPr id="1380" name=""/>
          <p:cNvSpPr/>
          <p:nvPr/>
        </p:nvSpPr>
        <p:spPr>
          <a:xfrm>
            <a:off x="3433680" y="2360880"/>
            <a:ext cx="5364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gemessene und praktikable </a:t>
            </a:r>
            <a:br>
              <a:rPr sz="2400"/>
            </a:br>
            <a:r>
              <a:rPr b="0" lang="de-DE" sz="2400" spc="-1" strike="noStrike">
                <a:solidFill>
                  <a:srgbClr val="000000"/>
                </a:solidFill>
                <a:latin typeface="Arial"/>
              </a:rPr>
              <a:t>Methoden und Instrumente auswählen</a:t>
            </a:r>
            <a:endParaRPr b="0" lang="en-US" sz="2400" spc="-1" strike="noStrike">
              <a:solidFill>
                <a:srgbClr val="000000"/>
              </a:solidFill>
              <a:latin typeface="Times New Roman"/>
            </a:endParaRPr>
          </a:p>
        </p:txBody>
      </p:sp>
      <p:sp>
        <p:nvSpPr>
          <p:cNvPr id="1381" name=""/>
          <p:cNvSpPr/>
          <p:nvPr/>
        </p:nvSpPr>
        <p:spPr>
          <a:xfrm>
            <a:off x="76320" y="3960720"/>
            <a:ext cx="728964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uer und Ende der Untersuchung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estlegen, bei größeren Unternehmungen Etappenziele ("Meilensteine") definieren</a:t>
            </a:r>
            <a:endParaRPr b="0" lang="en-US" sz="2400" spc="-1" strike="noStrike">
              <a:solidFill>
                <a:srgbClr val="000000"/>
              </a:solidFill>
              <a:latin typeface="Times New Roman"/>
            </a:endParaRPr>
          </a:p>
        </p:txBody>
      </p:sp>
      <p:sp>
        <p:nvSpPr>
          <p:cNvPr id="1382" name=""/>
          <p:cNvSpPr/>
          <p:nvPr/>
        </p:nvSpPr>
        <p:spPr>
          <a:xfrm>
            <a:off x="2211480" y="6094800"/>
            <a:ext cx="423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t der Überprüfung festlegen</a:t>
            </a:r>
            <a:endParaRPr b="0" lang="en-US" sz="2400" spc="-1" strike="noStrike">
              <a:solidFill>
                <a:srgbClr val="000000"/>
              </a:solidFill>
              <a:latin typeface="Times New Roman"/>
            </a:endParaRPr>
          </a:p>
        </p:txBody>
      </p:sp>
      <p:sp>
        <p:nvSpPr>
          <p:cNvPr id="138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0" y="609480"/>
            <a:ext cx="17524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Evaluation</a:t>
            </a:r>
            <a:endParaRPr b="0" lang="en-US" sz="2200" spc="-1" strike="noStrike">
              <a:solidFill>
                <a:srgbClr val="000000"/>
              </a:solidFill>
              <a:latin typeface="Times New Roman"/>
            </a:endParaRPr>
          </a:p>
        </p:txBody>
      </p:sp>
      <p:sp>
        <p:nvSpPr>
          <p:cNvPr id="1386"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9" name="bmuk_sw" descr=""/>
          <p:cNvPicPr/>
          <p:nvPr/>
        </p:nvPicPr>
        <p:blipFill>
          <a:blip r:embed="rId1"/>
          <a:stretch/>
        </p:blipFill>
        <p:spPr>
          <a:xfrm>
            <a:off x="76320" y="0"/>
            <a:ext cx="1218960" cy="566640"/>
          </a:xfrm>
          <a:prstGeom prst="rect">
            <a:avLst/>
          </a:prstGeom>
          <a:ln w="0">
            <a:noFill/>
          </a:ln>
        </p:spPr>
      </p:pic>
      <p:sp>
        <p:nvSpPr>
          <p:cNvPr id="139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7" name=""/>
          <p:cNvGrpSpPr/>
          <p:nvPr/>
        </p:nvGrpSpPr>
        <p:grpSpPr>
          <a:xfrm>
            <a:off x="1219320" y="1580040"/>
            <a:ext cx="7427160" cy="429120"/>
            <a:chOff x="1219320" y="1580040"/>
            <a:chExt cx="7427160" cy="429120"/>
          </a:xfrm>
        </p:grpSpPr>
        <p:sp>
          <p:nvSpPr>
            <p:cNvPr id="1398" name=""/>
            <p:cNvSpPr/>
            <p:nvPr/>
          </p:nvSpPr>
          <p:spPr>
            <a:xfrm>
              <a:off x="1769400" y="1580040"/>
              <a:ext cx="68770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lima des Vertrauens, der Offenheit und Gelassenheit</a:t>
              </a:r>
              <a:endParaRPr b="0" lang="en-US" sz="2200" spc="-1" strike="noStrike">
                <a:solidFill>
                  <a:srgbClr val="000000"/>
                </a:solidFill>
                <a:latin typeface="Times New Roman"/>
              </a:endParaRPr>
            </a:p>
          </p:txBody>
        </p:sp>
        <p:sp>
          <p:nvSpPr>
            <p:cNvPr id="1399" name=""/>
            <p:cNvSpPr/>
            <p:nvPr/>
          </p:nvSpPr>
          <p:spPr>
            <a:xfrm rot="5400000">
              <a:off x="1164600" y="165492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400" name=""/>
          <p:cNvGrpSpPr/>
          <p:nvPr/>
        </p:nvGrpSpPr>
        <p:grpSpPr>
          <a:xfrm>
            <a:off x="1219320" y="2194560"/>
            <a:ext cx="5736960" cy="429120"/>
            <a:chOff x="1219320" y="2194560"/>
            <a:chExt cx="5736960" cy="429120"/>
          </a:xfrm>
        </p:grpSpPr>
        <p:sp>
          <p:nvSpPr>
            <p:cNvPr id="1401" name=""/>
            <p:cNvSpPr/>
            <p:nvPr/>
          </p:nvSpPr>
          <p:spPr>
            <a:xfrm>
              <a:off x="1755360" y="2194560"/>
              <a:ext cx="5200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sichtige Gründe und spürbare Folgen</a:t>
              </a:r>
              <a:endParaRPr b="0" lang="en-US" sz="2200" spc="-1" strike="noStrike">
                <a:solidFill>
                  <a:srgbClr val="000000"/>
                </a:solidFill>
                <a:latin typeface="Times New Roman"/>
              </a:endParaRPr>
            </a:p>
          </p:txBody>
        </p:sp>
        <p:sp>
          <p:nvSpPr>
            <p:cNvPr id="1402" name=""/>
            <p:cNvSpPr/>
            <p:nvPr/>
          </p:nvSpPr>
          <p:spPr>
            <a:xfrm rot="5400000">
              <a:off x="1164240" y="228204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403" name=""/>
          <p:cNvGrpSpPr/>
          <p:nvPr/>
        </p:nvGrpSpPr>
        <p:grpSpPr>
          <a:xfrm>
            <a:off x="1219320" y="2819520"/>
            <a:ext cx="2720160" cy="437040"/>
            <a:chOff x="1219320" y="2819520"/>
            <a:chExt cx="2720160" cy="437040"/>
          </a:xfrm>
        </p:grpSpPr>
        <p:sp>
          <p:nvSpPr>
            <p:cNvPr id="1404" name=""/>
            <p:cNvSpPr/>
            <p:nvPr/>
          </p:nvSpPr>
          <p:spPr>
            <a:xfrm>
              <a:off x="1753200" y="2827440"/>
              <a:ext cx="21862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ositiver Ansatz</a:t>
              </a:r>
              <a:endParaRPr b="0" lang="en-US" sz="2200" spc="-1" strike="noStrike">
                <a:solidFill>
                  <a:srgbClr val="000000"/>
                </a:solidFill>
                <a:latin typeface="Times New Roman"/>
              </a:endParaRPr>
            </a:p>
          </p:txBody>
        </p:sp>
        <p:sp>
          <p:nvSpPr>
            <p:cNvPr id="1405" name=""/>
            <p:cNvSpPr/>
            <p:nvPr/>
          </p:nvSpPr>
          <p:spPr>
            <a:xfrm rot="5400000">
              <a:off x="1164600" y="2873880"/>
              <a:ext cx="38052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406" name=""/>
          <p:cNvGrpSpPr/>
          <p:nvPr/>
        </p:nvGrpSpPr>
        <p:grpSpPr>
          <a:xfrm>
            <a:off x="1219320" y="3413880"/>
            <a:ext cx="5721480" cy="429120"/>
            <a:chOff x="1219320" y="3413880"/>
            <a:chExt cx="5721480" cy="429120"/>
          </a:xfrm>
        </p:grpSpPr>
        <p:sp>
          <p:nvSpPr>
            <p:cNvPr id="1407" name=""/>
            <p:cNvSpPr/>
            <p:nvPr/>
          </p:nvSpPr>
          <p:spPr>
            <a:xfrm>
              <a:off x="1755360" y="3413880"/>
              <a:ext cx="51854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levante Fragestellungen und Kriterien</a:t>
              </a:r>
              <a:endParaRPr b="0" lang="en-US" sz="2200" spc="-1" strike="noStrike">
                <a:solidFill>
                  <a:srgbClr val="000000"/>
                </a:solidFill>
                <a:latin typeface="Times New Roman"/>
              </a:endParaRPr>
            </a:p>
          </p:txBody>
        </p:sp>
        <p:sp>
          <p:nvSpPr>
            <p:cNvPr id="1408" name=""/>
            <p:cNvSpPr/>
            <p:nvPr/>
          </p:nvSpPr>
          <p:spPr>
            <a:xfrm rot="5400000">
              <a:off x="1164240" y="348840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409" name=""/>
          <p:cNvGrpSpPr/>
          <p:nvPr/>
        </p:nvGrpSpPr>
        <p:grpSpPr>
          <a:xfrm>
            <a:off x="1219320" y="4590000"/>
            <a:ext cx="4119480" cy="429120"/>
            <a:chOff x="1219320" y="4590000"/>
            <a:chExt cx="4119480" cy="429120"/>
          </a:xfrm>
        </p:grpSpPr>
        <p:sp>
          <p:nvSpPr>
            <p:cNvPr id="1410" name=""/>
            <p:cNvSpPr/>
            <p:nvPr/>
          </p:nvSpPr>
          <p:spPr>
            <a:xfrm>
              <a:off x="1753560" y="4590000"/>
              <a:ext cx="35852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schiedene Perspektiven</a:t>
              </a:r>
              <a:endParaRPr b="0" lang="en-US" sz="2200" spc="-1" strike="noStrike">
                <a:solidFill>
                  <a:srgbClr val="000000"/>
                </a:solidFill>
                <a:latin typeface="Times New Roman"/>
              </a:endParaRPr>
            </a:p>
          </p:txBody>
        </p:sp>
        <p:sp>
          <p:nvSpPr>
            <p:cNvPr id="1411" name=""/>
            <p:cNvSpPr/>
            <p:nvPr/>
          </p:nvSpPr>
          <p:spPr>
            <a:xfrm rot="5400000">
              <a:off x="1164240" y="469008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412" name=""/>
          <p:cNvGrpSpPr/>
          <p:nvPr/>
        </p:nvGrpSpPr>
        <p:grpSpPr>
          <a:xfrm>
            <a:off x="1219320" y="5213880"/>
            <a:ext cx="7924680" cy="429120"/>
            <a:chOff x="1219320" y="5213880"/>
            <a:chExt cx="7924680" cy="429120"/>
          </a:xfrm>
        </p:grpSpPr>
        <p:sp>
          <p:nvSpPr>
            <p:cNvPr id="1413" name=""/>
            <p:cNvSpPr/>
            <p:nvPr/>
          </p:nvSpPr>
          <p:spPr>
            <a:xfrm>
              <a:off x="1752480" y="5213880"/>
              <a:ext cx="7391520" cy="429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lare Verantwortlichkeiten und Entscheidungsstrukturen</a:t>
              </a:r>
              <a:endParaRPr b="0" lang="en-US" sz="2200" spc="-1" strike="noStrike">
                <a:solidFill>
                  <a:srgbClr val="000000"/>
                </a:solidFill>
                <a:latin typeface="Times New Roman"/>
              </a:endParaRPr>
            </a:p>
          </p:txBody>
        </p:sp>
        <p:sp>
          <p:nvSpPr>
            <p:cNvPr id="1414" name=""/>
            <p:cNvSpPr/>
            <p:nvPr/>
          </p:nvSpPr>
          <p:spPr>
            <a:xfrm rot="5400000">
              <a:off x="1164600" y="527292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415" name=""/>
          <p:cNvGrpSpPr/>
          <p:nvPr/>
        </p:nvGrpSpPr>
        <p:grpSpPr>
          <a:xfrm>
            <a:off x="1219320" y="5820120"/>
            <a:ext cx="4818600" cy="429120"/>
            <a:chOff x="1219320" y="5820120"/>
            <a:chExt cx="4818600" cy="429120"/>
          </a:xfrm>
        </p:grpSpPr>
        <p:sp>
          <p:nvSpPr>
            <p:cNvPr id="1416" name=""/>
            <p:cNvSpPr/>
            <p:nvPr/>
          </p:nvSpPr>
          <p:spPr>
            <a:xfrm>
              <a:off x="1756080" y="5820120"/>
              <a:ext cx="4281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sicherte Rahmenbedingungen</a:t>
              </a:r>
              <a:endParaRPr b="0" lang="en-US" sz="2200" spc="-1" strike="noStrike">
                <a:solidFill>
                  <a:srgbClr val="000000"/>
                </a:solidFill>
                <a:latin typeface="Times New Roman"/>
              </a:endParaRPr>
            </a:p>
          </p:txBody>
        </p:sp>
        <p:sp>
          <p:nvSpPr>
            <p:cNvPr id="1417" name=""/>
            <p:cNvSpPr/>
            <p:nvPr/>
          </p:nvSpPr>
          <p:spPr>
            <a:xfrm rot="5400000">
              <a:off x="1164600" y="590940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418" name=""/>
          <p:cNvSpPr/>
          <p:nvPr/>
        </p:nvSpPr>
        <p:spPr>
          <a:xfrm>
            <a:off x="0" y="609480"/>
            <a:ext cx="17524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76320" y="60948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Evaluation</a:t>
            </a:r>
            <a:endParaRPr b="0" lang="en-US" sz="2200" spc="-1" strike="noStrike">
              <a:solidFill>
                <a:srgbClr val="000000"/>
              </a:solidFill>
              <a:latin typeface="Times New Roman"/>
            </a:endParaRPr>
          </a:p>
        </p:txBody>
      </p:sp>
      <p:grpSp>
        <p:nvGrpSpPr>
          <p:cNvPr id="1420" name=""/>
          <p:cNvGrpSpPr/>
          <p:nvPr/>
        </p:nvGrpSpPr>
        <p:grpSpPr>
          <a:xfrm>
            <a:off x="1219320" y="4024800"/>
            <a:ext cx="5390640" cy="429120"/>
            <a:chOff x="1219320" y="4024800"/>
            <a:chExt cx="5390640" cy="429120"/>
          </a:xfrm>
        </p:grpSpPr>
        <p:sp>
          <p:nvSpPr>
            <p:cNvPr id="1421" name=""/>
            <p:cNvSpPr/>
            <p:nvPr/>
          </p:nvSpPr>
          <p:spPr>
            <a:xfrm>
              <a:off x="1770480" y="4024800"/>
              <a:ext cx="48394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rksame Methoden und Instrumente</a:t>
              </a:r>
              <a:endParaRPr b="0" lang="en-US" sz="2200" spc="-1" strike="noStrike">
                <a:solidFill>
                  <a:srgbClr val="000000"/>
                </a:solidFill>
                <a:latin typeface="Times New Roman"/>
              </a:endParaRPr>
            </a:p>
          </p:txBody>
        </p:sp>
        <p:sp>
          <p:nvSpPr>
            <p:cNvPr id="1422" name=""/>
            <p:cNvSpPr/>
            <p:nvPr/>
          </p:nvSpPr>
          <p:spPr>
            <a:xfrm rot="5400000">
              <a:off x="1164600" y="408060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423" name=""/>
          <p:cNvSpPr/>
          <p:nvPr/>
        </p:nvSpPr>
        <p:spPr>
          <a:xfrm>
            <a:off x="0" y="990720"/>
            <a:ext cx="22860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
          <p:cNvSpPr/>
          <p:nvPr/>
        </p:nvSpPr>
        <p:spPr>
          <a:xfrm>
            <a:off x="76320" y="944640"/>
            <a:ext cx="23619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folgskriterie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 name="bmuk_sw" descr=""/>
          <p:cNvPicPr/>
          <p:nvPr/>
        </p:nvPicPr>
        <p:blipFill>
          <a:blip r:embed="rId1"/>
          <a:stretch/>
        </p:blipFill>
        <p:spPr>
          <a:xfrm>
            <a:off x="76320" y="0"/>
            <a:ext cx="1218960" cy="566640"/>
          </a:xfrm>
          <a:prstGeom prst="rect">
            <a:avLst/>
          </a:prstGeom>
          <a:ln w="0">
            <a:noFill/>
          </a:ln>
        </p:spPr>
      </p:pic>
      <p:sp>
        <p:nvSpPr>
          <p:cNvPr id="12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0" y="609480"/>
            <a:ext cx="23623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orum es geht</a:t>
            </a:r>
            <a:endParaRPr b="0" lang="en-US" sz="2200" spc="-1" strike="noStrike">
              <a:solidFill>
                <a:srgbClr val="000000"/>
              </a:solidFill>
              <a:latin typeface="Times New Roman"/>
            </a:endParaRPr>
          </a:p>
        </p:txBody>
      </p:sp>
      <p:sp>
        <p:nvSpPr>
          <p:cNvPr id="127" name=""/>
          <p:cNvSpPr/>
          <p:nvPr/>
        </p:nvSpPr>
        <p:spPr>
          <a:xfrm>
            <a:off x="1676520" y="1295280"/>
            <a:ext cx="72388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BMUK will die österreichischen Schulen anreg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rin bestärken und unterstütz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00"/>
                </a:solidFill>
                <a:latin typeface="Arial"/>
              </a:rPr>
              <a:t>ihre Qualität selbst laufend zu überprüf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00"/>
                </a:solidFill>
                <a:latin typeface="Arial"/>
              </a:rPr>
              <a:t>und weiter zu entwickel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emeinsame und systematische Beschäftigu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Schulpartner/innen mit Qualitätsfrag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ll zum </a:t>
            </a:r>
            <a:r>
              <a:rPr b="1" lang="de-DE" sz="2000" spc="-1" strike="noStrike">
                <a:solidFill>
                  <a:srgbClr val="e20000"/>
                </a:solidFill>
                <a:latin typeface="Arial"/>
              </a:rPr>
              <a:t>fixen Bestandteil von Schulkultur</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rden und damit den Horizont von Schule ständig erweite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e20000"/>
                </a:solidFill>
                <a:latin typeface="Arial"/>
              </a:rPr>
              <a:t>Schulprogramm und Evaluation sind die tragenden Elemente der Entwicklung am Standort.</a:t>
            </a:r>
            <a:r>
              <a:rPr b="0" lang="de-DE"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ie beziehen sich auf die wesentlichen Bereiche schulischen Handelns und bilden Herzstück und Ausgangspunkt für ein künftiges System der Qualitätssicherung und -entwicklu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m österreichischen Schulwesen.</a:t>
            </a:r>
            <a:endParaRPr b="0" lang="en-US" sz="2000" spc="-1" strike="noStrike">
              <a:solidFill>
                <a:srgbClr val="000000"/>
              </a:solidFill>
              <a:latin typeface="Times New Roman"/>
            </a:endParaRPr>
          </a:p>
        </p:txBody>
      </p:sp>
      <p:sp>
        <p:nvSpPr>
          <p:cNvPr id="12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6" name="bmuk_sw" descr=""/>
          <p:cNvPicPr/>
          <p:nvPr/>
        </p:nvPicPr>
        <p:blipFill>
          <a:blip r:embed="rId1"/>
          <a:stretch/>
        </p:blipFill>
        <p:spPr>
          <a:xfrm>
            <a:off x="76320" y="0"/>
            <a:ext cx="1218960" cy="566640"/>
          </a:xfrm>
          <a:prstGeom prst="rect">
            <a:avLst/>
          </a:prstGeom>
          <a:ln w="0">
            <a:noFill/>
          </a:ln>
        </p:spPr>
      </p:pic>
      <p:sp>
        <p:nvSpPr>
          <p:cNvPr id="142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622160" y="1446840"/>
            <a:ext cx="519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 übernimmt welche Aufgaben?</a:t>
            </a:r>
            <a:endParaRPr b="0" lang="en-US" sz="2400" spc="-1" strike="noStrike">
              <a:solidFill>
                <a:srgbClr val="000000"/>
              </a:solidFill>
              <a:latin typeface="Times New Roman"/>
            </a:endParaRPr>
          </a:p>
        </p:txBody>
      </p:sp>
      <p:grpSp>
        <p:nvGrpSpPr>
          <p:cNvPr id="1429" name=""/>
          <p:cNvGrpSpPr/>
          <p:nvPr/>
        </p:nvGrpSpPr>
        <p:grpSpPr>
          <a:xfrm>
            <a:off x="762120" y="2336400"/>
            <a:ext cx="3012840" cy="546120"/>
            <a:chOff x="762120" y="2336400"/>
            <a:chExt cx="3012840" cy="546120"/>
          </a:xfrm>
        </p:grpSpPr>
        <p:sp>
          <p:nvSpPr>
            <p:cNvPr id="1430" name=""/>
            <p:cNvSpPr/>
            <p:nvPr/>
          </p:nvSpPr>
          <p:spPr>
            <a:xfrm flipV="1">
              <a:off x="762120" y="2336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1765440" y="2377080"/>
              <a:ext cx="2009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lleitung</a:t>
              </a:r>
              <a:endParaRPr b="0" lang="en-US" sz="2400" spc="-1" strike="noStrike">
                <a:solidFill>
                  <a:srgbClr val="000000"/>
                </a:solidFill>
                <a:latin typeface="Times New Roman"/>
              </a:endParaRPr>
            </a:p>
          </p:txBody>
        </p:sp>
      </p:grpSp>
      <p:sp>
        <p:nvSpPr>
          <p:cNvPr id="143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0" y="609480"/>
            <a:ext cx="54100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6320" y="609480"/>
            <a:ext cx="5333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 und  Selbstevaluation</a:t>
            </a:r>
            <a:endParaRPr b="0" lang="en-US" sz="2200" spc="-1" strike="noStrike">
              <a:solidFill>
                <a:srgbClr val="000000"/>
              </a:solidFill>
              <a:latin typeface="Times New Roman"/>
            </a:endParaRPr>
          </a:p>
        </p:txBody>
      </p:sp>
      <p:grpSp>
        <p:nvGrpSpPr>
          <p:cNvPr id="1440" name=""/>
          <p:cNvGrpSpPr/>
          <p:nvPr/>
        </p:nvGrpSpPr>
        <p:grpSpPr>
          <a:xfrm>
            <a:off x="1219320" y="2975400"/>
            <a:ext cx="4992120" cy="764280"/>
            <a:chOff x="1219320" y="2975400"/>
            <a:chExt cx="4992120" cy="764280"/>
          </a:xfrm>
        </p:grpSpPr>
        <p:sp>
          <p:nvSpPr>
            <p:cNvPr id="1441" name=""/>
            <p:cNvSpPr/>
            <p:nvPr/>
          </p:nvSpPr>
          <p:spPr>
            <a:xfrm>
              <a:off x="1754280" y="2975400"/>
              <a:ext cx="445716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itiiert, unterstützt und koordinier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n Entstehungsprozess</a:t>
              </a:r>
              <a:endParaRPr b="0" lang="en-US" sz="2200" spc="-1" strike="noStrike">
                <a:solidFill>
                  <a:srgbClr val="000000"/>
                </a:solidFill>
                <a:latin typeface="Times New Roman"/>
              </a:endParaRPr>
            </a:p>
          </p:txBody>
        </p:sp>
        <p:sp>
          <p:nvSpPr>
            <p:cNvPr id="1442" name=""/>
            <p:cNvSpPr/>
            <p:nvPr/>
          </p:nvSpPr>
          <p:spPr>
            <a:xfrm>
              <a:off x="1219320" y="3352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219320" y="3961440"/>
            <a:ext cx="5705280" cy="429120"/>
            <a:chOff x="1219320" y="3961440"/>
            <a:chExt cx="5705280" cy="429120"/>
          </a:xfrm>
        </p:grpSpPr>
        <p:sp>
          <p:nvSpPr>
            <p:cNvPr id="1444" name=""/>
            <p:cNvSpPr/>
            <p:nvPr/>
          </p:nvSpPr>
          <p:spPr>
            <a:xfrm>
              <a:off x="1755720" y="3961440"/>
              <a:ext cx="51688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orgt für Rechtmäßigkeit und Kontinuität</a:t>
              </a:r>
              <a:endParaRPr b="0" lang="en-US" sz="2200" spc="-1" strike="noStrike">
                <a:solidFill>
                  <a:srgbClr val="000000"/>
                </a:solidFill>
                <a:latin typeface="Times New Roman"/>
              </a:endParaRPr>
            </a:p>
          </p:txBody>
        </p:sp>
        <p:sp>
          <p:nvSpPr>
            <p:cNvPr id="1445" name=""/>
            <p:cNvSpPr/>
            <p:nvPr/>
          </p:nvSpPr>
          <p:spPr>
            <a:xfrm>
              <a:off x="1219320" y="4206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6" name=""/>
          <p:cNvGrpSpPr/>
          <p:nvPr/>
        </p:nvGrpSpPr>
        <p:grpSpPr>
          <a:xfrm>
            <a:off x="1219320" y="4753440"/>
            <a:ext cx="6032520" cy="429120"/>
            <a:chOff x="1219320" y="4753440"/>
            <a:chExt cx="6032520" cy="429120"/>
          </a:xfrm>
        </p:grpSpPr>
        <p:sp>
          <p:nvSpPr>
            <p:cNvPr id="1447" name=""/>
            <p:cNvSpPr/>
            <p:nvPr/>
          </p:nvSpPr>
          <p:spPr>
            <a:xfrm>
              <a:off x="1753920" y="4753440"/>
              <a:ext cx="5497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st informell in Entscheidungen einbezogen</a:t>
              </a:r>
              <a:endParaRPr b="0" lang="en-US" sz="2200" spc="-1" strike="noStrike">
                <a:solidFill>
                  <a:srgbClr val="000000"/>
                </a:solidFill>
                <a:latin typeface="Times New Roman"/>
              </a:endParaRPr>
            </a:p>
          </p:txBody>
        </p:sp>
        <p:sp>
          <p:nvSpPr>
            <p:cNvPr id="1448" name=""/>
            <p:cNvSpPr/>
            <p:nvPr/>
          </p:nvSpPr>
          <p:spPr>
            <a:xfrm>
              <a:off x="1219320" y="4998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52" name="bmuk_sw" descr=""/>
          <p:cNvPicPr/>
          <p:nvPr/>
        </p:nvPicPr>
        <p:blipFill>
          <a:blip r:embed="rId1"/>
          <a:stretch/>
        </p:blipFill>
        <p:spPr>
          <a:xfrm>
            <a:off x="76320" y="0"/>
            <a:ext cx="1218960" cy="566640"/>
          </a:xfrm>
          <a:prstGeom prst="rect">
            <a:avLst/>
          </a:prstGeom>
          <a:ln w="0">
            <a:noFill/>
          </a:ln>
        </p:spPr>
      </p:pic>
      <p:sp>
        <p:nvSpPr>
          <p:cNvPr id="145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1622160" y="1446840"/>
            <a:ext cx="519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 übernimmt welche Aufgaben?</a:t>
            </a:r>
            <a:endParaRPr b="0" lang="en-US" sz="2400" spc="-1" strike="noStrike">
              <a:solidFill>
                <a:srgbClr val="000000"/>
              </a:solidFill>
              <a:latin typeface="Times New Roman"/>
            </a:endParaRPr>
          </a:p>
        </p:txBody>
      </p:sp>
      <p:grpSp>
        <p:nvGrpSpPr>
          <p:cNvPr id="1455" name=""/>
          <p:cNvGrpSpPr/>
          <p:nvPr/>
        </p:nvGrpSpPr>
        <p:grpSpPr>
          <a:xfrm>
            <a:off x="762120" y="2336400"/>
            <a:ext cx="7670520" cy="546120"/>
            <a:chOff x="762120" y="2336400"/>
            <a:chExt cx="7670520" cy="546120"/>
          </a:xfrm>
        </p:grpSpPr>
        <p:sp>
          <p:nvSpPr>
            <p:cNvPr id="1456" name=""/>
            <p:cNvSpPr/>
            <p:nvPr/>
          </p:nvSpPr>
          <p:spPr>
            <a:xfrm flipV="1">
              <a:off x="762120" y="2336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1767240" y="2377080"/>
              <a:ext cx="6665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chulforum / Schulgemeinschaftsausschuss</a:t>
              </a:r>
              <a:endParaRPr b="0" lang="en-US" sz="2400" spc="-1" strike="noStrike">
                <a:solidFill>
                  <a:srgbClr val="000000"/>
                </a:solidFill>
                <a:latin typeface="Times New Roman"/>
              </a:endParaRPr>
            </a:p>
          </p:txBody>
        </p:sp>
      </p:grpSp>
      <p:sp>
        <p:nvSpPr>
          <p:cNvPr id="145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4" name=""/>
          <p:cNvGrpSpPr/>
          <p:nvPr/>
        </p:nvGrpSpPr>
        <p:grpSpPr>
          <a:xfrm>
            <a:off x="1219320" y="3218400"/>
            <a:ext cx="4772880" cy="429120"/>
            <a:chOff x="1219320" y="3218400"/>
            <a:chExt cx="4772880" cy="429120"/>
          </a:xfrm>
        </p:grpSpPr>
        <p:sp>
          <p:nvSpPr>
            <p:cNvPr id="1465" name=""/>
            <p:cNvSpPr/>
            <p:nvPr/>
          </p:nvSpPr>
          <p:spPr>
            <a:xfrm>
              <a:off x="1754640" y="3218400"/>
              <a:ext cx="42375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etzt Qualitäts-Arbeitsgruppe ein</a:t>
              </a:r>
              <a:endParaRPr b="0" lang="en-US" sz="2200" spc="-1" strike="noStrike">
                <a:solidFill>
                  <a:srgbClr val="000000"/>
                </a:solidFill>
                <a:latin typeface="Times New Roman"/>
              </a:endParaRPr>
            </a:p>
          </p:txBody>
        </p:sp>
        <p:sp>
          <p:nvSpPr>
            <p:cNvPr id="1466" name=""/>
            <p:cNvSpPr/>
            <p:nvPr/>
          </p:nvSpPr>
          <p:spPr>
            <a:xfrm>
              <a:off x="1219320" y="3429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1219320" y="3732840"/>
            <a:ext cx="7150680" cy="429120"/>
            <a:chOff x="1219320" y="3732840"/>
            <a:chExt cx="7150680" cy="429120"/>
          </a:xfrm>
        </p:grpSpPr>
        <p:sp>
          <p:nvSpPr>
            <p:cNvPr id="1468" name=""/>
            <p:cNvSpPr/>
            <p:nvPr/>
          </p:nvSpPr>
          <p:spPr>
            <a:xfrm>
              <a:off x="1756440" y="3732840"/>
              <a:ext cx="66135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chließt Inhalt und Art der Evaluationsmaßnahme</a:t>
              </a:r>
              <a:endParaRPr b="0" lang="en-US" sz="2200" spc="-1" strike="noStrike">
                <a:solidFill>
                  <a:srgbClr val="000000"/>
                </a:solidFill>
                <a:latin typeface="Times New Roman"/>
              </a:endParaRPr>
            </a:p>
          </p:txBody>
        </p:sp>
        <p:sp>
          <p:nvSpPr>
            <p:cNvPr id="1469" name=""/>
            <p:cNvSpPr/>
            <p:nvPr/>
          </p:nvSpPr>
          <p:spPr>
            <a:xfrm>
              <a:off x="1219320" y="3978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0" name=""/>
          <p:cNvGrpSpPr/>
          <p:nvPr/>
        </p:nvGrpSpPr>
        <p:grpSpPr>
          <a:xfrm>
            <a:off x="1219320" y="4296240"/>
            <a:ext cx="5752440" cy="429120"/>
            <a:chOff x="1219320" y="4296240"/>
            <a:chExt cx="5752440" cy="429120"/>
          </a:xfrm>
        </p:grpSpPr>
        <p:sp>
          <p:nvSpPr>
            <p:cNvPr id="1471" name=""/>
            <p:cNvSpPr/>
            <p:nvPr/>
          </p:nvSpPr>
          <p:spPr>
            <a:xfrm>
              <a:off x="1754280" y="4296240"/>
              <a:ext cx="52174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teilt Bericht an die Schulpartner/innen</a:t>
              </a:r>
              <a:endParaRPr b="0" lang="en-US" sz="2200" spc="-1" strike="noStrike">
                <a:solidFill>
                  <a:srgbClr val="000000"/>
                </a:solidFill>
                <a:latin typeface="Times New Roman"/>
              </a:endParaRPr>
            </a:p>
          </p:txBody>
        </p:sp>
        <p:sp>
          <p:nvSpPr>
            <p:cNvPr id="1472" name=""/>
            <p:cNvSpPr/>
            <p:nvPr/>
          </p:nvSpPr>
          <p:spPr>
            <a:xfrm>
              <a:off x="1219320" y="4541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3" name=""/>
          <p:cNvGrpSpPr/>
          <p:nvPr/>
        </p:nvGrpSpPr>
        <p:grpSpPr>
          <a:xfrm>
            <a:off x="1227240" y="4829760"/>
            <a:ext cx="6249600" cy="429120"/>
            <a:chOff x="1227240" y="4829760"/>
            <a:chExt cx="6249600" cy="429120"/>
          </a:xfrm>
        </p:grpSpPr>
        <p:sp>
          <p:nvSpPr>
            <p:cNvPr id="1474" name=""/>
            <p:cNvSpPr/>
            <p:nvPr/>
          </p:nvSpPr>
          <p:spPr>
            <a:xfrm>
              <a:off x="1764000" y="4829760"/>
              <a:ext cx="5712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chließt und veröffentlicht Schulprogramm</a:t>
              </a:r>
              <a:endParaRPr b="0" lang="en-US" sz="2200" spc="-1" strike="noStrike">
                <a:solidFill>
                  <a:srgbClr val="000000"/>
                </a:solidFill>
                <a:latin typeface="Times New Roman"/>
              </a:endParaRPr>
            </a:p>
          </p:txBody>
        </p:sp>
        <p:sp>
          <p:nvSpPr>
            <p:cNvPr id="1475" name=""/>
            <p:cNvSpPr/>
            <p:nvPr/>
          </p:nvSpPr>
          <p:spPr>
            <a:xfrm>
              <a:off x="1227240" y="5074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7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0" y="609480"/>
            <a:ext cx="54100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
          <p:cNvSpPr/>
          <p:nvPr/>
        </p:nvSpPr>
        <p:spPr>
          <a:xfrm>
            <a:off x="76320" y="609480"/>
            <a:ext cx="5333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 und  Selbstevalu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0" name="bmuk_sw" descr=""/>
          <p:cNvPicPr/>
          <p:nvPr/>
        </p:nvPicPr>
        <p:blipFill>
          <a:blip r:embed="rId1"/>
          <a:stretch/>
        </p:blipFill>
        <p:spPr>
          <a:xfrm>
            <a:off x="76320" y="0"/>
            <a:ext cx="1218960" cy="566640"/>
          </a:xfrm>
          <a:prstGeom prst="rect">
            <a:avLst/>
          </a:prstGeom>
          <a:ln w="0">
            <a:noFill/>
          </a:ln>
        </p:spPr>
      </p:pic>
      <p:sp>
        <p:nvSpPr>
          <p:cNvPr id="148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622160" y="1446840"/>
            <a:ext cx="519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 übernimmt welche Aufgaben?</a:t>
            </a:r>
            <a:endParaRPr b="0" lang="en-US" sz="2400" spc="-1" strike="noStrike">
              <a:solidFill>
                <a:srgbClr val="000000"/>
              </a:solidFill>
              <a:latin typeface="Times New Roman"/>
            </a:endParaRPr>
          </a:p>
        </p:txBody>
      </p:sp>
      <p:grpSp>
        <p:nvGrpSpPr>
          <p:cNvPr id="1483" name=""/>
          <p:cNvGrpSpPr/>
          <p:nvPr/>
        </p:nvGrpSpPr>
        <p:grpSpPr>
          <a:xfrm>
            <a:off x="762120" y="2336400"/>
            <a:ext cx="5571000" cy="546120"/>
            <a:chOff x="762120" y="2336400"/>
            <a:chExt cx="5571000" cy="546120"/>
          </a:xfrm>
        </p:grpSpPr>
        <p:sp>
          <p:nvSpPr>
            <p:cNvPr id="1484" name=""/>
            <p:cNvSpPr/>
            <p:nvPr/>
          </p:nvSpPr>
          <p:spPr>
            <a:xfrm flipV="1">
              <a:off x="762120" y="2336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1764720" y="2377080"/>
              <a:ext cx="4568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bteilungsleiter/innen (BMHS)</a:t>
              </a:r>
              <a:endParaRPr b="0" lang="en-US" sz="2400" spc="-1" strike="noStrike">
                <a:solidFill>
                  <a:srgbClr val="000000"/>
                </a:solidFill>
                <a:latin typeface="Times New Roman"/>
              </a:endParaRPr>
            </a:p>
          </p:txBody>
        </p:sp>
      </p:grpSp>
      <p:sp>
        <p:nvSpPr>
          <p:cNvPr id="148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2" name=""/>
          <p:cNvGrpSpPr/>
          <p:nvPr/>
        </p:nvGrpSpPr>
        <p:grpSpPr>
          <a:xfrm>
            <a:off x="1219320" y="4388400"/>
            <a:ext cx="4975920" cy="1099440"/>
            <a:chOff x="1219320" y="4388400"/>
            <a:chExt cx="4975920" cy="1099440"/>
          </a:xfrm>
        </p:grpSpPr>
        <p:sp>
          <p:nvSpPr>
            <p:cNvPr id="1493" name=""/>
            <p:cNvSpPr/>
            <p:nvPr/>
          </p:nvSpPr>
          <p:spPr>
            <a:xfrm>
              <a:off x="1755000" y="4388400"/>
              <a:ext cx="4440240" cy="1099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treten Abteilungs-Interessen 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ehrer/innen-Konferenz u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partnerschaftlichen Gremien</a:t>
              </a:r>
              <a:endParaRPr b="0" lang="en-US" sz="2200" spc="-1" strike="noStrike">
                <a:solidFill>
                  <a:srgbClr val="000000"/>
                </a:solidFill>
                <a:latin typeface="Times New Roman"/>
              </a:endParaRPr>
            </a:p>
          </p:txBody>
        </p:sp>
        <p:sp>
          <p:nvSpPr>
            <p:cNvPr id="1494" name=""/>
            <p:cNvSpPr/>
            <p:nvPr/>
          </p:nvSpPr>
          <p:spPr>
            <a:xfrm>
              <a:off x="1219320" y="4967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9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1219320" y="3356640"/>
            <a:ext cx="6204960" cy="764280"/>
            <a:chOff x="1219320" y="3356640"/>
            <a:chExt cx="6204960" cy="764280"/>
          </a:xfrm>
        </p:grpSpPr>
        <p:sp>
          <p:nvSpPr>
            <p:cNvPr id="1498" name=""/>
            <p:cNvSpPr/>
            <p:nvPr/>
          </p:nvSpPr>
          <p:spPr>
            <a:xfrm>
              <a:off x="1754280" y="3356640"/>
              <a:ext cx="56700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itiieren und organisieren abteilungsintern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einungsbildung</a:t>
              </a:r>
              <a:endParaRPr b="0" lang="en-US" sz="2200" spc="-1" strike="noStrike">
                <a:solidFill>
                  <a:srgbClr val="000000"/>
                </a:solidFill>
                <a:latin typeface="Times New Roman"/>
              </a:endParaRPr>
            </a:p>
          </p:txBody>
        </p:sp>
        <p:sp>
          <p:nvSpPr>
            <p:cNvPr id="1499" name=""/>
            <p:cNvSpPr/>
            <p:nvPr/>
          </p:nvSpPr>
          <p:spPr>
            <a:xfrm>
              <a:off x="1219320" y="3733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00" name=""/>
          <p:cNvSpPr/>
          <p:nvPr/>
        </p:nvSpPr>
        <p:spPr>
          <a:xfrm>
            <a:off x="0" y="609480"/>
            <a:ext cx="54100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
          <p:cNvSpPr/>
          <p:nvPr/>
        </p:nvSpPr>
        <p:spPr>
          <a:xfrm>
            <a:off x="76320" y="609480"/>
            <a:ext cx="5333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 und  Selbstevalu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3" name="bmuk_sw" descr=""/>
          <p:cNvPicPr/>
          <p:nvPr/>
        </p:nvPicPr>
        <p:blipFill>
          <a:blip r:embed="rId1"/>
          <a:stretch/>
        </p:blipFill>
        <p:spPr>
          <a:xfrm>
            <a:off x="76320" y="0"/>
            <a:ext cx="1218960" cy="566640"/>
          </a:xfrm>
          <a:prstGeom prst="rect">
            <a:avLst/>
          </a:prstGeom>
          <a:ln w="0">
            <a:noFill/>
          </a:ln>
        </p:spPr>
      </p:pic>
      <p:sp>
        <p:nvSpPr>
          <p:cNvPr id="150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1622160" y="1446840"/>
            <a:ext cx="519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 übernimmt welche Aufgaben?</a:t>
            </a:r>
            <a:endParaRPr b="0" lang="en-US" sz="2400" spc="-1" strike="noStrike">
              <a:solidFill>
                <a:srgbClr val="000000"/>
              </a:solidFill>
              <a:latin typeface="Times New Roman"/>
            </a:endParaRPr>
          </a:p>
        </p:txBody>
      </p:sp>
      <p:grpSp>
        <p:nvGrpSpPr>
          <p:cNvPr id="1506" name=""/>
          <p:cNvGrpSpPr/>
          <p:nvPr/>
        </p:nvGrpSpPr>
        <p:grpSpPr>
          <a:xfrm>
            <a:off x="762120" y="2336400"/>
            <a:ext cx="4622400" cy="546120"/>
            <a:chOff x="762120" y="2336400"/>
            <a:chExt cx="4622400" cy="546120"/>
          </a:xfrm>
        </p:grpSpPr>
        <p:sp>
          <p:nvSpPr>
            <p:cNvPr id="1507" name=""/>
            <p:cNvSpPr/>
            <p:nvPr/>
          </p:nvSpPr>
          <p:spPr>
            <a:xfrm flipV="1">
              <a:off x="762120" y="2336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1767240" y="2377080"/>
              <a:ext cx="3617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hrer/innen-Konferenz</a:t>
              </a:r>
              <a:endParaRPr b="0" lang="en-US" sz="2400" spc="-1" strike="noStrike">
                <a:solidFill>
                  <a:srgbClr val="000000"/>
                </a:solidFill>
                <a:latin typeface="Times New Roman"/>
              </a:endParaRPr>
            </a:p>
          </p:txBody>
        </p:sp>
      </p:grpSp>
      <p:sp>
        <p:nvSpPr>
          <p:cNvPr id="1509"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5" name=""/>
          <p:cNvGrpSpPr/>
          <p:nvPr/>
        </p:nvGrpSpPr>
        <p:grpSpPr>
          <a:xfrm>
            <a:off x="1219320" y="3142080"/>
            <a:ext cx="6808680" cy="429120"/>
            <a:chOff x="1219320" y="3142080"/>
            <a:chExt cx="6808680" cy="429120"/>
          </a:xfrm>
        </p:grpSpPr>
        <p:sp>
          <p:nvSpPr>
            <p:cNvPr id="1516" name=""/>
            <p:cNvSpPr/>
            <p:nvPr/>
          </p:nvSpPr>
          <p:spPr>
            <a:xfrm>
              <a:off x="1755720" y="3142080"/>
              <a:ext cx="62722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skutiert Ergebnisse der Evaluationsmaßnahme </a:t>
              </a:r>
              <a:endParaRPr b="0" lang="en-US" sz="2200" spc="-1" strike="noStrike">
                <a:solidFill>
                  <a:srgbClr val="000000"/>
                </a:solidFill>
                <a:latin typeface="Times New Roman"/>
              </a:endParaRPr>
            </a:p>
          </p:txBody>
        </p:sp>
        <p:sp>
          <p:nvSpPr>
            <p:cNvPr id="1517" name=""/>
            <p:cNvSpPr/>
            <p:nvPr/>
          </p:nvSpPr>
          <p:spPr>
            <a:xfrm>
              <a:off x="1219320" y="3352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8" name=""/>
          <p:cNvGrpSpPr/>
          <p:nvPr/>
        </p:nvGrpSpPr>
        <p:grpSpPr>
          <a:xfrm>
            <a:off x="1219320" y="3961440"/>
            <a:ext cx="6964560" cy="429120"/>
            <a:chOff x="1219320" y="3961440"/>
            <a:chExt cx="6964560" cy="429120"/>
          </a:xfrm>
        </p:grpSpPr>
        <p:sp>
          <p:nvSpPr>
            <p:cNvPr id="1519" name=""/>
            <p:cNvSpPr/>
            <p:nvPr/>
          </p:nvSpPr>
          <p:spPr>
            <a:xfrm>
              <a:off x="1756440" y="3961440"/>
              <a:ext cx="64274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rät und verabschiedet Vorhaben zur Umsetzung</a:t>
              </a:r>
              <a:endParaRPr b="0" lang="en-US" sz="2200" spc="-1" strike="noStrike">
                <a:solidFill>
                  <a:srgbClr val="000000"/>
                </a:solidFill>
                <a:latin typeface="Times New Roman"/>
              </a:endParaRPr>
            </a:p>
          </p:txBody>
        </p:sp>
        <p:sp>
          <p:nvSpPr>
            <p:cNvPr id="1520" name=""/>
            <p:cNvSpPr/>
            <p:nvPr/>
          </p:nvSpPr>
          <p:spPr>
            <a:xfrm>
              <a:off x="1219320" y="4206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1" name=""/>
          <p:cNvGrpSpPr/>
          <p:nvPr/>
        </p:nvGrpSpPr>
        <p:grpSpPr>
          <a:xfrm>
            <a:off x="1219320" y="4753440"/>
            <a:ext cx="6249600" cy="429120"/>
            <a:chOff x="1219320" y="4753440"/>
            <a:chExt cx="6249600" cy="429120"/>
          </a:xfrm>
        </p:grpSpPr>
        <p:sp>
          <p:nvSpPr>
            <p:cNvPr id="1522" name=""/>
            <p:cNvSpPr/>
            <p:nvPr/>
          </p:nvSpPr>
          <p:spPr>
            <a:xfrm>
              <a:off x="1756080" y="4753440"/>
              <a:ext cx="57128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skutiert und verabschiedet Schulprogramm</a:t>
              </a:r>
              <a:endParaRPr b="0" lang="en-US" sz="2200" spc="-1" strike="noStrike">
                <a:solidFill>
                  <a:srgbClr val="000000"/>
                </a:solidFill>
                <a:latin typeface="Times New Roman"/>
              </a:endParaRPr>
            </a:p>
          </p:txBody>
        </p:sp>
        <p:sp>
          <p:nvSpPr>
            <p:cNvPr id="1523" name=""/>
            <p:cNvSpPr/>
            <p:nvPr/>
          </p:nvSpPr>
          <p:spPr>
            <a:xfrm>
              <a:off x="1219320" y="4998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2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0" y="609480"/>
            <a:ext cx="54100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76320" y="609480"/>
            <a:ext cx="5333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 und  Selbstevalu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9" name="bmuk_sw" descr=""/>
          <p:cNvPicPr/>
          <p:nvPr/>
        </p:nvPicPr>
        <p:blipFill>
          <a:blip r:embed="rId1"/>
          <a:stretch/>
        </p:blipFill>
        <p:spPr>
          <a:xfrm>
            <a:off x="76320" y="0"/>
            <a:ext cx="1218960" cy="566640"/>
          </a:xfrm>
          <a:prstGeom prst="rect">
            <a:avLst/>
          </a:prstGeom>
          <a:ln w="0">
            <a:noFill/>
          </a:ln>
        </p:spPr>
      </p:pic>
      <p:sp>
        <p:nvSpPr>
          <p:cNvPr id="153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1622160" y="1446840"/>
            <a:ext cx="5194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er übernimmt welche Aufgaben?</a:t>
            </a:r>
            <a:endParaRPr b="0" lang="en-US" sz="2400" spc="-1" strike="noStrike">
              <a:solidFill>
                <a:srgbClr val="000000"/>
              </a:solidFill>
              <a:latin typeface="Times New Roman"/>
            </a:endParaRPr>
          </a:p>
        </p:txBody>
      </p:sp>
      <p:grpSp>
        <p:nvGrpSpPr>
          <p:cNvPr id="1532" name=""/>
          <p:cNvGrpSpPr/>
          <p:nvPr/>
        </p:nvGrpSpPr>
        <p:grpSpPr>
          <a:xfrm>
            <a:off x="762120" y="2336400"/>
            <a:ext cx="4674240" cy="546120"/>
            <a:chOff x="762120" y="2336400"/>
            <a:chExt cx="4674240" cy="546120"/>
          </a:xfrm>
        </p:grpSpPr>
        <p:sp>
          <p:nvSpPr>
            <p:cNvPr id="1533" name=""/>
            <p:cNvSpPr/>
            <p:nvPr/>
          </p:nvSpPr>
          <p:spPr>
            <a:xfrm flipV="1">
              <a:off x="762120" y="233604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1765800" y="2377080"/>
              <a:ext cx="3670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Qualitäts-Arbeitsgruppe</a:t>
              </a:r>
              <a:endParaRPr b="0" lang="en-US" sz="2400" spc="-1" strike="noStrike">
                <a:solidFill>
                  <a:srgbClr val="000000"/>
                </a:solidFill>
                <a:latin typeface="Times New Roman"/>
              </a:endParaRPr>
            </a:p>
          </p:txBody>
        </p:sp>
      </p:grpSp>
      <p:sp>
        <p:nvSpPr>
          <p:cNvPr id="1535" name=""/>
          <p:cNvSpPr/>
          <p:nvPr/>
        </p:nvSpPr>
        <p:spPr>
          <a:xfrm>
            <a:off x="1755360" y="3142080"/>
            <a:ext cx="45774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cht Vorschläge, erstellt Entwürfe</a:t>
            </a:r>
            <a:endParaRPr b="0" lang="en-US" sz="2200" spc="-1" strike="noStrike">
              <a:solidFill>
                <a:srgbClr val="000000"/>
              </a:solidFill>
              <a:latin typeface="Times New Roman"/>
            </a:endParaRPr>
          </a:p>
        </p:txBody>
      </p:sp>
      <p:sp>
        <p:nvSpPr>
          <p:cNvPr id="153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219320" y="3352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3" name=""/>
          <p:cNvGrpSpPr/>
          <p:nvPr/>
        </p:nvGrpSpPr>
        <p:grpSpPr>
          <a:xfrm>
            <a:off x="1219320" y="3959640"/>
            <a:ext cx="6841080" cy="429120"/>
            <a:chOff x="1219320" y="3959640"/>
            <a:chExt cx="6841080" cy="429120"/>
          </a:xfrm>
        </p:grpSpPr>
        <p:sp>
          <p:nvSpPr>
            <p:cNvPr id="1544" name=""/>
            <p:cNvSpPr/>
            <p:nvPr/>
          </p:nvSpPr>
          <p:spPr>
            <a:xfrm>
              <a:off x="1756080" y="3959640"/>
              <a:ext cx="63043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ührt Datenerhebungen durch bzw. organisiert sie</a:t>
              </a:r>
              <a:endParaRPr b="0" lang="en-US" sz="2200" spc="-1" strike="noStrike">
                <a:solidFill>
                  <a:srgbClr val="000000"/>
                </a:solidFill>
                <a:latin typeface="Times New Roman"/>
              </a:endParaRPr>
            </a:p>
          </p:txBody>
        </p:sp>
        <p:sp>
          <p:nvSpPr>
            <p:cNvPr id="1545" name=""/>
            <p:cNvSpPr/>
            <p:nvPr/>
          </p:nvSpPr>
          <p:spPr>
            <a:xfrm>
              <a:off x="1219320" y="4206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6" name=""/>
          <p:cNvGrpSpPr/>
          <p:nvPr/>
        </p:nvGrpSpPr>
        <p:grpSpPr>
          <a:xfrm>
            <a:off x="1219320" y="4585320"/>
            <a:ext cx="5238720" cy="764280"/>
            <a:chOff x="1219320" y="4585320"/>
            <a:chExt cx="5238720" cy="764280"/>
          </a:xfrm>
        </p:grpSpPr>
        <p:sp>
          <p:nvSpPr>
            <p:cNvPr id="1547" name=""/>
            <p:cNvSpPr/>
            <p:nvPr/>
          </p:nvSpPr>
          <p:spPr>
            <a:xfrm>
              <a:off x="1755720" y="4585320"/>
              <a:ext cx="47023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ammelt und verdichtet Ergebniss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reitet Entscheidungen vor</a:t>
              </a:r>
              <a:endParaRPr b="0" lang="en-US" sz="2200" spc="-1" strike="noStrike">
                <a:solidFill>
                  <a:srgbClr val="000000"/>
                </a:solidFill>
                <a:latin typeface="Times New Roman"/>
              </a:endParaRPr>
            </a:p>
          </p:txBody>
        </p:sp>
        <p:sp>
          <p:nvSpPr>
            <p:cNvPr id="1548" name=""/>
            <p:cNvSpPr/>
            <p:nvPr/>
          </p:nvSpPr>
          <p:spPr>
            <a:xfrm>
              <a:off x="1219320" y="4998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0" y="609480"/>
            <a:ext cx="541008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
          <p:cNvSpPr/>
          <p:nvPr/>
        </p:nvSpPr>
        <p:spPr>
          <a:xfrm>
            <a:off x="76320" y="609480"/>
            <a:ext cx="53337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Schulprogramm und  Selbstevalu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3" name="bmuk_sw" descr=""/>
          <p:cNvPicPr/>
          <p:nvPr/>
        </p:nvPicPr>
        <p:blipFill>
          <a:blip r:embed="rId1"/>
          <a:stretch/>
        </p:blipFill>
        <p:spPr>
          <a:xfrm>
            <a:off x="76320" y="0"/>
            <a:ext cx="1218960" cy="566640"/>
          </a:xfrm>
          <a:prstGeom prst="rect">
            <a:avLst/>
          </a:prstGeom>
          <a:ln w="0">
            <a:noFill/>
          </a:ln>
        </p:spPr>
      </p:pic>
      <p:sp>
        <p:nvSpPr>
          <p:cNvPr id="155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grpSp>
        <p:nvGrpSpPr>
          <p:cNvPr id="1563" name=""/>
          <p:cNvGrpSpPr/>
          <p:nvPr/>
        </p:nvGrpSpPr>
        <p:grpSpPr>
          <a:xfrm>
            <a:off x="1220760" y="1675440"/>
            <a:ext cx="4608360" cy="595800"/>
            <a:chOff x="1220760" y="1675440"/>
            <a:chExt cx="4608360" cy="595800"/>
          </a:xfrm>
        </p:grpSpPr>
        <p:sp>
          <p:nvSpPr>
            <p:cNvPr id="1564" name=""/>
            <p:cNvSpPr/>
            <p:nvPr/>
          </p:nvSpPr>
          <p:spPr>
            <a:xfrm>
              <a:off x="1220760" y="167544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0000"/>
                </a:solidFill>
                <a:latin typeface="Times New Roman"/>
              </a:endParaRPr>
            </a:p>
          </p:txBody>
        </p:sp>
        <p:sp>
          <p:nvSpPr>
            <p:cNvPr id="1565" name=""/>
            <p:cNvSpPr/>
            <p:nvPr/>
          </p:nvSpPr>
          <p:spPr>
            <a:xfrm>
              <a:off x="2134080" y="1842120"/>
              <a:ext cx="369504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ahl des richtigen Einstiegs</a:t>
              </a:r>
              <a:endParaRPr b="0" lang="en-US" sz="2200" spc="-1" strike="noStrike">
                <a:solidFill>
                  <a:srgbClr val="000000"/>
                </a:solidFill>
                <a:latin typeface="Times New Roman"/>
              </a:endParaRPr>
            </a:p>
          </p:txBody>
        </p:sp>
      </p:grpSp>
      <p:grpSp>
        <p:nvGrpSpPr>
          <p:cNvPr id="1566" name=""/>
          <p:cNvGrpSpPr/>
          <p:nvPr/>
        </p:nvGrpSpPr>
        <p:grpSpPr>
          <a:xfrm>
            <a:off x="1220760" y="4647240"/>
            <a:ext cx="4263840" cy="764280"/>
            <a:chOff x="1220760" y="4647240"/>
            <a:chExt cx="4263840" cy="764280"/>
          </a:xfrm>
        </p:grpSpPr>
        <p:sp>
          <p:nvSpPr>
            <p:cNvPr id="1567" name=""/>
            <p:cNvSpPr/>
            <p:nvPr/>
          </p:nvSpPr>
          <p:spPr>
            <a:xfrm>
              <a:off x="1220760" y="466164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0000"/>
                </a:solidFill>
                <a:latin typeface="Times New Roman"/>
              </a:endParaRPr>
            </a:p>
          </p:txBody>
        </p:sp>
        <p:sp>
          <p:nvSpPr>
            <p:cNvPr id="1568" name=""/>
            <p:cNvSpPr/>
            <p:nvPr/>
          </p:nvSpPr>
          <p:spPr>
            <a:xfrm>
              <a:off x="2225520" y="4647240"/>
              <a:ext cx="3259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eignete Arbeits- un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scheidungsstrukturen</a:t>
              </a:r>
              <a:endParaRPr b="0" lang="en-US" sz="2200" spc="-1" strike="noStrike">
                <a:solidFill>
                  <a:srgbClr val="000000"/>
                </a:solidFill>
                <a:latin typeface="Times New Roman"/>
              </a:endParaRPr>
            </a:p>
          </p:txBody>
        </p:sp>
      </p:grpSp>
      <p:grpSp>
        <p:nvGrpSpPr>
          <p:cNvPr id="1569" name=""/>
          <p:cNvGrpSpPr/>
          <p:nvPr/>
        </p:nvGrpSpPr>
        <p:grpSpPr>
          <a:xfrm>
            <a:off x="1220760" y="3580200"/>
            <a:ext cx="4721040" cy="764280"/>
            <a:chOff x="1220760" y="3580200"/>
            <a:chExt cx="4721040" cy="764280"/>
          </a:xfrm>
        </p:grpSpPr>
        <p:sp>
          <p:nvSpPr>
            <p:cNvPr id="1570" name=""/>
            <p:cNvSpPr/>
            <p:nvPr/>
          </p:nvSpPr>
          <p:spPr>
            <a:xfrm>
              <a:off x="1220760" y="365688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0000"/>
                </a:solidFill>
                <a:latin typeface="Times New Roman"/>
              </a:endParaRPr>
            </a:p>
          </p:txBody>
        </p:sp>
        <p:sp>
          <p:nvSpPr>
            <p:cNvPr id="1571" name=""/>
            <p:cNvSpPr/>
            <p:nvPr/>
          </p:nvSpPr>
          <p:spPr>
            <a:xfrm>
              <a:off x="2185920" y="3580200"/>
              <a:ext cx="37558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nstruktiver Umgang mi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derständen und Konflikten</a:t>
              </a:r>
              <a:endParaRPr b="0" lang="en-US" sz="2200" spc="-1" strike="noStrike">
                <a:solidFill>
                  <a:srgbClr val="000000"/>
                </a:solidFill>
                <a:latin typeface="Times New Roman"/>
              </a:endParaRPr>
            </a:p>
          </p:txBody>
        </p:sp>
      </p:grpSp>
      <p:grpSp>
        <p:nvGrpSpPr>
          <p:cNvPr id="1572" name=""/>
          <p:cNvGrpSpPr/>
          <p:nvPr/>
        </p:nvGrpSpPr>
        <p:grpSpPr>
          <a:xfrm>
            <a:off x="1220760" y="2696400"/>
            <a:ext cx="4708080" cy="581400"/>
            <a:chOff x="1220760" y="2696400"/>
            <a:chExt cx="4708080" cy="581400"/>
          </a:xfrm>
        </p:grpSpPr>
        <p:sp>
          <p:nvSpPr>
            <p:cNvPr id="1573" name=""/>
            <p:cNvSpPr/>
            <p:nvPr/>
          </p:nvSpPr>
          <p:spPr>
            <a:xfrm>
              <a:off x="1220760" y="269640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0000"/>
                </a:solidFill>
                <a:latin typeface="Times New Roman"/>
              </a:endParaRPr>
            </a:p>
          </p:txBody>
        </p:sp>
        <p:sp>
          <p:nvSpPr>
            <p:cNvPr id="1574" name=""/>
            <p:cNvSpPr/>
            <p:nvPr/>
          </p:nvSpPr>
          <p:spPr>
            <a:xfrm>
              <a:off x="2188080" y="2848680"/>
              <a:ext cx="374076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ktive Rolle der Schulleitung</a:t>
              </a:r>
              <a:endParaRPr b="0" lang="en-US" sz="2200" spc="-1" strike="noStrike">
                <a:solidFill>
                  <a:srgbClr val="000000"/>
                </a:solidFill>
                <a:latin typeface="Times New Roman"/>
              </a:endParaRPr>
            </a:p>
          </p:txBody>
        </p:sp>
      </p:grpSp>
      <p:sp>
        <p:nvSpPr>
          <p:cNvPr id="157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7" name="bmuk_sw" descr=""/>
          <p:cNvPicPr/>
          <p:nvPr/>
        </p:nvPicPr>
        <p:blipFill>
          <a:blip r:embed="rId1"/>
          <a:stretch/>
        </p:blipFill>
        <p:spPr>
          <a:xfrm>
            <a:off x="76320" y="0"/>
            <a:ext cx="1218960" cy="566640"/>
          </a:xfrm>
          <a:prstGeom prst="rect">
            <a:avLst/>
          </a:prstGeom>
          <a:ln w="0">
            <a:noFill/>
          </a:ln>
        </p:spPr>
      </p:pic>
      <p:sp>
        <p:nvSpPr>
          <p:cNvPr id="157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grpSp>
        <p:nvGrpSpPr>
          <p:cNvPr id="1587" name=""/>
          <p:cNvGrpSpPr/>
          <p:nvPr/>
        </p:nvGrpSpPr>
        <p:grpSpPr>
          <a:xfrm>
            <a:off x="1220760" y="1675440"/>
            <a:ext cx="7309800" cy="611640"/>
            <a:chOff x="1220760" y="1675440"/>
            <a:chExt cx="7309800" cy="611640"/>
          </a:xfrm>
        </p:grpSpPr>
        <p:sp>
          <p:nvSpPr>
            <p:cNvPr id="1588" name=""/>
            <p:cNvSpPr/>
            <p:nvPr/>
          </p:nvSpPr>
          <p:spPr>
            <a:xfrm>
              <a:off x="1220760" y="167544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a:t>
              </a:r>
              <a:endParaRPr b="0" lang="en-US" sz="3200" spc="-1" strike="noStrike">
                <a:solidFill>
                  <a:srgbClr val="000000"/>
                </a:solidFill>
                <a:latin typeface="Times New Roman"/>
              </a:endParaRPr>
            </a:p>
          </p:txBody>
        </p:sp>
        <p:sp>
          <p:nvSpPr>
            <p:cNvPr id="1589" name=""/>
            <p:cNvSpPr/>
            <p:nvPr/>
          </p:nvSpPr>
          <p:spPr>
            <a:xfrm>
              <a:off x="2185200" y="1857960"/>
              <a:ext cx="63453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pielregeln" und Techniken der Zusammenarbeit</a:t>
              </a:r>
              <a:endParaRPr b="0" lang="en-US" sz="2200" spc="-1" strike="noStrike">
                <a:solidFill>
                  <a:srgbClr val="000000"/>
                </a:solidFill>
                <a:latin typeface="Times New Roman"/>
              </a:endParaRPr>
            </a:p>
          </p:txBody>
        </p:sp>
      </p:grpSp>
      <p:grpSp>
        <p:nvGrpSpPr>
          <p:cNvPr id="1590" name=""/>
          <p:cNvGrpSpPr/>
          <p:nvPr/>
        </p:nvGrpSpPr>
        <p:grpSpPr>
          <a:xfrm>
            <a:off x="1220760" y="4661640"/>
            <a:ext cx="5862600" cy="581400"/>
            <a:chOff x="1220760" y="4661640"/>
            <a:chExt cx="5862600" cy="581400"/>
          </a:xfrm>
        </p:grpSpPr>
        <p:sp>
          <p:nvSpPr>
            <p:cNvPr id="1591" name=""/>
            <p:cNvSpPr/>
            <p:nvPr/>
          </p:nvSpPr>
          <p:spPr>
            <a:xfrm>
              <a:off x="1220760" y="466164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a:t>
              </a:r>
              <a:endParaRPr b="0" lang="en-US" sz="3200" spc="-1" strike="noStrike">
                <a:solidFill>
                  <a:srgbClr val="000000"/>
                </a:solidFill>
                <a:latin typeface="Times New Roman"/>
              </a:endParaRPr>
            </a:p>
          </p:txBody>
        </p:sp>
        <p:sp>
          <p:nvSpPr>
            <p:cNvPr id="1592" name=""/>
            <p:cNvSpPr/>
            <p:nvPr/>
          </p:nvSpPr>
          <p:spPr>
            <a:xfrm>
              <a:off x="2228400" y="4813920"/>
              <a:ext cx="4854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nünftiger Umgang mit Ressourcen</a:t>
              </a:r>
              <a:endParaRPr b="0" lang="en-US" sz="2200" spc="-1" strike="noStrike">
                <a:solidFill>
                  <a:srgbClr val="000000"/>
                </a:solidFill>
                <a:latin typeface="Times New Roman"/>
              </a:endParaRPr>
            </a:p>
          </p:txBody>
        </p:sp>
      </p:grpSp>
      <p:grpSp>
        <p:nvGrpSpPr>
          <p:cNvPr id="1593" name=""/>
          <p:cNvGrpSpPr/>
          <p:nvPr/>
        </p:nvGrpSpPr>
        <p:grpSpPr>
          <a:xfrm>
            <a:off x="1220760" y="3656880"/>
            <a:ext cx="7734960" cy="581400"/>
            <a:chOff x="1220760" y="3656880"/>
            <a:chExt cx="7734960" cy="581400"/>
          </a:xfrm>
        </p:grpSpPr>
        <p:sp>
          <p:nvSpPr>
            <p:cNvPr id="1594" name=""/>
            <p:cNvSpPr/>
            <p:nvPr/>
          </p:nvSpPr>
          <p:spPr>
            <a:xfrm>
              <a:off x="1220760" y="365688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a:t>
              </a:r>
              <a:endParaRPr b="0" lang="en-US" sz="3200" spc="-1" strike="noStrike">
                <a:solidFill>
                  <a:srgbClr val="000000"/>
                </a:solidFill>
                <a:latin typeface="Times New Roman"/>
              </a:endParaRPr>
            </a:p>
          </p:txBody>
        </p:sp>
        <p:sp>
          <p:nvSpPr>
            <p:cNvPr id="1595" name=""/>
            <p:cNvSpPr/>
            <p:nvPr/>
          </p:nvSpPr>
          <p:spPr>
            <a:xfrm>
              <a:off x="2188440" y="3763080"/>
              <a:ext cx="676728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hutsame Verwendung von Daten und Ergebnissen</a:t>
              </a:r>
              <a:endParaRPr b="0" lang="en-US" sz="2200" spc="-1" strike="noStrike">
                <a:solidFill>
                  <a:srgbClr val="000000"/>
                </a:solidFill>
                <a:latin typeface="Times New Roman"/>
              </a:endParaRPr>
            </a:p>
          </p:txBody>
        </p:sp>
      </p:grpSp>
      <p:grpSp>
        <p:nvGrpSpPr>
          <p:cNvPr id="1596" name=""/>
          <p:cNvGrpSpPr/>
          <p:nvPr/>
        </p:nvGrpSpPr>
        <p:grpSpPr>
          <a:xfrm>
            <a:off x="1220760" y="2696400"/>
            <a:ext cx="5019840" cy="581400"/>
            <a:chOff x="1220760" y="2696400"/>
            <a:chExt cx="5019840" cy="581400"/>
          </a:xfrm>
        </p:grpSpPr>
        <p:sp>
          <p:nvSpPr>
            <p:cNvPr id="1597" name=""/>
            <p:cNvSpPr/>
            <p:nvPr/>
          </p:nvSpPr>
          <p:spPr>
            <a:xfrm>
              <a:off x="1220760" y="2696400"/>
              <a:ext cx="406440" cy="581400"/>
            </a:xfrm>
            <a:prstGeom prst="rect">
              <a:avLst/>
            </a:prstGeom>
            <a:solidFill>
              <a:srgbClr val="3333cc"/>
            </a:solid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a:t>
              </a:r>
              <a:endParaRPr b="0" lang="en-US" sz="3200" spc="-1" strike="noStrike">
                <a:solidFill>
                  <a:srgbClr val="000000"/>
                </a:solidFill>
                <a:latin typeface="Times New Roman"/>
              </a:endParaRPr>
            </a:p>
          </p:txBody>
        </p:sp>
        <p:sp>
          <p:nvSpPr>
            <p:cNvPr id="1598" name=""/>
            <p:cNvSpPr/>
            <p:nvPr/>
          </p:nvSpPr>
          <p:spPr>
            <a:xfrm>
              <a:off x="2188800" y="2846880"/>
              <a:ext cx="40518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beziehung einer Außensicht</a:t>
              </a:r>
              <a:endParaRPr b="0" lang="en-US" sz="2200" spc="-1" strike="noStrike">
                <a:solidFill>
                  <a:srgbClr val="000000"/>
                </a:solidFill>
                <a:latin typeface="Times New Roman"/>
              </a:endParaRPr>
            </a:p>
          </p:txBody>
        </p:sp>
      </p:grpSp>
      <p:sp>
        <p:nvSpPr>
          <p:cNvPr id="159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1" name="bmuk_sw" descr=""/>
          <p:cNvPicPr/>
          <p:nvPr/>
        </p:nvPicPr>
        <p:blipFill>
          <a:blip r:embed="rId1"/>
          <a:stretch/>
        </p:blipFill>
        <p:spPr>
          <a:xfrm>
            <a:off x="76320" y="0"/>
            <a:ext cx="1218960" cy="566640"/>
          </a:xfrm>
          <a:prstGeom prst="rect">
            <a:avLst/>
          </a:prstGeom>
          <a:ln w="0">
            <a:noFill/>
          </a:ln>
        </p:spPr>
      </p:pic>
      <p:sp>
        <p:nvSpPr>
          <p:cNvPr id="1602"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611" name=""/>
          <p:cNvSpPr/>
          <p:nvPr/>
        </p:nvSpPr>
        <p:spPr>
          <a:xfrm>
            <a:off x="1754280" y="1592280"/>
            <a:ext cx="5714280" cy="424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tep by Step</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e Vision haben, das Ganze denken, dan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rückkehren zur Alltagswirklichkei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lein anfangen</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rit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ür</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rit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rgehen und doch</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s Ganze im Auge behalten</a:t>
            </a:r>
            <a:endParaRPr b="0" lang="en-US" sz="22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mit die Vision eine Chance ha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61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14" name="bmuk_sw" descr=""/>
          <p:cNvPicPr/>
          <p:nvPr/>
        </p:nvPicPr>
        <p:blipFill>
          <a:blip r:embed="rId1"/>
          <a:stretch/>
        </p:blipFill>
        <p:spPr>
          <a:xfrm>
            <a:off x="76320" y="0"/>
            <a:ext cx="1218960" cy="566640"/>
          </a:xfrm>
          <a:prstGeom prst="rect">
            <a:avLst/>
          </a:prstGeom>
          <a:ln w="0">
            <a:noFill/>
          </a:ln>
        </p:spPr>
      </p:pic>
      <p:sp>
        <p:nvSpPr>
          <p:cNvPr id="161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62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1622520" y="1446840"/>
            <a:ext cx="3195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Gelungene Einstiege</a:t>
            </a:r>
            <a:endParaRPr b="0" lang="en-US" sz="2400" spc="-1" strike="noStrike">
              <a:solidFill>
                <a:srgbClr val="000000"/>
              </a:solidFill>
              <a:latin typeface="Times New Roman"/>
            </a:endParaRPr>
          </a:p>
        </p:txBody>
      </p:sp>
      <p:sp>
        <p:nvSpPr>
          <p:cNvPr id="1626" name=""/>
          <p:cNvSpPr/>
          <p:nvPr/>
        </p:nvSpPr>
        <p:spPr>
          <a:xfrm>
            <a:off x="1752480" y="2133720"/>
            <a:ext cx="693432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200" spc="-1" strike="noStrike">
                <a:solidFill>
                  <a:srgbClr val="3333cc"/>
                </a:solidFill>
                <a:latin typeface="Arial"/>
              </a:rPr>
              <a:t>Der Anfang ist wichtig</a:t>
            </a:r>
            <a:r>
              <a:rPr b="0" lang="de-AT" sz="2200" spc="-1" strike="noStrike">
                <a:solidFill>
                  <a:srgbClr val="3333cc"/>
                </a:solidFill>
                <a:latin typeface="Arial"/>
              </a:rPr>
              <a:t>:</a:t>
            </a:r>
            <a:r>
              <a:rPr b="0" lang="de-AT" sz="2200" spc="-1" strike="noStrike">
                <a:solidFill>
                  <a:srgbClr val="000000"/>
                </a:solidFill>
                <a:latin typeface="Arial"/>
              </a:rPr>
              <a:t> Wie etwas beginnt und wer daran beteiligt ist, beeinflusst das Ergebnis eines Prozesses in hohem Grade. Es gibt allerdings keine Patentrezepte für gelungene Anfänge, die Einstiege werden von Fall zu Fall verschieden sein. Eines jedoch ist sicher: Es braucht gute Gründe – und einen passenden Anlass. Schulinterne Anknüpfungspunkte haben sich als besonders wirksam erwiesen, aber auch Einflüsse von außen können wertvolle Impulse liefer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8" name="bmuk_sw" descr=""/>
          <p:cNvPicPr/>
          <p:nvPr/>
        </p:nvPicPr>
        <p:blipFill>
          <a:blip r:embed="rId1"/>
          <a:stretch/>
        </p:blipFill>
        <p:spPr>
          <a:xfrm>
            <a:off x="76320" y="0"/>
            <a:ext cx="1218960" cy="566640"/>
          </a:xfrm>
          <a:prstGeom prst="rect">
            <a:avLst/>
          </a:prstGeom>
          <a:ln w="0">
            <a:noFill/>
          </a:ln>
        </p:spPr>
      </p:pic>
      <p:sp>
        <p:nvSpPr>
          <p:cNvPr id="162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63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621440" y="1446840"/>
            <a:ext cx="7212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Auslöser für Prozesse der Qualitätsentwicklung:</a:t>
            </a:r>
            <a:endParaRPr b="0" lang="en-US" sz="2400" spc="-1" strike="noStrike">
              <a:solidFill>
                <a:srgbClr val="000000"/>
              </a:solidFill>
              <a:latin typeface="Times New Roman"/>
            </a:endParaRPr>
          </a:p>
        </p:txBody>
      </p:sp>
      <p:grpSp>
        <p:nvGrpSpPr>
          <p:cNvPr id="1640" name=""/>
          <p:cNvGrpSpPr/>
          <p:nvPr/>
        </p:nvGrpSpPr>
        <p:grpSpPr>
          <a:xfrm>
            <a:off x="1219320" y="2133720"/>
            <a:ext cx="7238880" cy="533160"/>
            <a:chOff x="1219320" y="2133720"/>
            <a:chExt cx="7238880" cy="533160"/>
          </a:xfrm>
        </p:grpSpPr>
        <p:sp>
          <p:nvSpPr>
            <p:cNvPr id="1641" name=""/>
            <p:cNvSpPr/>
            <p:nvPr/>
          </p:nvSpPr>
          <p:spPr>
            <a:xfrm>
              <a:off x="1752480" y="2133720"/>
              <a:ext cx="6705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Akute Probleme, Herausforderungen für die Schule</a:t>
              </a:r>
              <a:r>
                <a:rPr b="0" lang="de-AT" sz="2400" spc="-1" strike="noStrike">
                  <a:solidFill>
                    <a:srgbClr val="000000"/>
                  </a:solidFill>
                  <a:latin typeface="Arial"/>
                </a:rPr>
                <a:t>	</a:t>
              </a:r>
              <a:endParaRPr b="0" lang="en-US" sz="2400" spc="-1" strike="noStrike">
                <a:solidFill>
                  <a:srgbClr val="000000"/>
                </a:solidFill>
                <a:latin typeface="Times New Roman"/>
              </a:endParaRPr>
            </a:p>
          </p:txBody>
        </p:sp>
        <p:sp>
          <p:nvSpPr>
            <p:cNvPr id="1642" name=""/>
            <p:cNvSpPr/>
            <p:nvPr/>
          </p:nvSpPr>
          <p:spPr>
            <a:xfrm rot="5400000">
              <a:off x="1143000" y="22096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3" name=""/>
          <p:cNvGrpSpPr/>
          <p:nvPr/>
        </p:nvGrpSpPr>
        <p:grpSpPr>
          <a:xfrm>
            <a:off x="1219320" y="2895480"/>
            <a:ext cx="7238880" cy="533520"/>
            <a:chOff x="1219320" y="2895480"/>
            <a:chExt cx="7238880" cy="533520"/>
          </a:xfrm>
        </p:grpSpPr>
        <p:sp>
          <p:nvSpPr>
            <p:cNvPr id="1644" name=""/>
            <p:cNvSpPr/>
            <p:nvPr/>
          </p:nvSpPr>
          <p:spPr>
            <a:xfrm>
              <a:off x="1752480" y="2971800"/>
              <a:ext cx="670572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Impulse von außen</a:t>
              </a:r>
              <a:endParaRPr b="0" lang="en-US" sz="2200" spc="-1" strike="noStrike">
                <a:solidFill>
                  <a:srgbClr val="000000"/>
                </a:solidFill>
                <a:latin typeface="Times New Roman"/>
              </a:endParaRPr>
            </a:p>
          </p:txBody>
        </p:sp>
        <p:sp>
          <p:nvSpPr>
            <p:cNvPr id="1645" name=""/>
            <p:cNvSpPr/>
            <p:nvPr/>
          </p:nvSpPr>
          <p:spPr>
            <a:xfrm rot="5400000">
              <a:off x="1143000" y="29718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6" name=""/>
          <p:cNvGrpSpPr/>
          <p:nvPr/>
        </p:nvGrpSpPr>
        <p:grpSpPr>
          <a:xfrm>
            <a:off x="1219320" y="3733920"/>
            <a:ext cx="7238880" cy="533160"/>
            <a:chOff x="1219320" y="3733920"/>
            <a:chExt cx="7238880" cy="533160"/>
          </a:xfrm>
        </p:grpSpPr>
        <p:sp>
          <p:nvSpPr>
            <p:cNvPr id="1647" name=""/>
            <p:cNvSpPr/>
            <p:nvPr/>
          </p:nvSpPr>
          <p:spPr>
            <a:xfrm>
              <a:off x="1752480" y="3809880"/>
              <a:ext cx="670572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Personelle Veränderungen</a:t>
              </a:r>
              <a:r>
                <a:rPr b="0" lang="de-AT" sz="2200" spc="-1" strike="noStrike">
                  <a:solidFill>
                    <a:srgbClr val="000000"/>
                  </a:solidFill>
                  <a:latin typeface="Arial"/>
                </a:rPr>
                <a:t>	</a:t>
              </a:r>
              <a:r>
                <a:rPr b="0" lang="de-AT" sz="2200" spc="-1" strike="noStrike">
                  <a:solidFill>
                    <a:srgbClr val="000000"/>
                  </a:solidFill>
                  <a:latin typeface="Arial"/>
                </a:rPr>
                <a:t> </a:t>
              </a:r>
              <a:r>
                <a:rPr b="0" lang="de-AT" sz="2200" spc="-1" strike="noStrike">
                  <a:solidFill>
                    <a:srgbClr val="000000"/>
                  </a:solidFill>
                  <a:latin typeface="Arial"/>
                </a:rPr>
                <a:t>	</a:t>
              </a:r>
              <a:endParaRPr b="0" lang="en-US" sz="2200" spc="-1" strike="noStrike">
                <a:solidFill>
                  <a:srgbClr val="000000"/>
                </a:solidFill>
                <a:latin typeface="Times New Roman"/>
              </a:endParaRPr>
            </a:p>
          </p:txBody>
        </p:sp>
        <p:sp>
          <p:nvSpPr>
            <p:cNvPr id="1648" name=""/>
            <p:cNvSpPr/>
            <p:nvPr/>
          </p:nvSpPr>
          <p:spPr>
            <a:xfrm rot="5400000">
              <a:off x="1143000" y="38098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9" name=""/>
          <p:cNvGrpSpPr/>
          <p:nvPr/>
        </p:nvGrpSpPr>
        <p:grpSpPr>
          <a:xfrm>
            <a:off x="1219320" y="4572000"/>
            <a:ext cx="7238880" cy="533520"/>
            <a:chOff x="1219320" y="4572000"/>
            <a:chExt cx="7238880" cy="533520"/>
          </a:xfrm>
        </p:grpSpPr>
        <p:sp>
          <p:nvSpPr>
            <p:cNvPr id="1650" name=""/>
            <p:cNvSpPr/>
            <p:nvPr/>
          </p:nvSpPr>
          <p:spPr>
            <a:xfrm>
              <a:off x="1752480" y="4648320"/>
              <a:ext cx="670572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Veränderte Rahmenbedingungen</a:t>
              </a:r>
              <a:endParaRPr b="0" lang="en-US" sz="2200" spc="-1" strike="noStrike">
                <a:solidFill>
                  <a:srgbClr val="000000"/>
                </a:solidFill>
                <a:latin typeface="Times New Roman"/>
              </a:endParaRPr>
            </a:p>
          </p:txBody>
        </p:sp>
        <p:sp>
          <p:nvSpPr>
            <p:cNvPr id="1651" name=""/>
            <p:cNvSpPr/>
            <p:nvPr/>
          </p:nvSpPr>
          <p:spPr>
            <a:xfrm rot="5400000">
              <a:off x="1143000" y="46483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52" name=""/>
          <p:cNvGrpSpPr/>
          <p:nvPr/>
        </p:nvGrpSpPr>
        <p:grpSpPr>
          <a:xfrm>
            <a:off x="1219320" y="5486400"/>
            <a:ext cx="7238880" cy="533520"/>
            <a:chOff x="1219320" y="5486400"/>
            <a:chExt cx="7238880" cy="533520"/>
          </a:xfrm>
        </p:grpSpPr>
        <p:sp>
          <p:nvSpPr>
            <p:cNvPr id="1653" name=""/>
            <p:cNvSpPr/>
            <p:nvPr/>
          </p:nvSpPr>
          <p:spPr>
            <a:xfrm>
              <a:off x="1752480" y="5562720"/>
              <a:ext cx="670572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Laufende Projekte und Initiativen</a:t>
              </a:r>
              <a:r>
                <a:rPr b="0" lang="de-AT" sz="2200" spc="-1" strike="noStrike">
                  <a:solidFill>
                    <a:srgbClr val="000000"/>
                  </a:solidFill>
                  <a:latin typeface="Arial"/>
                </a:rPr>
                <a:t>	</a:t>
              </a:r>
              <a:endParaRPr b="0" lang="en-US" sz="2200" spc="-1" strike="noStrike">
                <a:solidFill>
                  <a:srgbClr val="000000"/>
                </a:solidFill>
                <a:latin typeface="Times New Roman"/>
              </a:endParaRPr>
            </a:p>
          </p:txBody>
        </p:sp>
        <p:sp>
          <p:nvSpPr>
            <p:cNvPr id="1654" name=""/>
            <p:cNvSpPr/>
            <p:nvPr/>
          </p:nvSpPr>
          <p:spPr>
            <a:xfrm rot="5400000">
              <a:off x="1143000" y="55627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676520" y="1828800"/>
            <a:ext cx="685800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 name=""/>
          <p:cNvGrpSpPr/>
          <p:nvPr/>
        </p:nvGrpSpPr>
        <p:grpSpPr>
          <a:xfrm>
            <a:off x="762120" y="4799160"/>
            <a:ext cx="6230880" cy="825480"/>
            <a:chOff x="762120" y="4799160"/>
            <a:chExt cx="6230880" cy="825480"/>
          </a:xfrm>
        </p:grpSpPr>
        <p:sp>
          <p:nvSpPr>
            <p:cNvPr id="131" name=""/>
            <p:cNvSpPr/>
            <p:nvPr/>
          </p:nvSpPr>
          <p:spPr>
            <a:xfrm flipV="1">
              <a:off x="762120" y="4799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87200" y="4799160"/>
              <a:ext cx="50058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chule wird verstärkt un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ökonomischer Perspektive gesehen</a:t>
              </a:r>
              <a:endParaRPr b="0" lang="en-US" sz="2400" spc="-1" strike="noStrike">
                <a:solidFill>
                  <a:srgbClr val="000000"/>
                </a:solidFill>
                <a:latin typeface="Times New Roman"/>
              </a:endParaRPr>
            </a:p>
          </p:txBody>
        </p:sp>
      </p:grpSp>
      <p:grpSp>
        <p:nvGrpSpPr>
          <p:cNvPr id="133" name=""/>
          <p:cNvGrpSpPr/>
          <p:nvPr/>
        </p:nvGrpSpPr>
        <p:grpSpPr>
          <a:xfrm>
            <a:off x="762120" y="3656160"/>
            <a:ext cx="6129720" cy="825480"/>
            <a:chOff x="762120" y="3656160"/>
            <a:chExt cx="6129720" cy="825480"/>
          </a:xfrm>
        </p:grpSpPr>
        <p:sp>
          <p:nvSpPr>
            <p:cNvPr id="134" name=""/>
            <p:cNvSpPr/>
            <p:nvPr/>
          </p:nvSpPr>
          <p:spPr>
            <a:xfrm flipV="1">
              <a:off x="762120" y="38091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983600" y="3656160"/>
              <a:ext cx="49082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nge an Wissen und Inform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immt explosionsartig zu</a:t>
              </a:r>
              <a:endParaRPr b="0" lang="en-US" sz="2400" spc="-1" strike="noStrike">
                <a:solidFill>
                  <a:srgbClr val="000000"/>
                </a:solidFill>
                <a:latin typeface="Times New Roman"/>
              </a:endParaRPr>
            </a:p>
          </p:txBody>
        </p:sp>
      </p:grpSp>
      <p:grpSp>
        <p:nvGrpSpPr>
          <p:cNvPr id="136" name=""/>
          <p:cNvGrpSpPr/>
          <p:nvPr/>
        </p:nvGrpSpPr>
        <p:grpSpPr>
          <a:xfrm>
            <a:off x="762120" y="2665440"/>
            <a:ext cx="5722200" cy="825480"/>
            <a:chOff x="762120" y="2665440"/>
            <a:chExt cx="5722200" cy="825480"/>
          </a:xfrm>
        </p:grpSpPr>
        <p:sp>
          <p:nvSpPr>
            <p:cNvPr id="137" name=""/>
            <p:cNvSpPr/>
            <p:nvPr/>
          </p:nvSpPr>
          <p:spPr>
            <a:xfrm flipV="1">
              <a:off x="762120" y="28188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986120" y="2665440"/>
              <a:ext cx="44982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ildungsbegriff wird komplex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 sich widersprüchlicher</a:t>
              </a:r>
              <a:endParaRPr b="0" lang="en-US" sz="2400" spc="-1" strike="noStrike">
                <a:solidFill>
                  <a:srgbClr val="000000"/>
                </a:solidFill>
                <a:latin typeface="Times New Roman"/>
              </a:endParaRPr>
            </a:p>
          </p:txBody>
        </p:sp>
      </p:grpSp>
      <p:grpSp>
        <p:nvGrpSpPr>
          <p:cNvPr id="139" name=""/>
          <p:cNvGrpSpPr/>
          <p:nvPr/>
        </p:nvGrpSpPr>
        <p:grpSpPr>
          <a:xfrm>
            <a:off x="762120" y="1751040"/>
            <a:ext cx="6960960" cy="825480"/>
            <a:chOff x="762120" y="1751040"/>
            <a:chExt cx="6960960" cy="825480"/>
          </a:xfrm>
        </p:grpSpPr>
        <p:sp>
          <p:nvSpPr>
            <p:cNvPr id="140" name=""/>
            <p:cNvSpPr/>
            <p:nvPr/>
          </p:nvSpPr>
          <p:spPr>
            <a:xfrm flipV="1">
              <a:off x="762120" y="1840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4320" y="1751040"/>
              <a:ext cx="57387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rte und Normen werden heterogen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verbindlicher</a:t>
              </a:r>
              <a:endParaRPr b="0" lang="en-US" sz="2400" spc="-1" strike="noStrike">
                <a:solidFill>
                  <a:srgbClr val="000000"/>
                </a:solidFill>
                <a:latin typeface="Times New Roman"/>
              </a:endParaRPr>
            </a:p>
          </p:txBody>
        </p:sp>
      </p:grpSp>
      <p:sp>
        <p:nvSpPr>
          <p:cNvPr id="14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
        <p:nvSpPr>
          <p:cNvPr id="14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bmuk_sw" descr=""/>
          <p:cNvPicPr/>
          <p:nvPr/>
        </p:nvPicPr>
        <p:blipFill>
          <a:blip r:embed="rId1"/>
          <a:stretch/>
        </p:blipFill>
        <p:spPr>
          <a:xfrm>
            <a:off x="0" y="0"/>
            <a:ext cx="1219320" cy="566640"/>
          </a:xfrm>
          <a:prstGeom prst="rect">
            <a:avLst/>
          </a:prstGeom>
          <a:ln w="0">
            <a:noFill/>
          </a:ln>
        </p:spPr>
      </p:pic>
      <p:sp>
        <p:nvSpPr>
          <p:cNvPr id="14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036800"/>
            <a:ext cx="44197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400" y="990720"/>
            <a:ext cx="4403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arum heute aktueller denn je?</a:t>
            </a:r>
            <a:endParaRPr b="0" lang="en-US" sz="2200" spc="-1" strike="noStrike">
              <a:solidFill>
                <a:srgbClr val="000000"/>
              </a:solidFill>
              <a:latin typeface="Times New Roman"/>
            </a:endParaRPr>
          </a:p>
        </p:txBody>
      </p:sp>
      <p:sp>
        <p:nvSpPr>
          <p:cNvPr id="157" name=""/>
          <p:cNvSpPr/>
          <p:nvPr/>
        </p:nvSpPr>
        <p:spPr>
          <a:xfrm>
            <a:off x="0" y="609480"/>
            <a:ext cx="457200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chäftigung mit Schulqualitä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56" name="bmuk_sw" descr=""/>
          <p:cNvPicPr/>
          <p:nvPr/>
        </p:nvPicPr>
        <p:blipFill>
          <a:blip r:embed="rId1"/>
          <a:stretch/>
        </p:blipFill>
        <p:spPr>
          <a:xfrm>
            <a:off x="76320" y="0"/>
            <a:ext cx="1218960" cy="566640"/>
          </a:xfrm>
          <a:prstGeom prst="rect">
            <a:avLst/>
          </a:prstGeom>
          <a:ln w="0">
            <a:noFill/>
          </a:ln>
        </p:spPr>
      </p:pic>
      <p:sp>
        <p:nvSpPr>
          <p:cNvPr id="165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66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1622880" y="1446840"/>
            <a:ext cx="3009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ktive Schulleitung</a:t>
            </a:r>
            <a:endParaRPr b="0" lang="en-US" sz="2400" spc="-1" strike="noStrike">
              <a:solidFill>
                <a:srgbClr val="000000"/>
              </a:solidFill>
              <a:latin typeface="Times New Roman"/>
            </a:endParaRPr>
          </a:p>
        </p:txBody>
      </p:sp>
      <p:sp>
        <p:nvSpPr>
          <p:cNvPr id="1668" name=""/>
          <p:cNvSpPr/>
          <p:nvPr/>
        </p:nvSpPr>
        <p:spPr>
          <a:xfrm>
            <a:off x="1752480" y="2133720"/>
            <a:ext cx="701064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Der Schulleitung kommt eine zentrale Position bei der Einleitung und Förderung von Qualitätsentwicklungs-prozessen zu. Auch wenn Qualitätsentwicklung schulpartnerschaftlich mitentschieden und mitverantwortet wird: die Schulleitung muss an den entscheidenden Punkten des Prozesses die Führungsrolle wahrnehmen, Position beziehen und Entscheidungen, die ihr zufallen, auch wirklich treffen. Qualitätsentwicklung braucht in diesem Sinne nicht “weniger”, sondern eher “mehr” Schulleitun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0" name="bmuk_sw" descr=""/>
          <p:cNvPicPr/>
          <p:nvPr/>
        </p:nvPicPr>
        <p:blipFill>
          <a:blip r:embed="rId1"/>
          <a:stretch/>
        </p:blipFill>
        <p:spPr>
          <a:xfrm>
            <a:off x="76320" y="0"/>
            <a:ext cx="1218960" cy="566640"/>
          </a:xfrm>
          <a:prstGeom prst="rect">
            <a:avLst/>
          </a:prstGeom>
          <a:ln w="0">
            <a:noFill/>
          </a:ln>
        </p:spPr>
      </p:pic>
      <p:sp>
        <p:nvSpPr>
          <p:cNvPr id="167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68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1620360" y="1446840"/>
            <a:ext cx="578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Rollen und Aufgaben von Schulleitung</a:t>
            </a:r>
            <a:endParaRPr b="0" lang="en-US" sz="2400" spc="-1" strike="noStrike">
              <a:solidFill>
                <a:srgbClr val="000000"/>
              </a:solidFill>
              <a:latin typeface="Times New Roman"/>
            </a:endParaRPr>
          </a:p>
        </p:txBody>
      </p:sp>
      <p:grpSp>
        <p:nvGrpSpPr>
          <p:cNvPr id="1682" name=""/>
          <p:cNvGrpSpPr/>
          <p:nvPr/>
        </p:nvGrpSpPr>
        <p:grpSpPr>
          <a:xfrm>
            <a:off x="1219320" y="2133720"/>
            <a:ext cx="7543800" cy="533160"/>
            <a:chOff x="1219320" y="2133720"/>
            <a:chExt cx="7543800" cy="533160"/>
          </a:xfrm>
        </p:grpSpPr>
        <p:sp>
          <p:nvSpPr>
            <p:cNvPr id="1683" name=""/>
            <p:cNvSpPr/>
            <p:nvPr/>
          </p:nvSpPr>
          <p:spPr>
            <a:xfrm>
              <a:off x="1752480" y="21337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r>
                <a:rPr b="0" lang="de-AT" sz="2400" spc="-1" strike="noStrike">
                  <a:solidFill>
                    <a:srgbClr val="000000"/>
                  </a:solidFill>
                  <a:latin typeface="Arial"/>
                </a:rPr>
                <a:t>Anwalt/Anwältin von Innovation und Entwicklung"</a:t>
              </a:r>
              <a:endParaRPr b="0" lang="en-US" sz="2400" spc="-1" strike="noStrike">
                <a:solidFill>
                  <a:srgbClr val="000000"/>
                </a:solidFill>
                <a:latin typeface="Times New Roman"/>
              </a:endParaRPr>
            </a:p>
          </p:txBody>
        </p:sp>
        <p:sp>
          <p:nvSpPr>
            <p:cNvPr id="1684" name=""/>
            <p:cNvSpPr/>
            <p:nvPr/>
          </p:nvSpPr>
          <p:spPr>
            <a:xfrm rot="5400000">
              <a:off x="1143000" y="22096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5" name=""/>
          <p:cNvGrpSpPr/>
          <p:nvPr/>
        </p:nvGrpSpPr>
        <p:grpSpPr>
          <a:xfrm>
            <a:off x="1219320" y="2895480"/>
            <a:ext cx="8229600" cy="533520"/>
            <a:chOff x="1219320" y="2895480"/>
            <a:chExt cx="8229600" cy="533520"/>
          </a:xfrm>
        </p:grpSpPr>
        <p:sp>
          <p:nvSpPr>
            <p:cNvPr id="1686" name=""/>
            <p:cNvSpPr/>
            <p:nvPr/>
          </p:nvSpPr>
          <p:spPr>
            <a:xfrm>
              <a:off x="1752480" y="2895480"/>
              <a:ext cx="769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r>
                <a:rPr b="0" lang="de-AT" sz="2400" spc="-1" strike="noStrike">
                  <a:solidFill>
                    <a:srgbClr val="000000"/>
                  </a:solidFill>
                  <a:latin typeface="Arial"/>
                </a:rPr>
                <a:t>Koordinator/in und Motor der Entwicklung”</a:t>
              </a:r>
              <a:endParaRPr b="0" lang="en-US" sz="2400" spc="-1" strike="noStrike">
                <a:solidFill>
                  <a:srgbClr val="000000"/>
                </a:solidFill>
                <a:latin typeface="Times New Roman"/>
              </a:endParaRPr>
            </a:p>
          </p:txBody>
        </p:sp>
        <p:sp>
          <p:nvSpPr>
            <p:cNvPr id="1687" name=""/>
            <p:cNvSpPr/>
            <p:nvPr/>
          </p:nvSpPr>
          <p:spPr>
            <a:xfrm rot="5400000">
              <a:off x="1143000" y="29718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8" name=""/>
          <p:cNvGrpSpPr/>
          <p:nvPr/>
        </p:nvGrpSpPr>
        <p:grpSpPr>
          <a:xfrm>
            <a:off x="1219320" y="3581280"/>
            <a:ext cx="7238880" cy="533160"/>
            <a:chOff x="1219320" y="3581280"/>
            <a:chExt cx="7238880" cy="533160"/>
          </a:xfrm>
        </p:grpSpPr>
        <p:sp>
          <p:nvSpPr>
            <p:cNvPr id="1689" name=""/>
            <p:cNvSpPr/>
            <p:nvPr/>
          </p:nvSpPr>
          <p:spPr>
            <a:xfrm>
              <a:off x="1752480" y="36111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r>
                <a:rPr b="0" lang="de-AT" sz="2400" spc="-1" strike="noStrike">
                  <a:solidFill>
                    <a:srgbClr val="000000"/>
                  </a:solidFill>
                  <a:latin typeface="Arial"/>
                </a:rPr>
                <a:t>Garant für Verbindlichkeit und Kontinuität”</a:t>
              </a:r>
              <a:endParaRPr b="0" lang="en-US" sz="2400" spc="-1" strike="noStrike">
                <a:solidFill>
                  <a:srgbClr val="000000"/>
                </a:solidFill>
                <a:latin typeface="Times New Roman"/>
              </a:endParaRPr>
            </a:p>
          </p:txBody>
        </p:sp>
        <p:sp>
          <p:nvSpPr>
            <p:cNvPr id="1690" name=""/>
            <p:cNvSpPr/>
            <p:nvPr/>
          </p:nvSpPr>
          <p:spPr>
            <a:xfrm rot="5400000">
              <a:off x="1143000" y="365724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1219320" y="4343400"/>
            <a:ext cx="7238880" cy="533160"/>
            <a:chOff x="1219320" y="4343400"/>
            <a:chExt cx="7238880" cy="533160"/>
          </a:xfrm>
        </p:grpSpPr>
        <p:sp>
          <p:nvSpPr>
            <p:cNvPr id="1692" name=""/>
            <p:cNvSpPr/>
            <p:nvPr/>
          </p:nvSpPr>
          <p:spPr>
            <a:xfrm>
              <a:off x="1752480" y="43434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r>
                <a:rPr b="0" lang="de-AT" sz="2400" spc="-1" strike="noStrike">
                  <a:solidFill>
                    <a:srgbClr val="000000"/>
                  </a:solidFill>
                  <a:latin typeface="Arial"/>
                </a:rPr>
                <a:t>Hüter/in des Gesetzes”</a:t>
              </a:r>
              <a:endParaRPr b="0" lang="en-US" sz="2400" spc="-1" strike="noStrike">
                <a:solidFill>
                  <a:srgbClr val="000000"/>
                </a:solidFill>
                <a:latin typeface="Times New Roman"/>
              </a:endParaRPr>
            </a:p>
          </p:txBody>
        </p:sp>
        <p:sp>
          <p:nvSpPr>
            <p:cNvPr id="1693" name=""/>
            <p:cNvSpPr/>
            <p:nvPr/>
          </p:nvSpPr>
          <p:spPr>
            <a:xfrm rot="5400000">
              <a:off x="1143000" y="44193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4" name=""/>
          <p:cNvGrpSpPr/>
          <p:nvPr/>
        </p:nvGrpSpPr>
        <p:grpSpPr>
          <a:xfrm>
            <a:off x="1219320" y="5105520"/>
            <a:ext cx="7238880" cy="533160"/>
            <a:chOff x="1219320" y="5105520"/>
            <a:chExt cx="7238880" cy="533160"/>
          </a:xfrm>
        </p:grpSpPr>
        <p:sp>
          <p:nvSpPr>
            <p:cNvPr id="1695" name=""/>
            <p:cNvSpPr/>
            <p:nvPr/>
          </p:nvSpPr>
          <p:spPr>
            <a:xfrm>
              <a:off x="1752480" y="51354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000000"/>
                  </a:solidFill>
                  <a:latin typeface="Arial"/>
                </a:rPr>
                <a:t>“</a:t>
              </a:r>
              <a:r>
                <a:rPr b="0" lang="de-AT" sz="2400" spc="-1" strike="noStrike">
                  <a:solidFill>
                    <a:srgbClr val="000000"/>
                  </a:solidFill>
                  <a:latin typeface="Arial"/>
                </a:rPr>
                <a:t>Außenminister/in”</a:t>
              </a:r>
              <a:endParaRPr b="0" lang="en-US" sz="2400" spc="-1" strike="noStrike">
                <a:solidFill>
                  <a:srgbClr val="000000"/>
                </a:solidFill>
                <a:latin typeface="Times New Roman"/>
              </a:endParaRPr>
            </a:p>
          </p:txBody>
        </p:sp>
        <p:sp>
          <p:nvSpPr>
            <p:cNvPr id="1696" name=""/>
            <p:cNvSpPr/>
            <p:nvPr/>
          </p:nvSpPr>
          <p:spPr>
            <a:xfrm rot="5400000">
              <a:off x="1143000" y="51814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8" name="bmuk_sw" descr=""/>
          <p:cNvPicPr/>
          <p:nvPr/>
        </p:nvPicPr>
        <p:blipFill>
          <a:blip r:embed="rId1"/>
          <a:stretch/>
        </p:blipFill>
        <p:spPr>
          <a:xfrm>
            <a:off x="76320" y="0"/>
            <a:ext cx="1218960" cy="566640"/>
          </a:xfrm>
          <a:prstGeom prst="rect">
            <a:avLst/>
          </a:prstGeom>
          <a:ln w="0">
            <a:noFill/>
          </a:ln>
        </p:spPr>
      </p:pic>
      <p:sp>
        <p:nvSpPr>
          <p:cNvPr id="169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708"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1622520" y="1446840"/>
            <a:ext cx="4717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inbeziehung einer Außensicht</a:t>
            </a:r>
            <a:endParaRPr b="0" lang="en-US" sz="2400" spc="-1" strike="noStrike">
              <a:solidFill>
                <a:srgbClr val="000000"/>
              </a:solidFill>
              <a:latin typeface="Times New Roman"/>
            </a:endParaRPr>
          </a:p>
        </p:txBody>
      </p:sp>
      <p:sp>
        <p:nvSpPr>
          <p:cNvPr id="1710" name=""/>
          <p:cNvSpPr/>
          <p:nvPr/>
        </p:nvSpPr>
        <p:spPr>
          <a:xfrm>
            <a:off x="1752480" y="2133720"/>
            <a:ext cx="701064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200" spc="-1" strike="noStrike">
                <a:solidFill>
                  <a:srgbClr val="000000"/>
                </a:solidFill>
                <a:latin typeface="Arial"/>
              </a:rPr>
              <a:t>Auch die beste Absicht bewahrt in der Hektik des Alltags manchmal nicht vor Betriebsblindheit. Die Einbeziehung eines </a:t>
            </a:r>
            <a:r>
              <a:rPr b="1" lang="de-AT" sz="2200" spc="-1" strike="noStrike">
                <a:solidFill>
                  <a:srgbClr val="3333cc"/>
                </a:solidFill>
                <a:latin typeface="Arial"/>
              </a:rPr>
              <a:t>"kritischen</a:t>
            </a:r>
            <a:r>
              <a:rPr b="1" lang="de-AT" sz="2200" spc="-1" strike="noStrike">
                <a:solidFill>
                  <a:srgbClr val="000000"/>
                </a:solidFill>
                <a:latin typeface="Arial"/>
              </a:rPr>
              <a:t> </a:t>
            </a:r>
            <a:r>
              <a:rPr b="1" lang="de-AT" sz="2200" spc="-1" strike="noStrike">
                <a:solidFill>
                  <a:srgbClr val="3333cc"/>
                </a:solidFill>
                <a:latin typeface="Arial"/>
              </a:rPr>
              <a:t>Freundes"</a:t>
            </a:r>
            <a:r>
              <a:rPr b="0" lang="de-AT" sz="2200" spc="-1" strike="noStrike">
                <a:solidFill>
                  <a:srgbClr val="3333cc"/>
                </a:solidFill>
                <a:latin typeface="Arial"/>
              </a:rPr>
              <a:t>,</a:t>
            </a:r>
            <a:r>
              <a:rPr b="0" lang="de-AT" sz="2200" spc="-1" strike="noStrike">
                <a:solidFill>
                  <a:srgbClr val="000000"/>
                </a:solidFill>
                <a:latin typeface="Arial"/>
              </a:rPr>
              <a:t> einer </a:t>
            </a:r>
            <a:r>
              <a:rPr b="1" lang="de-AT" sz="2200" spc="-1" strike="noStrike">
                <a:solidFill>
                  <a:srgbClr val="3333cc"/>
                </a:solidFill>
                <a:latin typeface="Arial"/>
              </a:rPr>
              <a:t>"kritischen Freundin</a:t>
            </a:r>
            <a:r>
              <a:rPr b="1" lang="de-AT" sz="2200" spc="-1" strike="noStrike">
                <a:solidFill>
                  <a:srgbClr val="000000"/>
                </a:solidFill>
                <a:latin typeface="Arial"/>
              </a:rPr>
              <a:t>"</a:t>
            </a:r>
            <a:r>
              <a:rPr b="0" lang="de-AT" sz="2200" spc="-1" strike="noStrike">
                <a:solidFill>
                  <a:srgbClr val="000000"/>
                </a:solidFill>
                <a:latin typeface="Arial"/>
              </a:rPr>
              <a:t> von außen kann dabei helfen, "blinde Flecken" in der eigenen Wahrnehmung aufzuhellen und Denk- und Handlungsalternativen zu eröffnen.</a:t>
            </a:r>
            <a:endParaRPr b="0" lang="en-US" sz="2200" spc="-1" strike="noStrike">
              <a:solidFill>
                <a:srgbClr val="000000"/>
              </a:solidFill>
              <a:latin typeface="Times New Roman"/>
            </a:endParaRPr>
          </a:p>
        </p:txBody>
      </p:sp>
      <p:sp>
        <p:nvSpPr>
          <p:cNvPr id="1711"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3" name="bmuk_sw" descr=""/>
          <p:cNvPicPr/>
          <p:nvPr/>
        </p:nvPicPr>
        <p:blipFill>
          <a:blip r:embed="rId1"/>
          <a:stretch/>
        </p:blipFill>
        <p:spPr>
          <a:xfrm>
            <a:off x="76320" y="0"/>
            <a:ext cx="1218960" cy="566640"/>
          </a:xfrm>
          <a:prstGeom prst="rect">
            <a:avLst/>
          </a:prstGeom>
          <a:ln w="0">
            <a:noFill/>
          </a:ln>
        </p:spPr>
      </p:pic>
      <p:sp>
        <p:nvSpPr>
          <p:cNvPr id="1714"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0" y="5943600"/>
            <a:ext cx="1219320" cy="3049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0" y="609480"/>
            <a:ext cx="3276720" cy="38124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 name=""/>
          <p:cNvSpPr/>
          <p:nvPr/>
        </p:nvSpPr>
        <p:spPr>
          <a:xfrm>
            <a:off x="0" y="609480"/>
            <a:ext cx="3276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Was ist noch hilfreich?</a:t>
            </a:r>
            <a:endParaRPr b="0" lang="en-US" sz="2200" spc="-1" strike="noStrike">
              <a:solidFill>
                <a:srgbClr val="000000"/>
              </a:solidFill>
              <a:latin typeface="Times New Roman"/>
            </a:endParaRPr>
          </a:p>
        </p:txBody>
      </p:sp>
      <p:sp>
        <p:nvSpPr>
          <p:cNvPr id="172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620720" y="1446840"/>
            <a:ext cx="4586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0000"/>
                </a:solidFill>
                <a:latin typeface="Arial"/>
              </a:rPr>
              <a:t>Eine geeignete Person sollte...</a:t>
            </a:r>
            <a:endParaRPr b="0" lang="en-US" sz="2400" spc="-1" strike="noStrike">
              <a:solidFill>
                <a:srgbClr val="000000"/>
              </a:solidFill>
              <a:latin typeface="Times New Roman"/>
            </a:endParaRPr>
          </a:p>
        </p:txBody>
      </p:sp>
      <p:grpSp>
        <p:nvGrpSpPr>
          <p:cNvPr id="1725" name=""/>
          <p:cNvGrpSpPr/>
          <p:nvPr/>
        </p:nvGrpSpPr>
        <p:grpSpPr>
          <a:xfrm>
            <a:off x="1219320" y="2049120"/>
            <a:ext cx="6095880" cy="734040"/>
            <a:chOff x="1219320" y="2049120"/>
            <a:chExt cx="6095880" cy="734040"/>
          </a:xfrm>
        </p:grpSpPr>
        <p:sp>
          <p:nvSpPr>
            <p:cNvPr id="1726" name=""/>
            <p:cNvSpPr/>
            <p:nvPr/>
          </p:nvSpPr>
          <p:spPr>
            <a:xfrm>
              <a:off x="1765440" y="2049120"/>
              <a:ext cx="554976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Arial"/>
                </a:rPr>
                <a:t>von der Schule/dem Team/der Lehrkraft selbst ausgewählt sein</a:t>
              </a:r>
              <a:endParaRPr b="0" lang="en-US" sz="2100" spc="-1" strike="noStrike">
                <a:solidFill>
                  <a:srgbClr val="000000"/>
                </a:solidFill>
                <a:latin typeface="Times New Roman"/>
              </a:endParaRPr>
            </a:p>
          </p:txBody>
        </p:sp>
        <p:sp>
          <p:nvSpPr>
            <p:cNvPr id="1727" name=""/>
            <p:cNvSpPr/>
            <p:nvPr/>
          </p:nvSpPr>
          <p:spPr>
            <a:xfrm rot="5400000">
              <a:off x="1164600" y="227736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728" name=""/>
          <p:cNvGrpSpPr/>
          <p:nvPr/>
        </p:nvGrpSpPr>
        <p:grpSpPr>
          <a:xfrm>
            <a:off x="1219320" y="2887560"/>
            <a:ext cx="6095880" cy="734040"/>
            <a:chOff x="1219320" y="2887560"/>
            <a:chExt cx="6095880" cy="734040"/>
          </a:xfrm>
        </p:grpSpPr>
        <p:sp>
          <p:nvSpPr>
            <p:cNvPr id="1729" name=""/>
            <p:cNvSpPr/>
            <p:nvPr/>
          </p:nvSpPr>
          <p:spPr>
            <a:xfrm>
              <a:off x="1752480" y="2887560"/>
              <a:ext cx="556272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Arial"/>
                </a:rPr>
                <a:t>das Vertrauen und die Akzeptanz möglichst vieler Beteiligter genießen</a:t>
              </a:r>
              <a:endParaRPr b="0" lang="en-US" sz="2100" spc="-1" strike="noStrike">
                <a:solidFill>
                  <a:srgbClr val="000000"/>
                </a:solidFill>
                <a:latin typeface="Times New Roman"/>
              </a:endParaRPr>
            </a:p>
          </p:txBody>
        </p:sp>
        <p:sp>
          <p:nvSpPr>
            <p:cNvPr id="1730" name=""/>
            <p:cNvSpPr/>
            <p:nvPr/>
          </p:nvSpPr>
          <p:spPr>
            <a:xfrm rot="5400000">
              <a:off x="1164240" y="312804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731" name=""/>
          <p:cNvGrpSpPr/>
          <p:nvPr/>
        </p:nvGrpSpPr>
        <p:grpSpPr>
          <a:xfrm>
            <a:off x="1219320" y="3817800"/>
            <a:ext cx="7391160" cy="734040"/>
            <a:chOff x="1219320" y="3817800"/>
            <a:chExt cx="7391160" cy="734040"/>
          </a:xfrm>
        </p:grpSpPr>
        <p:sp>
          <p:nvSpPr>
            <p:cNvPr id="1732" name=""/>
            <p:cNvSpPr/>
            <p:nvPr/>
          </p:nvSpPr>
          <p:spPr>
            <a:xfrm>
              <a:off x="1752480" y="3817800"/>
              <a:ext cx="685800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Arial"/>
                </a:rPr>
                <a:t>der Schule/dem Team/der Lehrkraft gegenüber grundsätzlich positiv eingestellt sein</a:t>
              </a:r>
              <a:endParaRPr b="0" lang="en-US" sz="2100" spc="-1" strike="noStrike">
                <a:solidFill>
                  <a:srgbClr val="000000"/>
                </a:solidFill>
                <a:latin typeface="Times New Roman"/>
              </a:endParaRPr>
            </a:p>
          </p:txBody>
        </p:sp>
        <p:sp>
          <p:nvSpPr>
            <p:cNvPr id="1733" name=""/>
            <p:cNvSpPr/>
            <p:nvPr/>
          </p:nvSpPr>
          <p:spPr>
            <a:xfrm rot="5400000">
              <a:off x="1164600" y="401724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734" name=""/>
          <p:cNvSpPr/>
          <p:nvPr/>
        </p:nvSpPr>
        <p:spPr>
          <a:xfrm>
            <a:off x="2222640" y="4586400"/>
            <a:ext cx="183960" cy="396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5" name=""/>
          <p:cNvGrpSpPr/>
          <p:nvPr/>
        </p:nvGrpSpPr>
        <p:grpSpPr>
          <a:xfrm>
            <a:off x="1219320" y="4660920"/>
            <a:ext cx="7619760" cy="1054080"/>
            <a:chOff x="1219320" y="4660920"/>
            <a:chExt cx="7619760" cy="1054080"/>
          </a:xfrm>
        </p:grpSpPr>
        <p:sp>
          <p:nvSpPr>
            <p:cNvPr id="1736" name=""/>
            <p:cNvSpPr/>
            <p:nvPr/>
          </p:nvSpPr>
          <p:spPr>
            <a:xfrm>
              <a:off x="1752480" y="4660920"/>
              <a:ext cx="708660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Arial"/>
                </a:rPr>
                <a:t>ausreichend Distanz zum Geschehen und den handelnden Personen haben, um die Dinge jederzeit "von außen" betrachten zu können</a:t>
              </a:r>
              <a:endParaRPr b="0" lang="en-US" sz="2100" spc="-1" strike="noStrike">
                <a:solidFill>
                  <a:srgbClr val="000000"/>
                </a:solidFill>
                <a:latin typeface="Times New Roman"/>
              </a:endParaRPr>
            </a:p>
          </p:txBody>
        </p:sp>
        <p:sp>
          <p:nvSpPr>
            <p:cNvPr id="1737" name=""/>
            <p:cNvSpPr/>
            <p:nvPr/>
          </p:nvSpPr>
          <p:spPr>
            <a:xfrm rot="5400000">
              <a:off x="1164600" y="493164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738" name=""/>
          <p:cNvGrpSpPr/>
          <p:nvPr/>
        </p:nvGrpSpPr>
        <p:grpSpPr>
          <a:xfrm>
            <a:off x="1219320" y="5803920"/>
            <a:ext cx="6933960" cy="1054080"/>
            <a:chOff x="1219320" y="5803920"/>
            <a:chExt cx="6933960" cy="1054080"/>
          </a:xfrm>
        </p:grpSpPr>
        <p:sp>
          <p:nvSpPr>
            <p:cNvPr id="1739" name=""/>
            <p:cNvSpPr/>
            <p:nvPr/>
          </p:nvSpPr>
          <p:spPr>
            <a:xfrm>
              <a:off x="1752480" y="5803920"/>
              <a:ext cx="640080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100" spc="-1" strike="noStrike">
                  <a:solidFill>
                    <a:srgbClr val="000000"/>
                  </a:solidFill>
                  <a:latin typeface="Arial"/>
                </a:rPr>
                <a:t>über Sozialkompetenz und ein gewisses Maß an Sachkenntnis verfüge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740" name=""/>
            <p:cNvSpPr/>
            <p:nvPr/>
          </p:nvSpPr>
          <p:spPr>
            <a:xfrm rot="5400000">
              <a:off x="1164240" y="607284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sp>
        <p:nvSpPr>
          <p:cNvPr id="1741"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3" name="" descr=""/>
          <p:cNvPicPr/>
          <p:nvPr/>
        </p:nvPicPr>
        <p:blipFill>
          <a:blip r:embed="rId1"/>
          <a:stretch/>
        </p:blipFill>
        <p:spPr>
          <a:xfrm>
            <a:off x="1295280" y="1295280"/>
            <a:ext cx="6596280" cy="4349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4"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5" name="bmuk_sw" descr=""/>
          <p:cNvPicPr/>
          <p:nvPr/>
        </p:nvPicPr>
        <p:blipFill>
          <a:blip r:embed="rId1"/>
          <a:stretch/>
        </p:blipFill>
        <p:spPr>
          <a:xfrm>
            <a:off x="76320" y="0"/>
            <a:ext cx="1218960" cy="566640"/>
          </a:xfrm>
          <a:prstGeom prst="rect">
            <a:avLst/>
          </a:prstGeom>
          <a:ln w="0">
            <a:noFill/>
          </a:ln>
        </p:spPr>
      </p:pic>
      <p:sp>
        <p:nvSpPr>
          <p:cNvPr id="1746"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3"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grpSp>
        <p:nvGrpSpPr>
          <p:cNvPr id="1754" name=""/>
          <p:cNvGrpSpPr/>
          <p:nvPr/>
        </p:nvGrpSpPr>
        <p:grpSpPr>
          <a:xfrm>
            <a:off x="1676520" y="2743200"/>
            <a:ext cx="3047760" cy="3903480"/>
            <a:chOff x="1676520" y="2743200"/>
            <a:chExt cx="3047760" cy="3903480"/>
          </a:xfrm>
        </p:grpSpPr>
        <p:sp>
          <p:nvSpPr>
            <p:cNvPr id="1755" name=""/>
            <p:cNvSpPr/>
            <p:nvPr/>
          </p:nvSpPr>
          <p:spPr>
            <a:xfrm>
              <a:off x="1676520" y="3200400"/>
              <a:ext cx="304776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netzwerk neu</a:t>
              </a:r>
              <a:endParaRPr b="0" lang="en-US" sz="2200" spc="-1" strike="noStrike">
                <a:solidFill>
                  <a:srgbClr val="000000"/>
                </a:solidFill>
                <a:latin typeface="Times New Roman"/>
              </a:endParaRPr>
            </a:p>
          </p:txBody>
        </p:sp>
        <p:sp>
          <p:nvSpPr>
            <p:cNvPr id="1756" name=""/>
            <p:cNvSpPr/>
            <p:nvPr/>
          </p:nvSpPr>
          <p:spPr>
            <a:xfrm>
              <a:off x="1676520" y="3657600"/>
              <a:ext cx="1523880" cy="2895480"/>
            </a:xfrm>
            <a:prstGeom prst="rect">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3200400" y="3657600"/>
              <a:ext cx="1523880" cy="2895480"/>
            </a:xfrm>
            <a:prstGeom prst="rect">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2058840" y="4418280"/>
              <a:ext cx="108612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H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S</a:t>
              </a:r>
              <a:br>
                <a:rPr sz="2000"/>
              </a:br>
              <a:r>
                <a:rPr b="1" lang="en-US" sz="2000" spc="-1" strike="noStrike">
                  <a:solidFill>
                    <a:srgbClr val="000000"/>
                  </a:solidFill>
                  <a:latin typeface="Arial"/>
                </a:rPr>
                <a:t>PA</a:t>
              </a:r>
              <a:br>
                <a:rPr sz="2000"/>
              </a:br>
              <a:r>
                <a:rPr b="1" lang="en-US" sz="2000" spc="-1" strike="noStrike">
                  <a:solidFill>
                    <a:srgbClr val="000000"/>
                  </a:solidFill>
                  <a:latin typeface="Arial"/>
                </a:rPr>
                <a:t>BAKI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9" name=""/>
            <p:cNvSpPr/>
            <p:nvPr/>
          </p:nvSpPr>
          <p:spPr>
            <a:xfrm>
              <a:off x="1915560" y="3818520"/>
              <a:ext cx="91836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ND</a:t>
              </a:r>
              <a:endParaRPr b="0" lang="en-US" sz="2000" spc="-1" strike="noStrike">
                <a:solidFill>
                  <a:srgbClr val="000000"/>
                </a:solidFill>
                <a:latin typeface="Times New Roman"/>
              </a:endParaRPr>
            </a:p>
          </p:txBody>
        </p:sp>
        <p:sp>
          <p:nvSpPr>
            <p:cNvPr id="1760" name=""/>
            <p:cNvSpPr/>
            <p:nvPr/>
          </p:nvSpPr>
          <p:spPr>
            <a:xfrm>
              <a:off x="3530160" y="3818520"/>
              <a:ext cx="88956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D</a:t>
              </a:r>
              <a:endParaRPr b="0" lang="en-US" sz="2000" spc="-1" strike="noStrike">
                <a:solidFill>
                  <a:srgbClr val="000000"/>
                </a:solidFill>
                <a:latin typeface="Times New Roman"/>
              </a:endParaRPr>
            </a:p>
          </p:txBody>
        </p:sp>
        <p:sp>
          <p:nvSpPr>
            <p:cNvPr id="1761" name=""/>
            <p:cNvSpPr/>
            <p:nvPr/>
          </p:nvSpPr>
          <p:spPr>
            <a:xfrm>
              <a:off x="3582720" y="4418280"/>
              <a:ext cx="816120" cy="2228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g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b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2" name=""/>
            <p:cNvSpPr/>
            <p:nvPr/>
          </p:nvSpPr>
          <p:spPr>
            <a:xfrm>
              <a:off x="3962520" y="49528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3200400" y="2743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3200400" y="27432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5" name=""/>
          <p:cNvGrpSpPr/>
          <p:nvPr/>
        </p:nvGrpSpPr>
        <p:grpSpPr>
          <a:xfrm>
            <a:off x="2209680" y="1600200"/>
            <a:ext cx="5639040" cy="1143000"/>
            <a:chOff x="2209680" y="1600200"/>
            <a:chExt cx="5639040" cy="1143000"/>
          </a:xfrm>
        </p:grpSpPr>
        <p:sp>
          <p:nvSpPr>
            <p:cNvPr id="1766" name=""/>
            <p:cNvSpPr/>
            <p:nvPr/>
          </p:nvSpPr>
          <p:spPr>
            <a:xfrm>
              <a:off x="2209680" y="2057400"/>
              <a:ext cx="5639040" cy="685800"/>
            </a:xfrm>
            <a:prstGeom prst="rect">
              <a:avLst/>
            </a:prstGeom>
            <a:noFill/>
            <a:ln w="38160">
              <a:solidFill>
                <a:srgbClr val="e2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20000"/>
                  </a:solidFill>
                  <a:latin typeface="Arial"/>
                </a:rPr>
                <a:t>Q.I.S. Leitfade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20000"/>
                  </a:solidFill>
                  <a:latin typeface="Arial"/>
                </a:rPr>
                <a:t>Schulprogramm, Evaluation, 5 Qualitätsbereiche</a:t>
              </a:r>
              <a:endParaRPr b="0" lang="en-US" sz="2000" spc="-1" strike="noStrike">
                <a:solidFill>
                  <a:srgbClr val="000000"/>
                </a:solidFill>
                <a:latin typeface="Times New Roman"/>
              </a:endParaRPr>
            </a:p>
          </p:txBody>
        </p:sp>
        <p:sp>
          <p:nvSpPr>
            <p:cNvPr id="1767" name=""/>
            <p:cNvSpPr/>
            <p:nvPr/>
          </p:nvSpPr>
          <p:spPr>
            <a:xfrm>
              <a:off x="5029200" y="16002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68" name=""/>
          <p:cNvSpPr/>
          <p:nvPr/>
        </p:nvSpPr>
        <p:spPr>
          <a:xfrm>
            <a:off x="2819520" y="1219320"/>
            <a:ext cx="464796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I.S. Ziele und Philosophie</a:t>
            </a:r>
            <a:endParaRPr b="0" lang="en-US" sz="2400" spc="-1" strike="noStrike">
              <a:solidFill>
                <a:srgbClr val="000000"/>
              </a:solidFill>
              <a:latin typeface="Times New Roman"/>
            </a:endParaRPr>
          </a:p>
        </p:txBody>
      </p:sp>
      <p:grpSp>
        <p:nvGrpSpPr>
          <p:cNvPr id="1769" name=""/>
          <p:cNvGrpSpPr/>
          <p:nvPr/>
        </p:nvGrpSpPr>
        <p:grpSpPr>
          <a:xfrm>
            <a:off x="4724280" y="3200400"/>
            <a:ext cx="762120" cy="3352680"/>
            <a:chOff x="4724280" y="3200400"/>
            <a:chExt cx="762120" cy="3352680"/>
          </a:xfrm>
        </p:grpSpPr>
        <p:sp>
          <p:nvSpPr>
            <p:cNvPr id="1770" name=""/>
            <p:cNvSpPr/>
            <p:nvPr/>
          </p:nvSpPr>
          <p:spPr>
            <a:xfrm>
              <a:off x="4724280" y="3200400"/>
              <a:ext cx="762120" cy="3352680"/>
            </a:xfrm>
            <a:prstGeom prst="rect">
              <a:avLst/>
            </a:prstGeom>
            <a:solidFill>
              <a:srgbClr val="ffff00">
                <a:alpha val="50000"/>
              </a:srgbClr>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4878000" y="3425760"/>
              <a:ext cx="418320" cy="265428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br>
                <a:rPr sz="2400"/>
              </a:br>
              <a:r>
                <a:rPr b="1" lang="en-US" sz="2400" spc="-1" strike="noStrike">
                  <a:solidFill>
                    <a:srgbClr val="000000"/>
                  </a:solidFill>
                  <a:latin typeface="Arial"/>
                </a:rPr>
                <a:t>N</a:t>
              </a:r>
              <a:br>
                <a:rPr sz="2400"/>
              </a:br>
              <a:r>
                <a:rPr b="1" lang="en-US" sz="2400" spc="-1" strike="noStrike">
                  <a:solidFill>
                    <a:srgbClr val="000000"/>
                  </a:solidFill>
                  <a:latin typeface="Arial"/>
                </a:rPr>
                <a:t>G</a:t>
              </a:r>
              <a:br>
                <a:rPr sz="2400"/>
              </a:br>
              <a:r>
                <a:rPr b="1" lang="en-US" sz="2400" spc="-1" strike="noStrike">
                  <a:solidFill>
                    <a:srgbClr val="000000"/>
                  </a:solidFill>
                  <a:latin typeface="Arial"/>
                </a:rPr>
                <a:t>E</a:t>
              </a:r>
              <a:br>
                <a:rPr sz="2400"/>
              </a:br>
              <a:r>
                <a:rPr b="1" lang="en-US" sz="2400" spc="-1" strike="noStrike">
                  <a:solidFill>
                    <a:srgbClr val="000000"/>
                  </a:solidFill>
                  <a:latin typeface="Arial"/>
                </a:rPr>
                <a:t>B</a:t>
              </a:r>
              <a:br>
                <a:rPr sz="2400"/>
              </a:br>
              <a:r>
                <a:rPr b="1" lang="en-US" sz="2400" spc="-1" strike="noStrike">
                  <a:solidFill>
                    <a:srgbClr val="000000"/>
                  </a:solidFill>
                  <a:latin typeface="Arial"/>
                </a:rPr>
                <a:t>O</a:t>
              </a:r>
              <a:br>
                <a:rPr sz="2400"/>
              </a:br>
              <a:r>
                <a:rPr b="1" lang="en-US" sz="2400" spc="-1" strike="noStrike">
                  <a:solidFill>
                    <a:srgbClr val="000000"/>
                  </a:solidFill>
                  <a:latin typeface="Arial"/>
                </a:rPr>
                <a:t>T</a:t>
              </a:r>
              <a:endParaRPr b="0" lang="en-US" sz="2400" spc="-1" strike="noStrike">
                <a:solidFill>
                  <a:srgbClr val="000000"/>
                </a:solidFill>
                <a:latin typeface="Times New Roman"/>
              </a:endParaRPr>
            </a:p>
          </p:txBody>
        </p:sp>
      </p:grpSp>
      <p:sp>
        <p:nvSpPr>
          <p:cNvPr id="177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3" name=""/>
          <p:cNvGrpSpPr/>
          <p:nvPr/>
        </p:nvGrpSpPr>
        <p:grpSpPr>
          <a:xfrm>
            <a:off x="5486400" y="2743200"/>
            <a:ext cx="3048120" cy="3809880"/>
            <a:chOff x="5486400" y="2743200"/>
            <a:chExt cx="3048120" cy="3809880"/>
          </a:xfrm>
        </p:grpSpPr>
        <p:sp>
          <p:nvSpPr>
            <p:cNvPr id="1774" name=""/>
            <p:cNvSpPr/>
            <p:nvPr/>
          </p:nvSpPr>
          <p:spPr>
            <a:xfrm>
              <a:off x="5486400" y="3200400"/>
              <a:ext cx="3048120" cy="4572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I.S. -Materialien</a:t>
              </a:r>
              <a:endParaRPr b="0" lang="en-US" sz="2200" spc="-1" strike="noStrike">
                <a:solidFill>
                  <a:srgbClr val="000000"/>
                </a:solidFill>
                <a:latin typeface="Times New Roman"/>
              </a:endParaRPr>
            </a:p>
          </p:txBody>
        </p:sp>
        <p:sp>
          <p:nvSpPr>
            <p:cNvPr id="1775" name=""/>
            <p:cNvSpPr/>
            <p:nvPr/>
          </p:nvSpPr>
          <p:spPr>
            <a:xfrm>
              <a:off x="5486400" y="3657600"/>
              <a:ext cx="3048120" cy="2895480"/>
            </a:xfrm>
            <a:prstGeom prst="rect">
              <a:avLst/>
            </a:prstGeom>
            <a:solidFill>
              <a:srgbClr val="ffff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6781680" y="27432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5572440" y="4503960"/>
              <a:ext cx="152496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fahre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rschläge</a:t>
              </a:r>
              <a:endParaRPr b="0" lang="en-US" sz="2000" spc="-1" strike="noStrike">
                <a:solidFill>
                  <a:srgbClr val="000000"/>
                </a:solidFill>
                <a:latin typeface="Times New Roman"/>
              </a:endParaRPr>
            </a:p>
          </p:txBody>
        </p:sp>
        <p:sp>
          <p:nvSpPr>
            <p:cNvPr id="1778" name=""/>
            <p:cNvSpPr/>
            <p:nvPr/>
          </p:nvSpPr>
          <p:spPr>
            <a:xfrm>
              <a:off x="6858000" y="3894480"/>
              <a:ext cx="1392120" cy="7038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ögen</a:t>
              </a:r>
              <a:endParaRPr b="0" lang="en-US" sz="2000" spc="-1" strike="noStrike">
                <a:solidFill>
                  <a:srgbClr val="000000"/>
                </a:solidFill>
                <a:latin typeface="Times New Roman"/>
              </a:endParaRPr>
            </a:p>
          </p:txBody>
        </p:sp>
        <p:sp>
          <p:nvSpPr>
            <p:cNvPr id="1779" name=""/>
            <p:cNvSpPr/>
            <p:nvPr/>
          </p:nvSpPr>
          <p:spPr>
            <a:xfrm>
              <a:off x="6944400" y="5113800"/>
              <a:ext cx="138312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en</a:t>
              </a:r>
              <a:endParaRPr b="0" lang="en-US" sz="2000" spc="-1" strike="noStrike">
                <a:solidFill>
                  <a:srgbClr val="000000"/>
                </a:solidFill>
                <a:latin typeface="Times New Roman"/>
              </a:endParaRPr>
            </a:p>
          </p:txBody>
        </p:sp>
      </p:grpSp>
      <p:grpSp>
        <p:nvGrpSpPr>
          <p:cNvPr id="1780" name=""/>
          <p:cNvGrpSpPr/>
          <p:nvPr/>
        </p:nvGrpSpPr>
        <p:grpSpPr>
          <a:xfrm>
            <a:off x="0" y="1371600"/>
            <a:ext cx="1219320" cy="990360"/>
            <a:chOff x="0" y="1371600"/>
            <a:chExt cx="1219320" cy="990360"/>
          </a:xfrm>
        </p:grpSpPr>
        <p:sp>
          <p:nvSpPr>
            <p:cNvPr id="1781"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2"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4" name="bmuk_sw" descr=""/>
          <p:cNvPicPr/>
          <p:nvPr/>
        </p:nvPicPr>
        <p:blipFill>
          <a:blip r:embed="rId1"/>
          <a:stretch/>
        </p:blipFill>
        <p:spPr>
          <a:xfrm>
            <a:off x="76320" y="0"/>
            <a:ext cx="1218960" cy="566640"/>
          </a:xfrm>
          <a:prstGeom prst="rect">
            <a:avLst/>
          </a:prstGeom>
          <a:ln w="0">
            <a:noFill/>
          </a:ln>
        </p:spPr>
      </p:pic>
      <p:sp>
        <p:nvSpPr>
          <p:cNvPr id="178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1447920" y="1981080"/>
            <a:ext cx="183960" cy="527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7" name=""/>
          <p:cNvSpPr/>
          <p:nvPr/>
        </p:nvSpPr>
        <p:spPr>
          <a:xfrm>
            <a:off x="1219320" y="28195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8" name=""/>
          <p:cNvSpPr/>
          <p:nvPr/>
        </p:nvSpPr>
        <p:spPr>
          <a:xfrm>
            <a:off x="1219320" y="335268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9" name=""/>
          <p:cNvSpPr/>
          <p:nvPr/>
        </p:nvSpPr>
        <p:spPr>
          <a:xfrm>
            <a:off x="1219320" y="388620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0" name=""/>
          <p:cNvSpPr/>
          <p:nvPr/>
        </p:nvSpPr>
        <p:spPr>
          <a:xfrm>
            <a:off x="1219320" y="4419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1" name=""/>
          <p:cNvSpPr/>
          <p:nvPr/>
        </p:nvSpPr>
        <p:spPr>
          <a:xfrm>
            <a:off x="1219320" y="502920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2"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93" name=""/>
          <p:cNvGrpSpPr/>
          <p:nvPr/>
        </p:nvGrpSpPr>
        <p:grpSpPr>
          <a:xfrm>
            <a:off x="762120" y="1675080"/>
            <a:ext cx="5489280" cy="825480"/>
            <a:chOff x="762120" y="1675080"/>
            <a:chExt cx="5489280" cy="825480"/>
          </a:xfrm>
        </p:grpSpPr>
        <p:sp>
          <p:nvSpPr>
            <p:cNvPr id="1794" name=""/>
            <p:cNvSpPr/>
            <p:nvPr/>
          </p:nvSpPr>
          <p:spPr>
            <a:xfrm flipV="1">
              <a:off x="762120" y="181692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1764000" y="1675080"/>
              <a:ext cx="4487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Qualitätsnetzwerk ist di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net-Plattform für:</a:t>
              </a:r>
              <a:endParaRPr b="0" lang="en-US" sz="2400" spc="-1" strike="noStrike">
                <a:solidFill>
                  <a:srgbClr val="000000"/>
                </a:solidFill>
                <a:latin typeface="Times New Roman"/>
              </a:endParaRPr>
            </a:p>
          </p:txBody>
        </p:sp>
      </p:grpSp>
      <p:sp>
        <p:nvSpPr>
          <p:cNvPr id="1796" name=""/>
          <p:cNvSpPr/>
          <p:nvPr/>
        </p:nvSpPr>
        <p:spPr>
          <a:xfrm>
            <a:off x="1754280" y="2737440"/>
            <a:ext cx="3013920" cy="52956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fahrungsaustausch</a:t>
            </a:r>
            <a:endParaRPr b="0" lang="en-US" sz="2200" spc="-1" strike="noStrike">
              <a:solidFill>
                <a:srgbClr val="000000"/>
              </a:solidFill>
              <a:latin typeface="Times New Roman"/>
            </a:endParaRPr>
          </a:p>
        </p:txBody>
      </p:sp>
      <p:sp>
        <p:nvSpPr>
          <p:cNvPr id="1797" name=""/>
          <p:cNvSpPr/>
          <p:nvPr/>
        </p:nvSpPr>
        <p:spPr>
          <a:xfrm>
            <a:off x="1219320" y="2997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8" name=""/>
          <p:cNvGrpSpPr/>
          <p:nvPr/>
        </p:nvGrpSpPr>
        <p:grpSpPr>
          <a:xfrm>
            <a:off x="1219320" y="3250080"/>
            <a:ext cx="4263480" cy="529560"/>
            <a:chOff x="1219320" y="3250080"/>
            <a:chExt cx="4263480" cy="529560"/>
          </a:xfrm>
        </p:grpSpPr>
        <p:sp>
          <p:nvSpPr>
            <p:cNvPr id="1799" name=""/>
            <p:cNvSpPr/>
            <p:nvPr/>
          </p:nvSpPr>
          <p:spPr>
            <a:xfrm>
              <a:off x="1754280" y="3250080"/>
              <a:ext cx="3728520" cy="52956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räsentation von Projekten</a:t>
              </a:r>
              <a:endParaRPr b="0" lang="en-US" sz="2200" spc="-1" strike="noStrike">
                <a:solidFill>
                  <a:srgbClr val="000000"/>
                </a:solidFill>
                <a:latin typeface="Times New Roman"/>
              </a:endParaRPr>
            </a:p>
          </p:txBody>
        </p:sp>
        <p:sp>
          <p:nvSpPr>
            <p:cNvPr id="1800" name=""/>
            <p:cNvSpPr/>
            <p:nvPr/>
          </p:nvSpPr>
          <p:spPr>
            <a:xfrm>
              <a:off x="1219320" y="3546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1219320" y="3788280"/>
            <a:ext cx="2258280" cy="429120"/>
            <a:chOff x="1219320" y="3788280"/>
            <a:chExt cx="2258280" cy="429120"/>
          </a:xfrm>
        </p:grpSpPr>
        <p:sp>
          <p:nvSpPr>
            <p:cNvPr id="1802" name=""/>
            <p:cNvSpPr/>
            <p:nvPr/>
          </p:nvSpPr>
          <p:spPr>
            <a:xfrm>
              <a:off x="1753200" y="3788280"/>
              <a:ext cx="1724400" cy="429120"/>
            </a:xfrm>
            <a:prstGeom prst="rect">
              <a:avLst/>
            </a:prstGeom>
            <a:noFill/>
            <a:ln w="0">
              <a:noFill/>
            </a:ln>
          </p:spPr>
          <p:style>
            <a:lnRef idx="0"/>
            <a:fillRef idx="0"/>
            <a:effectRef idx="0"/>
            <a:fontRef idx="minor"/>
          </p:style>
          <p:txBody>
            <a:bodyPr wrap="none" lIns="90000" rIns="90000" tIns="46800" bIns="46800" anchor="ctr">
              <a:spAutoFit/>
            </a:bodyPr>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skussion</a:t>
              </a:r>
              <a:endParaRPr b="0" lang="en-US" sz="2200" spc="-1" strike="noStrike">
                <a:solidFill>
                  <a:srgbClr val="000000"/>
                </a:solidFill>
                <a:latin typeface="Times New Roman"/>
              </a:endParaRPr>
            </a:p>
          </p:txBody>
        </p:sp>
        <p:sp>
          <p:nvSpPr>
            <p:cNvPr id="1803" name=""/>
            <p:cNvSpPr/>
            <p:nvPr/>
          </p:nvSpPr>
          <p:spPr>
            <a:xfrm>
              <a:off x="1219320" y="40334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4" name=""/>
          <p:cNvGrpSpPr/>
          <p:nvPr/>
        </p:nvGrpSpPr>
        <p:grpSpPr>
          <a:xfrm>
            <a:off x="1227240" y="4242240"/>
            <a:ext cx="2304720" cy="529560"/>
            <a:chOff x="1227240" y="4242240"/>
            <a:chExt cx="2304720" cy="529560"/>
          </a:xfrm>
        </p:grpSpPr>
        <p:sp>
          <p:nvSpPr>
            <p:cNvPr id="1805" name=""/>
            <p:cNvSpPr/>
            <p:nvPr/>
          </p:nvSpPr>
          <p:spPr>
            <a:xfrm>
              <a:off x="1763280" y="4242240"/>
              <a:ext cx="1768680" cy="52956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formation</a:t>
              </a:r>
              <a:endParaRPr b="0" lang="en-US" sz="2200" spc="-1" strike="noStrike">
                <a:solidFill>
                  <a:srgbClr val="000000"/>
                </a:solidFill>
                <a:latin typeface="Times New Roman"/>
              </a:endParaRPr>
            </a:p>
          </p:txBody>
        </p:sp>
        <p:sp>
          <p:nvSpPr>
            <p:cNvPr id="1806" name=""/>
            <p:cNvSpPr/>
            <p:nvPr/>
          </p:nvSpPr>
          <p:spPr>
            <a:xfrm>
              <a:off x="1227240" y="4536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7" name=""/>
          <p:cNvGrpSpPr/>
          <p:nvPr/>
        </p:nvGrpSpPr>
        <p:grpSpPr>
          <a:xfrm>
            <a:off x="1227240" y="4728240"/>
            <a:ext cx="2803320" cy="529560"/>
            <a:chOff x="1227240" y="4728240"/>
            <a:chExt cx="2803320" cy="529560"/>
          </a:xfrm>
        </p:grpSpPr>
        <p:sp>
          <p:nvSpPr>
            <p:cNvPr id="1808" name=""/>
            <p:cNvSpPr/>
            <p:nvPr/>
          </p:nvSpPr>
          <p:spPr>
            <a:xfrm>
              <a:off x="1761840" y="4728240"/>
              <a:ext cx="2268720" cy="52956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ips und Tricks</a:t>
              </a:r>
              <a:endParaRPr b="0" lang="en-US" sz="2200" spc="-1" strike="noStrike">
                <a:solidFill>
                  <a:srgbClr val="000000"/>
                </a:solidFill>
                <a:latin typeface="Times New Roman"/>
              </a:endParaRPr>
            </a:p>
          </p:txBody>
        </p:sp>
        <p:sp>
          <p:nvSpPr>
            <p:cNvPr id="1809" name=""/>
            <p:cNvSpPr/>
            <p:nvPr/>
          </p:nvSpPr>
          <p:spPr>
            <a:xfrm>
              <a:off x="1227240" y="50245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0" name=""/>
          <p:cNvGrpSpPr/>
          <p:nvPr/>
        </p:nvGrpSpPr>
        <p:grpSpPr>
          <a:xfrm>
            <a:off x="1219320" y="5212440"/>
            <a:ext cx="3253320" cy="529560"/>
            <a:chOff x="1219320" y="5212440"/>
            <a:chExt cx="3253320" cy="529560"/>
          </a:xfrm>
        </p:grpSpPr>
        <p:sp>
          <p:nvSpPr>
            <p:cNvPr id="1811" name=""/>
            <p:cNvSpPr/>
            <p:nvPr/>
          </p:nvSpPr>
          <p:spPr>
            <a:xfrm>
              <a:off x="1754640" y="5212440"/>
              <a:ext cx="2718000" cy="52956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iteraturhinweise...</a:t>
              </a:r>
              <a:endParaRPr b="0" lang="en-US" sz="2200" spc="-1" strike="noStrike">
                <a:solidFill>
                  <a:srgbClr val="000000"/>
                </a:solidFill>
                <a:latin typeface="Times New Roman"/>
              </a:endParaRPr>
            </a:p>
          </p:txBody>
        </p:sp>
        <p:sp>
          <p:nvSpPr>
            <p:cNvPr id="1812" name=""/>
            <p:cNvSpPr/>
            <p:nvPr/>
          </p:nvSpPr>
          <p:spPr>
            <a:xfrm>
              <a:off x="1219320" y="55087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0" y="609480"/>
            <a:ext cx="2743200" cy="764280"/>
            <a:chOff x="0" y="609480"/>
            <a:chExt cx="2743200" cy="764280"/>
          </a:xfrm>
        </p:grpSpPr>
        <p:sp>
          <p:nvSpPr>
            <p:cNvPr id="1819"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0"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821" name=""/>
            <p:cNvSpPr/>
            <p:nvPr/>
          </p:nvSpPr>
          <p:spPr>
            <a:xfrm>
              <a:off x="0" y="990720"/>
              <a:ext cx="2666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2" name=""/>
            <p:cNvSpPr/>
            <p:nvPr/>
          </p:nvSpPr>
          <p:spPr>
            <a:xfrm>
              <a:off x="0" y="944640"/>
              <a:ext cx="2743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netzwerk</a:t>
              </a:r>
              <a:endParaRPr b="0" lang="en-US" sz="2200" spc="-1" strike="noStrike">
                <a:solidFill>
                  <a:srgbClr val="000000"/>
                </a:solidFill>
                <a:latin typeface="Times New Roman"/>
              </a:endParaRPr>
            </a:p>
          </p:txBody>
        </p:sp>
      </p:grpSp>
      <p:sp>
        <p:nvSpPr>
          <p:cNvPr id="182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4" name=""/>
          <p:cNvGrpSpPr/>
          <p:nvPr/>
        </p:nvGrpSpPr>
        <p:grpSpPr>
          <a:xfrm>
            <a:off x="0" y="1371600"/>
            <a:ext cx="1219320" cy="998280"/>
            <a:chOff x="0" y="1371600"/>
            <a:chExt cx="1219320" cy="998280"/>
          </a:xfrm>
        </p:grpSpPr>
        <p:sp>
          <p:nvSpPr>
            <p:cNvPr id="1825" name=""/>
            <p:cNvSpPr/>
            <p:nvPr/>
          </p:nvSpPr>
          <p:spPr>
            <a:xfrm>
              <a:off x="0" y="1371600"/>
              <a:ext cx="1219320" cy="99828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6" name="" descr=""/>
            <p:cNvPicPr/>
            <p:nvPr/>
          </p:nvPicPr>
          <p:blipFill>
            <a:blip r:embed="rId2"/>
            <a:stretch/>
          </p:blipFill>
          <p:spPr>
            <a:xfrm>
              <a:off x="152280" y="1447920"/>
              <a:ext cx="914400" cy="83880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8" name="bmuk_sw" descr=""/>
          <p:cNvPicPr/>
          <p:nvPr/>
        </p:nvPicPr>
        <p:blipFill>
          <a:blip r:embed="rId1"/>
          <a:stretch/>
        </p:blipFill>
        <p:spPr>
          <a:xfrm>
            <a:off x="76320" y="0"/>
            <a:ext cx="1218960" cy="566640"/>
          </a:xfrm>
          <a:prstGeom prst="rect">
            <a:avLst/>
          </a:prstGeom>
          <a:ln w="0">
            <a:noFill/>
          </a:ln>
        </p:spPr>
      </p:pic>
      <p:sp>
        <p:nvSpPr>
          <p:cNvPr id="182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1447920" y="1981080"/>
            <a:ext cx="183960" cy="527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1" name=""/>
          <p:cNvSpPr/>
          <p:nvPr/>
        </p:nvSpPr>
        <p:spPr>
          <a:xfrm>
            <a:off x="1219320" y="28195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2"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33" name=""/>
          <p:cNvGrpSpPr/>
          <p:nvPr/>
        </p:nvGrpSpPr>
        <p:grpSpPr>
          <a:xfrm>
            <a:off x="762120" y="1828440"/>
            <a:ext cx="6319080" cy="546120"/>
            <a:chOff x="762120" y="1828440"/>
            <a:chExt cx="6319080" cy="546120"/>
          </a:xfrm>
        </p:grpSpPr>
        <p:sp>
          <p:nvSpPr>
            <p:cNvPr id="1834" name=""/>
            <p:cNvSpPr/>
            <p:nvPr/>
          </p:nvSpPr>
          <p:spPr>
            <a:xfrm flipV="1">
              <a:off x="762120" y="1828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1766160" y="1867680"/>
              <a:ext cx="531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Qualitätsnetzwerk besteht aus:</a:t>
              </a:r>
              <a:endParaRPr b="0" lang="en-US" sz="2400" spc="-1" strike="noStrike">
                <a:solidFill>
                  <a:srgbClr val="000000"/>
                </a:solidFill>
                <a:latin typeface="Times New Roman"/>
              </a:endParaRPr>
            </a:p>
          </p:txBody>
        </p:sp>
      </p:grpSp>
      <p:sp>
        <p:nvSpPr>
          <p:cNvPr id="1836" name=""/>
          <p:cNvSpPr/>
          <p:nvPr/>
        </p:nvSpPr>
        <p:spPr>
          <a:xfrm>
            <a:off x="1755720" y="2619720"/>
            <a:ext cx="4629240" cy="76428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9 Länderforen, die vom jeweiligen </a:t>
            </a:r>
            <a:endParaRPr b="0" lang="en-US" sz="2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SR/SSR betreut werden</a:t>
            </a:r>
            <a:endParaRPr b="0" lang="en-US" sz="2200" spc="-1" strike="noStrike">
              <a:solidFill>
                <a:srgbClr val="000000"/>
              </a:solidFill>
              <a:latin typeface="Times New Roman"/>
            </a:endParaRPr>
          </a:p>
        </p:txBody>
      </p:sp>
      <p:sp>
        <p:nvSpPr>
          <p:cNvPr id="1837" name=""/>
          <p:cNvSpPr/>
          <p:nvPr/>
        </p:nvSpPr>
        <p:spPr>
          <a:xfrm>
            <a:off x="1219320" y="2997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8" name=""/>
          <p:cNvGrpSpPr/>
          <p:nvPr/>
        </p:nvGrpSpPr>
        <p:grpSpPr>
          <a:xfrm>
            <a:off x="1219320" y="3711960"/>
            <a:ext cx="7494480" cy="429120"/>
            <a:chOff x="1219320" y="3711960"/>
            <a:chExt cx="7494480" cy="429120"/>
          </a:xfrm>
        </p:grpSpPr>
        <p:sp>
          <p:nvSpPr>
            <p:cNvPr id="1839" name=""/>
            <p:cNvSpPr/>
            <p:nvPr/>
          </p:nvSpPr>
          <p:spPr>
            <a:xfrm>
              <a:off x="1758960" y="3711960"/>
              <a:ext cx="695484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oren der Schularten, die vom BMUK betreut werden</a:t>
              </a:r>
              <a:endParaRPr b="0" lang="en-US" sz="2200" spc="-1" strike="noStrike">
                <a:solidFill>
                  <a:srgbClr val="000000"/>
                </a:solidFill>
                <a:latin typeface="Times New Roman"/>
              </a:endParaRPr>
            </a:p>
          </p:txBody>
        </p:sp>
        <p:sp>
          <p:nvSpPr>
            <p:cNvPr id="1840" name=""/>
            <p:cNvSpPr/>
            <p:nvPr/>
          </p:nvSpPr>
          <p:spPr>
            <a:xfrm>
              <a:off x="1219320" y="3958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1" name=""/>
          <p:cNvGrpSpPr/>
          <p:nvPr/>
        </p:nvGrpSpPr>
        <p:grpSpPr>
          <a:xfrm>
            <a:off x="1219320" y="4753440"/>
            <a:ext cx="6098400" cy="429120"/>
            <a:chOff x="1219320" y="4753440"/>
            <a:chExt cx="6098400" cy="429120"/>
          </a:xfrm>
        </p:grpSpPr>
        <p:sp>
          <p:nvSpPr>
            <p:cNvPr id="1842" name=""/>
            <p:cNvSpPr/>
            <p:nvPr/>
          </p:nvSpPr>
          <p:spPr>
            <a:xfrm>
              <a:off x="1754280" y="4753440"/>
              <a:ext cx="5563440" cy="429120"/>
            </a:xfrm>
            <a:prstGeom prst="rect">
              <a:avLst/>
            </a:prstGeom>
            <a:noFill/>
            <a:ln w="0">
              <a:noFill/>
            </a:ln>
          </p:spPr>
          <p:style>
            <a:lnRef idx="0"/>
            <a:fillRef idx="0"/>
            <a:effectRef idx="0"/>
            <a:fontRef idx="minor"/>
          </p:style>
          <p:txBody>
            <a:bodyPr wrap="none" lIns="90000" rIns="90000" tIns="46800" bIns="46800" anchor="ctr">
              <a:spAutoFit/>
            </a:bodyPr>
            <a:p>
              <a:pPr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olltextsuchfunktion über gesamten Inhalt</a:t>
              </a:r>
              <a:endParaRPr b="0" lang="en-US" sz="2200" spc="-1" strike="noStrike">
                <a:solidFill>
                  <a:srgbClr val="000000"/>
                </a:solidFill>
                <a:latin typeface="Times New Roman"/>
              </a:endParaRPr>
            </a:p>
          </p:txBody>
        </p:sp>
        <p:sp>
          <p:nvSpPr>
            <p:cNvPr id="1843" name=""/>
            <p:cNvSpPr/>
            <p:nvPr/>
          </p:nvSpPr>
          <p:spPr>
            <a:xfrm>
              <a:off x="1219320" y="4998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0"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851" name=""/>
          <p:cNvSpPr/>
          <p:nvPr/>
        </p:nvSpPr>
        <p:spPr>
          <a:xfrm>
            <a:off x="0" y="990720"/>
            <a:ext cx="2666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2" name=""/>
          <p:cNvSpPr/>
          <p:nvPr/>
        </p:nvSpPr>
        <p:spPr>
          <a:xfrm>
            <a:off x="0" y="944640"/>
            <a:ext cx="2743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netzwerk</a:t>
            </a:r>
            <a:endParaRPr b="0" lang="en-US" sz="2200" spc="-1" strike="noStrike">
              <a:solidFill>
                <a:srgbClr val="000000"/>
              </a:solidFill>
              <a:latin typeface="Times New Roman"/>
            </a:endParaRPr>
          </a:p>
        </p:txBody>
      </p:sp>
      <p:sp>
        <p:nvSpPr>
          <p:cNvPr id="185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4" name=""/>
          <p:cNvGrpSpPr/>
          <p:nvPr/>
        </p:nvGrpSpPr>
        <p:grpSpPr>
          <a:xfrm>
            <a:off x="0" y="1371600"/>
            <a:ext cx="1219320" cy="990360"/>
            <a:chOff x="0" y="1371600"/>
            <a:chExt cx="1219320" cy="990360"/>
          </a:xfrm>
        </p:grpSpPr>
        <p:sp>
          <p:nvSpPr>
            <p:cNvPr id="1855"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6"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8" name="bmuk_sw" descr=""/>
          <p:cNvPicPr/>
          <p:nvPr/>
        </p:nvPicPr>
        <p:blipFill>
          <a:blip r:embed="rId1"/>
          <a:stretch/>
        </p:blipFill>
        <p:spPr>
          <a:xfrm>
            <a:off x="76320" y="0"/>
            <a:ext cx="1218960" cy="566640"/>
          </a:xfrm>
          <a:prstGeom prst="rect">
            <a:avLst/>
          </a:prstGeom>
          <a:ln w="0">
            <a:noFill/>
          </a:ln>
        </p:spPr>
      </p:pic>
      <p:sp>
        <p:nvSpPr>
          <p:cNvPr id="185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1447920" y="1981080"/>
            <a:ext cx="183960" cy="527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1" name=""/>
          <p:cNvSpPr/>
          <p:nvPr/>
        </p:nvSpPr>
        <p:spPr>
          <a:xfrm>
            <a:off x="1219320" y="28195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2"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63" name=""/>
          <p:cNvGrpSpPr/>
          <p:nvPr/>
        </p:nvGrpSpPr>
        <p:grpSpPr>
          <a:xfrm>
            <a:off x="762120" y="1828440"/>
            <a:ext cx="4981680" cy="546120"/>
            <a:chOff x="762120" y="1828440"/>
            <a:chExt cx="4981680" cy="546120"/>
          </a:xfrm>
        </p:grpSpPr>
        <p:sp>
          <p:nvSpPr>
            <p:cNvPr id="1864" name=""/>
            <p:cNvSpPr/>
            <p:nvPr/>
          </p:nvSpPr>
          <p:spPr>
            <a:xfrm flipV="1">
              <a:off x="762120" y="1828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765440" y="1867680"/>
              <a:ext cx="3978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s Qualitätsnetzwerk ist:</a:t>
              </a:r>
              <a:endParaRPr b="0" lang="en-US" sz="2400" spc="-1" strike="noStrike">
                <a:solidFill>
                  <a:srgbClr val="000000"/>
                </a:solidFill>
                <a:latin typeface="Times New Roman"/>
              </a:endParaRPr>
            </a:p>
          </p:txBody>
        </p:sp>
      </p:grpSp>
      <p:sp>
        <p:nvSpPr>
          <p:cNvPr id="1866" name=""/>
          <p:cNvSpPr/>
          <p:nvPr/>
        </p:nvSpPr>
        <p:spPr>
          <a:xfrm>
            <a:off x="1756080" y="2635920"/>
            <a:ext cx="6026760" cy="10994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FFEN für alle Interessierten: Schüler/innen, </a:t>
            </a:r>
            <a:endParaRPr b="0" lang="en-US" sz="2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ltern, Lehrer/innen, Direktor/innen, </a:t>
            </a:r>
            <a:endParaRPr b="0" lang="en-US" sz="2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aufsicht, Schulverwaltung ...</a:t>
            </a:r>
            <a:endParaRPr b="0" lang="en-US" sz="2200" spc="-1" strike="noStrike">
              <a:solidFill>
                <a:srgbClr val="000000"/>
              </a:solidFill>
              <a:latin typeface="Times New Roman"/>
            </a:endParaRPr>
          </a:p>
        </p:txBody>
      </p:sp>
      <p:sp>
        <p:nvSpPr>
          <p:cNvPr id="1867" name=""/>
          <p:cNvSpPr/>
          <p:nvPr/>
        </p:nvSpPr>
        <p:spPr>
          <a:xfrm>
            <a:off x="1219320" y="2997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68" name=""/>
          <p:cNvGrpSpPr/>
          <p:nvPr/>
        </p:nvGrpSpPr>
        <p:grpSpPr>
          <a:xfrm>
            <a:off x="1219320" y="3975480"/>
            <a:ext cx="4730760" cy="429120"/>
            <a:chOff x="1219320" y="3975480"/>
            <a:chExt cx="4730760" cy="429120"/>
          </a:xfrm>
        </p:grpSpPr>
        <p:sp>
          <p:nvSpPr>
            <p:cNvPr id="1869" name=""/>
            <p:cNvSpPr/>
            <p:nvPr/>
          </p:nvSpPr>
          <p:spPr>
            <a:xfrm>
              <a:off x="1753920" y="3975480"/>
              <a:ext cx="419616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t>
              </a:r>
              <a:r>
                <a:rPr b="0" lang="de-DE" sz="2200" spc="-1" strike="noStrike">
                  <a:solidFill>
                    <a:srgbClr val="000000"/>
                  </a:solidFill>
                  <a:latin typeface="Arial"/>
                </a:rPr>
                <a:t>Elektronische Fachzeitschrift“ </a:t>
              </a:r>
              <a:endParaRPr b="0" lang="en-US" sz="2200" spc="-1" strike="noStrike">
                <a:solidFill>
                  <a:srgbClr val="000000"/>
                </a:solidFill>
                <a:latin typeface="Times New Roman"/>
              </a:endParaRPr>
            </a:p>
          </p:txBody>
        </p:sp>
        <p:sp>
          <p:nvSpPr>
            <p:cNvPr id="1870" name=""/>
            <p:cNvSpPr/>
            <p:nvPr/>
          </p:nvSpPr>
          <p:spPr>
            <a:xfrm>
              <a:off x="1219320" y="42224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1219320" y="4753440"/>
            <a:ext cx="6035760" cy="429120"/>
            <a:chOff x="1219320" y="4753440"/>
            <a:chExt cx="6035760" cy="429120"/>
          </a:xfrm>
        </p:grpSpPr>
        <p:sp>
          <p:nvSpPr>
            <p:cNvPr id="1872" name=""/>
            <p:cNvSpPr/>
            <p:nvPr/>
          </p:nvSpPr>
          <p:spPr>
            <a:xfrm>
              <a:off x="1757160" y="4753440"/>
              <a:ext cx="549792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räsentationsmedium für „good practice“ </a:t>
              </a:r>
              <a:endParaRPr b="0" lang="en-US" sz="2200" spc="-1" strike="noStrike">
                <a:solidFill>
                  <a:srgbClr val="000000"/>
                </a:solidFill>
                <a:latin typeface="Times New Roman"/>
              </a:endParaRPr>
            </a:p>
          </p:txBody>
        </p:sp>
        <p:sp>
          <p:nvSpPr>
            <p:cNvPr id="1873" name=""/>
            <p:cNvSpPr/>
            <p:nvPr/>
          </p:nvSpPr>
          <p:spPr>
            <a:xfrm>
              <a:off x="1219320" y="4998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0"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881" name=""/>
          <p:cNvSpPr/>
          <p:nvPr/>
        </p:nvSpPr>
        <p:spPr>
          <a:xfrm>
            <a:off x="0" y="990720"/>
            <a:ext cx="2666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2" name=""/>
          <p:cNvSpPr/>
          <p:nvPr/>
        </p:nvSpPr>
        <p:spPr>
          <a:xfrm>
            <a:off x="0" y="944640"/>
            <a:ext cx="2743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netzwerk</a:t>
            </a:r>
            <a:endParaRPr b="0" lang="en-US" sz="2200" spc="-1" strike="noStrike">
              <a:solidFill>
                <a:srgbClr val="000000"/>
              </a:solidFill>
              <a:latin typeface="Times New Roman"/>
            </a:endParaRPr>
          </a:p>
        </p:txBody>
      </p:sp>
      <p:sp>
        <p:nvSpPr>
          <p:cNvPr id="188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4" name=""/>
          <p:cNvGrpSpPr/>
          <p:nvPr/>
        </p:nvGrpSpPr>
        <p:grpSpPr>
          <a:xfrm>
            <a:off x="0" y="1371600"/>
            <a:ext cx="1219320" cy="990360"/>
            <a:chOff x="0" y="1371600"/>
            <a:chExt cx="1219320" cy="990360"/>
          </a:xfrm>
        </p:grpSpPr>
        <p:sp>
          <p:nvSpPr>
            <p:cNvPr id="1885"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6"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8" name="bmuk_sw" descr=""/>
          <p:cNvPicPr/>
          <p:nvPr/>
        </p:nvPicPr>
        <p:blipFill>
          <a:blip r:embed="rId1"/>
          <a:stretch/>
        </p:blipFill>
        <p:spPr>
          <a:xfrm>
            <a:off x="76320" y="0"/>
            <a:ext cx="1218960" cy="566640"/>
          </a:xfrm>
          <a:prstGeom prst="rect">
            <a:avLst/>
          </a:prstGeom>
          <a:ln w="0">
            <a:noFill/>
          </a:ln>
        </p:spPr>
      </p:pic>
      <p:sp>
        <p:nvSpPr>
          <p:cNvPr id="188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1447920" y="1981080"/>
            <a:ext cx="183960" cy="527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1" name=""/>
          <p:cNvSpPr/>
          <p:nvPr/>
        </p:nvSpPr>
        <p:spPr>
          <a:xfrm>
            <a:off x="1219320" y="28195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2"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93" name=""/>
          <p:cNvGrpSpPr/>
          <p:nvPr/>
        </p:nvGrpSpPr>
        <p:grpSpPr>
          <a:xfrm>
            <a:off x="762120" y="1828440"/>
            <a:ext cx="5743080" cy="546120"/>
            <a:chOff x="762120" y="1828440"/>
            <a:chExt cx="5743080" cy="546120"/>
          </a:xfrm>
        </p:grpSpPr>
        <p:sp>
          <p:nvSpPr>
            <p:cNvPr id="1894" name=""/>
            <p:cNvSpPr/>
            <p:nvPr/>
          </p:nvSpPr>
          <p:spPr>
            <a:xfrm flipV="1">
              <a:off x="762120" y="1828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1764720" y="1867680"/>
              <a:ext cx="474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halte des Qualitätsnetzwerks:</a:t>
              </a:r>
              <a:endParaRPr b="0" lang="en-US" sz="2400" spc="-1" strike="noStrike">
                <a:solidFill>
                  <a:srgbClr val="000000"/>
                </a:solidFill>
                <a:latin typeface="Times New Roman"/>
              </a:endParaRPr>
            </a:p>
          </p:txBody>
        </p:sp>
      </p:grpSp>
      <p:sp>
        <p:nvSpPr>
          <p:cNvPr id="1896" name=""/>
          <p:cNvSpPr/>
          <p:nvPr/>
        </p:nvSpPr>
        <p:spPr>
          <a:xfrm>
            <a:off x="1754640" y="2742120"/>
            <a:ext cx="435024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fahrungsberichte von Schulen</a:t>
            </a:r>
            <a:endParaRPr b="0" lang="en-US" sz="2200" spc="-1" strike="noStrike">
              <a:solidFill>
                <a:srgbClr val="000000"/>
              </a:solidFill>
              <a:latin typeface="Times New Roman"/>
            </a:endParaRPr>
          </a:p>
        </p:txBody>
      </p:sp>
      <p:sp>
        <p:nvSpPr>
          <p:cNvPr id="1897" name=""/>
          <p:cNvSpPr/>
          <p:nvPr/>
        </p:nvSpPr>
        <p:spPr>
          <a:xfrm>
            <a:off x="1219320" y="2997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8" name=""/>
          <p:cNvGrpSpPr/>
          <p:nvPr/>
        </p:nvGrpSpPr>
        <p:grpSpPr>
          <a:xfrm>
            <a:off x="1219320" y="3275640"/>
            <a:ext cx="6888600" cy="764280"/>
            <a:chOff x="1219320" y="3275640"/>
            <a:chExt cx="6888600" cy="764280"/>
          </a:xfrm>
        </p:grpSpPr>
        <p:sp>
          <p:nvSpPr>
            <p:cNvPr id="1899" name=""/>
            <p:cNvSpPr/>
            <p:nvPr/>
          </p:nvSpPr>
          <p:spPr>
            <a:xfrm>
              <a:off x="1755000" y="3275640"/>
              <a:ext cx="6352920" cy="76428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ktuelle Beiträge zu den Themen: Qualität,</a:t>
              </a:r>
              <a:endParaRPr b="0" lang="en-US" sz="2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ulprogramm, Evaluation, Schulentwicklung...</a:t>
              </a:r>
              <a:endParaRPr b="0" lang="en-US" sz="2200" spc="-1" strike="noStrike">
                <a:solidFill>
                  <a:srgbClr val="000000"/>
                </a:solidFill>
                <a:latin typeface="Times New Roman"/>
              </a:endParaRPr>
            </a:p>
          </p:txBody>
        </p:sp>
        <p:sp>
          <p:nvSpPr>
            <p:cNvPr id="1900" name=""/>
            <p:cNvSpPr/>
            <p:nvPr/>
          </p:nvSpPr>
          <p:spPr>
            <a:xfrm>
              <a:off x="1219320" y="3688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1219320" y="4113720"/>
            <a:ext cx="6098040" cy="429120"/>
            <a:chOff x="1219320" y="4113720"/>
            <a:chExt cx="6098040" cy="429120"/>
          </a:xfrm>
        </p:grpSpPr>
        <p:sp>
          <p:nvSpPr>
            <p:cNvPr id="1902" name=""/>
            <p:cNvSpPr/>
            <p:nvPr/>
          </p:nvSpPr>
          <p:spPr>
            <a:xfrm>
              <a:off x="1756800" y="4113720"/>
              <a:ext cx="556056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anstaltungen: Seminare, Tagungen, ...</a:t>
              </a:r>
              <a:endParaRPr b="0" lang="en-US" sz="2200" spc="-1" strike="noStrike">
                <a:solidFill>
                  <a:srgbClr val="000000"/>
                </a:solidFill>
                <a:latin typeface="Times New Roman"/>
              </a:endParaRPr>
            </a:p>
          </p:txBody>
        </p:sp>
        <p:sp>
          <p:nvSpPr>
            <p:cNvPr id="1903" name=""/>
            <p:cNvSpPr/>
            <p:nvPr/>
          </p:nvSpPr>
          <p:spPr>
            <a:xfrm>
              <a:off x="1219320" y="4358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0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0"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911" name=""/>
          <p:cNvSpPr/>
          <p:nvPr/>
        </p:nvSpPr>
        <p:spPr>
          <a:xfrm>
            <a:off x="0" y="990720"/>
            <a:ext cx="2666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0" y="944640"/>
            <a:ext cx="2743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netzwerk</a:t>
            </a:r>
            <a:endParaRPr b="0" lang="en-US" sz="2200" spc="-1" strike="noStrike">
              <a:solidFill>
                <a:srgbClr val="000000"/>
              </a:solidFill>
              <a:latin typeface="Times New Roman"/>
            </a:endParaRPr>
          </a:p>
        </p:txBody>
      </p:sp>
      <p:grpSp>
        <p:nvGrpSpPr>
          <p:cNvPr id="1913" name=""/>
          <p:cNvGrpSpPr/>
          <p:nvPr/>
        </p:nvGrpSpPr>
        <p:grpSpPr>
          <a:xfrm>
            <a:off x="1219320" y="4799520"/>
            <a:ext cx="5523120" cy="429120"/>
            <a:chOff x="1219320" y="4799520"/>
            <a:chExt cx="5523120" cy="429120"/>
          </a:xfrm>
        </p:grpSpPr>
        <p:sp>
          <p:nvSpPr>
            <p:cNvPr id="1914" name=""/>
            <p:cNvSpPr/>
            <p:nvPr/>
          </p:nvSpPr>
          <p:spPr>
            <a:xfrm>
              <a:off x="1755000" y="4799520"/>
              <a:ext cx="498744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Literaturhinweise, Neuerscheinungen</a:t>
              </a:r>
              <a:endParaRPr b="0" lang="en-US" sz="2200" spc="-1" strike="noStrike">
                <a:solidFill>
                  <a:srgbClr val="000000"/>
                </a:solidFill>
                <a:latin typeface="Times New Roman"/>
              </a:endParaRPr>
            </a:p>
          </p:txBody>
        </p:sp>
        <p:sp>
          <p:nvSpPr>
            <p:cNvPr id="1915" name=""/>
            <p:cNvSpPr/>
            <p:nvPr/>
          </p:nvSpPr>
          <p:spPr>
            <a:xfrm>
              <a:off x="1219320" y="5044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7" name=""/>
          <p:cNvGrpSpPr/>
          <p:nvPr/>
        </p:nvGrpSpPr>
        <p:grpSpPr>
          <a:xfrm>
            <a:off x="0" y="1371600"/>
            <a:ext cx="1219320" cy="990360"/>
            <a:chOff x="0" y="1371600"/>
            <a:chExt cx="1219320" cy="990360"/>
          </a:xfrm>
        </p:grpSpPr>
        <p:sp>
          <p:nvSpPr>
            <p:cNvPr id="1918"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19" name="" descr=""/>
            <p:cNvPicPr/>
            <p:nvPr/>
          </p:nvPicPr>
          <p:blipFill>
            <a:blip r:embed="rId2"/>
            <a:stretch/>
          </p:blipFill>
          <p:spPr>
            <a:xfrm>
              <a:off x="152280" y="1447560"/>
              <a:ext cx="914400" cy="831960"/>
            </a:xfrm>
            <a:prstGeom prst="rect">
              <a:avLst/>
            </a:prstGeom>
            <a:ln w="0">
              <a:noFill/>
            </a:ln>
          </p:spPr>
        </p:pic>
      </p:grpSp>
      <p:sp>
        <p:nvSpPr>
          <p:cNvPr id="1920"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bmuk_sw" descr=""/>
          <p:cNvPicPr/>
          <p:nvPr/>
        </p:nvPicPr>
        <p:blipFill>
          <a:blip r:embed="rId1"/>
          <a:stretch/>
        </p:blipFill>
        <p:spPr>
          <a:xfrm>
            <a:off x="0" y="0"/>
            <a:ext cx="1219320" cy="566640"/>
          </a:xfrm>
          <a:prstGeom prst="rect">
            <a:avLst/>
          </a:prstGeom>
          <a:ln w="0">
            <a:noFill/>
          </a:ln>
        </p:spPr>
      </p:pic>
      <p:sp>
        <p:nvSpPr>
          <p:cNvPr id="16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762120" y="4799160"/>
            <a:ext cx="6027840" cy="825480"/>
            <a:chOff x="762120" y="4799160"/>
            <a:chExt cx="6027840" cy="825480"/>
          </a:xfrm>
        </p:grpSpPr>
        <p:sp>
          <p:nvSpPr>
            <p:cNvPr id="162" name=""/>
            <p:cNvSpPr/>
            <p:nvPr/>
          </p:nvSpPr>
          <p:spPr>
            <a:xfrm flipV="1">
              <a:off x="762120" y="47998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85400" y="4799160"/>
              <a:ext cx="48045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terrichts- und Erziehungsarbe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rd schwieriger</a:t>
              </a:r>
              <a:endParaRPr b="0" lang="en-US" sz="2400" spc="-1" strike="noStrike">
                <a:solidFill>
                  <a:srgbClr val="000000"/>
                </a:solidFill>
                <a:latin typeface="Times New Roman"/>
              </a:endParaRPr>
            </a:p>
          </p:txBody>
        </p:sp>
      </p:grpSp>
      <p:grpSp>
        <p:nvGrpSpPr>
          <p:cNvPr id="164" name=""/>
          <p:cNvGrpSpPr/>
          <p:nvPr/>
        </p:nvGrpSpPr>
        <p:grpSpPr>
          <a:xfrm>
            <a:off x="762120" y="3656160"/>
            <a:ext cx="6502320" cy="825480"/>
            <a:chOff x="762120" y="3656160"/>
            <a:chExt cx="6502320" cy="825480"/>
          </a:xfrm>
        </p:grpSpPr>
        <p:sp>
          <p:nvSpPr>
            <p:cNvPr id="165" name=""/>
            <p:cNvSpPr/>
            <p:nvPr/>
          </p:nvSpPr>
          <p:spPr>
            <a:xfrm flipV="1">
              <a:off x="762120" y="38091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85760" y="3656160"/>
              <a:ext cx="52786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unsch der Schulpartner/innen nac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itsprache wird größer</a:t>
              </a:r>
              <a:endParaRPr b="0" lang="en-US" sz="2400" spc="-1" strike="noStrike">
                <a:solidFill>
                  <a:srgbClr val="000000"/>
                </a:solidFill>
                <a:latin typeface="Times New Roman"/>
              </a:endParaRPr>
            </a:p>
          </p:txBody>
        </p:sp>
      </p:grpSp>
      <p:grpSp>
        <p:nvGrpSpPr>
          <p:cNvPr id="167" name=""/>
          <p:cNvGrpSpPr/>
          <p:nvPr/>
        </p:nvGrpSpPr>
        <p:grpSpPr>
          <a:xfrm>
            <a:off x="762120" y="2665440"/>
            <a:ext cx="7485840" cy="825480"/>
            <a:chOff x="762120" y="2665440"/>
            <a:chExt cx="7485840" cy="825480"/>
          </a:xfrm>
        </p:grpSpPr>
        <p:sp>
          <p:nvSpPr>
            <p:cNvPr id="168" name=""/>
            <p:cNvSpPr/>
            <p:nvPr/>
          </p:nvSpPr>
          <p:spPr>
            <a:xfrm flipV="1">
              <a:off x="762120" y="281880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985040" y="2665440"/>
              <a:ext cx="62629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Zunehmender Gestaltungsfreiraum bedeut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ch steigende Verantwortung am Standort</a:t>
              </a:r>
              <a:endParaRPr b="0" lang="en-US" sz="2400" spc="-1" strike="noStrike">
                <a:solidFill>
                  <a:srgbClr val="000000"/>
                </a:solidFill>
                <a:latin typeface="Times New Roman"/>
              </a:endParaRPr>
            </a:p>
          </p:txBody>
        </p:sp>
      </p:grpSp>
      <p:grpSp>
        <p:nvGrpSpPr>
          <p:cNvPr id="170" name=""/>
          <p:cNvGrpSpPr/>
          <p:nvPr/>
        </p:nvGrpSpPr>
        <p:grpSpPr>
          <a:xfrm>
            <a:off x="762120" y="1751040"/>
            <a:ext cx="7197120" cy="825480"/>
            <a:chOff x="762120" y="1751040"/>
            <a:chExt cx="7197120" cy="825480"/>
          </a:xfrm>
        </p:grpSpPr>
        <p:sp>
          <p:nvSpPr>
            <p:cNvPr id="171" name=""/>
            <p:cNvSpPr/>
            <p:nvPr/>
          </p:nvSpPr>
          <p:spPr>
            <a:xfrm flipV="1">
              <a:off x="762120" y="18406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981080" y="1751040"/>
              <a:ext cx="597816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nteresse der Öffentlichkeit an der Qualitä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r einzelnen Schule steigt</a:t>
              </a:r>
              <a:endParaRPr b="0" lang="en-US" sz="2400" spc="-1" strike="noStrike">
                <a:solidFill>
                  <a:srgbClr val="000000"/>
                </a:solidFill>
                <a:latin typeface="Times New Roman"/>
              </a:endParaRPr>
            </a:p>
          </p:txBody>
        </p:sp>
      </p:grpSp>
      <p:sp>
        <p:nvSpPr>
          <p:cNvPr id="173"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036800"/>
            <a:ext cx="44197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00" y="990720"/>
            <a:ext cx="4403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Warum heute aktueller denn je?</a:t>
            </a:r>
            <a:endParaRPr b="0" lang="en-US" sz="2200" spc="-1" strike="noStrike">
              <a:solidFill>
                <a:srgbClr val="000000"/>
              </a:solidFill>
              <a:latin typeface="Times New Roman"/>
            </a:endParaRPr>
          </a:p>
        </p:txBody>
      </p:sp>
      <p:sp>
        <p:nvSpPr>
          <p:cNvPr id="181" name=""/>
          <p:cNvSpPr/>
          <p:nvPr/>
        </p:nvSpPr>
        <p:spPr>
          <a:xfrm>
            <a:off x="0" y="609480"/>
            <a:ext cx="457200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chäftigung mit Schulqualität</a:t>
            </a:r>
            <a:endParaRPr b="0" lang="en-US" sz="2200" spc="-1" strike="noStrike">
              <a:solidFill>
                <a:srgbClr val="000000"/>
              </a:solidFill>
              <a:latin typeface="Times New Roman"/>
            </a:endParaRPr>
          </a:p>
        </p:txBody>
      </p:sp>
      <p:sp>
        <p:nvSpPr>
          <p:cNvPr id="18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22" name="bmuk_sw" descr=""/>
          <p:cNvPicPr/>
          <p:nvPr/>
        </p:nvPicPr>
        <p:blipFill>
          <a:blip r:embed="rId1"/>
          <a:stretch/>
        </p:blipFill>
        <p:spPr>
          <a:xfrm>
            <a:off x="76320" y="0"/>
            <a:ext cx="1218960" cy="566640"/>
          </a:xfrm>
          <a:prstGeom prst="rect">
            <a:avLst/>
          </a:prstGeom>
          <a:ln w="0">
            <a:noFill/>
          </a:ln>
        </p:spPr>
      </p:pic>
      <p:sp>
        <p:nvSpPr>
          <p:cNvPr id="192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447920" y="1981080"/>
            <a:ext cx="183960" cy="527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5" name=""/>
          <p:cNvSpPr/>
          <p:nvPr/>
        </p:nvSpPr>
        <p:spPr>
          <a:xfrm>
            <a:off x="1219320" y="28195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6"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27" name=""/>
          <p:cNvGrpSpPr/>
          <p:nvPr/>
        </p:nvGrpSpPr>
        <p:grpSpPr>
          <a:xfrm>
            <a:off x="762120" y="1828440"/>
            <a:ext cx="5743080" cy="546120"/>
            <a:chOff x="762120" y="1828440"/>
            <a:chExt cx="5743080" cy="546120"/>
          </a:xfrm>
        </p:grpSpPr>
        <p:sp>
          <p:nvSpPr>
            <p:cNvPr id="1928" name=""/>
            <p:cNvSpPr/>
            <p:nvPr/>
          </p:nvSpPr>
          <p:spPr>
            <a:xfrm flipV="1">
              <a:off x="762120" y="1828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1764720" y="1867680"/>
              <a:ext cx="4740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halte des Qualitätsnetzwerks:</a:t>
              </a:r>
              <a:endParaRPr b="0" lang="en-US" sz="2400" spc="-1" strike="noStrike">
                <a:solidFill>
                  <a:srgbClr val="000000"/>
                </a:solidFill>
                <a:latin typeface="Times New Roman"/>
              </a:endParaRPr>
            </a:p>
          </p:txBody>
        </p:sp>
      </p:grpSp>
      <p:sp>
        <p:nvSpPr>
          <p:cNvPr id="1930" name=""/>
          <p:cNvSpPr/>
          <p:nvPr/>
        </p:nvSpPr>
        <p:spPr>
          <a:xfrm>
            <a:off x="1754640" y="2575440"/>
            <a:ext cx="4848840" cy="76428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essante internationale Projekte </a:t>
            </a:r>
            <a:endParaRPr b="0" lang="en-US" sz="2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Erfahrungsberichte</a:t>
            </a:r>
            <a:endParaRPr b="0" lang="en-US" sz="2200" spc="-1" strike="noStrike">
              <a:solidFill>
                <a:srgbClr val="000000"/>
              </a:solidFill>
              <a:latin typeface="Times New Roman"/>
            </a:endParaRPr>
          </a:p>
        </p:txBody>
      </p:sp>
      <p:sp>
        <p:nvSpPr>
          <p:cNvPr id="1931" name=""/>
          <p:cNvSpPr/>
          <p:nvPr/>
        </p:nvSpPr>
        <p:spPr>
          <a:xfrm>
            <a:off x="1219320" y="2997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32" name=""/>
          <p:cNvGrpSpPr/>
          <p:nvPr/>
        </p:nvGrpSpPr>
        <p:grpSpPr>
          <a:xfrm>
            <a:off x="1219320" y="3443760"/>
            <a:ext cx="3485880" cy="429120"/>
            <a:chOff x="1219320" y="3443760"/>
            <a:chExt cx="3485880" cy="429120"/>
          </a:xfrm>
        </p:grpSpPr>
        <p:sp>
          <p:nvSpPr>
            <p:cNvPr id="1933" name=""/>
            <p:cNvSpPr/>
            <p:nvPr/>
          </p:nvSpPr>
          <p:spPr>
            <a:xfrm>
              <a:off x="1753920" y="3443760"/>
              <a:ext cx="295128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skussionsplattform</a:t>
              </a:r>
              <a:endParaRPr b="0" lang="en-US" sz="2200" spc="-1" strike="noStrike">
                <a:solidFill>
                  <a:srgbClr val="000000"/>
                </a:solidFill>
                <a:latin typeface="Times New Roman"/>
              </a:endParaRPr>
            </a:p>
          </p:txBody>
        </p:sp>
        <p:sp>
          <p:nvSpPr>
            <p:cNvPr id="1934" name=""/>
            <p:cNvSpPr/>
            <p:nvPr/>
          </p:nvSpPr>
          <p:spPr>
            <a:xfrm>
              <a:off x="1219320" y="3688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5" name=""/>
          <p:cNvGrpSpPr/>
          <p:nvPr/>
        </p:nvGrpSpPr>
        <p:grpSpPr>
          <a:xfrm>
            <a:off x="1219320" y="3947040"/>
            <a:ext cx="4838040" cy="764280"/>
            <a:chOff x="1219320" y="3947040"/>
            <a:chExt cx="4838040" cy="764280"/>
          </a:xfrm>
        </p:grpSpPr>
        <p:sp>
          <p:nvSpPr>
            <p:cNvPr id="1936" name=""/>
            <p:cNvSpPr/>
            <p:nvPr/>
          </p:nvSpPr>
          <p:spPr>
            <a:xfrm>
              <a:off x="1755720" y="3947040"/>
              <a:ext cx="4301640" cy="76428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ssenschaftliche Studien und </a:t>
              </a:r>
              <a:endParaRPr b="0" lang="en-US" sz="22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wertungen von Erfahrungen</a:t>
              </a:r>
              <a:endParaRPr b="0" lang="en-US" sz="2200" spc="-1" strike="noStrike">
                <a:solidFill>
                  <a:srgbClr val="000000"/>
                </a:solidFill>
                <a:latin typeface="Times New Roman"/>
              </a:endParaRPr>
            </a:p>
          </p:txBody>
        </p:sp>
        <p:sp>
          <p:nvSpPr>
            <p:cNvPr id="1937" name=""/>
            <p:cNvSpPr/>
            <p:nvPr/>
          </p:nvSpPr>
          <p:spPr>
            <a:xfrm>
              <a:off x="1219320" y="4359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8"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4"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945" name=""/>
          <p:cNvSpPr/>
          <p:nvPr/>
        </p:nvSpPr>
        <p:spPr>
          <a:xfrm>
            <a:off x="0" y="990720"/>
            <a:ext cx="26668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6" name=""/>
          <p:cNvSpPr/>
          <p:nvPr/>
        </p:nvSpPr>
        <p:spPr>
          <a:xfrm>
            <a:off x="0" y="944640"/>
            <a:ext cx="2743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itätsnetzwerk</a:t>
            </a:r>
            <a:endParaRPr b="0" lang="en-US" sz="2200" spc="-1" strike="noStrike">
              <a:solidFill>
                <a:srgbClr val="000000"/>
              </a:solidFill>
              <a:latin typeface="Times New Roman"/>
            </a:endParaRPr>
          </a:p>
        </p:txBody>
      </p:sp>
      <p:grpSp>
        <p:nvGrpSpPr>
          <p:cNvPr id="1947" name=""/>
          <p:cNvGrpSpPr/>
          <p:nvPr/>
        </p:nvGrpSpPr>
        <p:grpSpPr>
          <a:xfrm>
            <a:off x="1219320" y="4799520"/>
            <a:ext cx="3672720" cy="429120"/>
            <a:chOff x="1219320" y="4799520"/>
            <a:chExt cx="3672720" cy="429120"/>
          </a:xfrm>
        </p:grpSpPr>
        <p:sp>
          <p:nvSpPr>
            <p:cNvPr id="1948" name=""/>
            <p:cNvSpPr/>
            <p:nvPr/>
          </p:nvSpPr>
          <p:spPr>
            <a:xfrm>
              <a:off x="1754640" y="4799520"/>
              <a:ext cx="3137400" cy="42912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regungen und Kritik</a:t>
              </a:r>
              <a:endParaRPr b="0" lang="en-US" sz="2200" spc="-1" strike="noStrike">
                <a:solidFill>
                  <a:srgbClr val="000000"/>
                </a:solidFill>
                <a:latin typeface="Times New Roman"/>
              </a:endParaRPr>
            </a:p>
          </p:txBody>
        </p:sp>
        <p:sp>
          <p:nvSpPr>
            <p:cNvPr id="1949" name=""/>
            <p:cNvSpPr/>
            <p:nvPr/>
          </p:nvSpPr>
          <p:spPr>
            <a:xfrm>
              <a:off x="1219320" y="5044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1" name=""/>
          <p:cNvGrpSpPr/>
          <p:nvPr/>
        </p:nvGrpSpPr>
        <p:grpSpPr>
          <a:xfrm>
            <a:off x="0" y="1371600"/>
            <a:ext cx="1219320" cy="990360"/>
            <a:chOff x="0" y="1371600"/>
            <a:chExt cx="1219320" cy="990360"/>
          </a:xfrm>
        </p:grpSpPr>
        <p:sp>
          <p:nvSpPr>
            <p:cNvPr id="1952"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3" name="" descr=""/>
            <p:cNvPicPr/>
            <p:nvPr/>
          </p:nvPicPr>
          <p:blipFill>
            <a:blip r:embed="rId2"/>
            <a:stretch/>
          </p:blipFill>
          <p:spPr>
            <a:xfrm>
              <a:off x="152280" y="1447560"/>
              <a:ext cx="914400" cy="831960"/>
            </a:xfrm>
            <a:prstGeom prst="rect">
              <a:avLst/>
            </a:prstGeom>
            <a:ln w="0">
              <a:noFill/>
            </a:ln>
          </p:spPr>
        </p:pic>
      </p:grpSp>
      <p:sp>
        <p:nvSpPr>
          <p:cNvPr id="1954"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6" name="bmuk_sw" descr=""/>
          <p:cNvPicPr/>
          <p:nvPr/>
        </p:nvPicPr>
        <p:blipFill>
          <a:blip r:embed="rId1"/>
          <a:stretch/>
        </p:blipFill>
        <p:spPr>
          <a:xfrm>
            <a:off x="76320" y="0"/>
            <a:ext cx="1218960" cy="566640"/>
          </a:xfrm>
          <a:prstGeom prst="rect">
            <a:avLst/>
          </a:prstGeom>
          <a:ln w="0">
            <a:noFill/>
          </a:ln>
        </p:spPr>
      </p:pic>
      <p:sp>
        <p:nvSpPr>
          <p:cNvPr id="195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1677240" y="1446840"/>
            <a:ext cx="2382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um es geht</a:t>
            </a:r>
            <a:endParaRPr b="0" lang="en-US" sz="2400" spc="-1" strike="noStrike">
              <a:solidFill>
                <a:srgbClr val="000000"/>
              </a:solidFill>
              <a:latin typeface="Times New Roman"/>
            </a:endParaRPr>
          </a:p>
        </p:txBody>
      </p:sp>
      <p:sp>
        <p:nvSpPr>
          <p:cNvPr id="1959" name=""/>
          <p:cNvSpPr/>
          <p:nvPr/>
        </p:nvSpPr>
        <p:spPr>
          <a:xfrm>
            <a:off x="1219320" y="543888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0"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967" name=""/>
          <p:cNvSpPr/>
          <p:nvPr/>
        </p:nvSpPr>
        <p:spPr>
          <a:xfrm>
            <a:off x="0" y="990720"/>
            <a:ext cx="31240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0" y="944640"/>
            <a:ext cx="3124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fahrensvorschläge</a:t>
            </a:r>
            <a:endParaRPr b="0" lang="en-US" sz="2200" spc="-1" strike="noStrike">
              <a:solidFill>
                <a:srgbClr val="000000"/>
              </a:solidFill>
              <a:latin typeface="Times New Roman"/>
            </a:endParaRPr>
          </a:p>
        </p:txBody>
      </p:sp>
      <p:sp>
        <p:nvSpPr>
          <p:cNvPr id="196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0" name=""/>
          <p:cNvGrpSpPr/>
          <p:nvPr/>
        </p:nvGrpSpPr>
        <p:grpSpPr>
          <a:xfrm>
            <a:off x="1219320" y="2099880"/>
            <a:ext cx="6029640" cy="734040"/>
            <a:chOff x="1219320" y="2099880"/>
            <a:chExt cx="6029640" cy="734040"/>
          </a:xfrm>
        </p:grpSpPr>
        <p:sp>
          <p:nvSpPr>
            <p:cNvPr id="1971" name=""/>
            <p:cNvSpPr/>
            <p:nvPr/>
          </p:nvSpPr>
          <p:spPr>
            <a:xfrm>
              <a:off x="1761840" y="2099880"/>
              <a:ext cx="5487120" cy="73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Inhalte und Ablaufschritte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für wichtige Phasen der Qualitätsentwicklung</a:t>
              </a:r>
              <a:endParaRPr b="0" lang="en-US" sz="2100" spc="-1" strike="noStrike">
                <a:solidFill>
                  <a:srgbClr val="000000"/>
                </a:solidFill>
                <a:latin typeface="Times New Roman"/>
              </a:endParaRPr>
            </a:p>
          </p:txBody>
        </p:sp>
        <p:sp>
          <p:nvSpPr>
            <p:cNvPr id="1972" name=""/>
            <p:cNvSpPr/>
            <p:nvPr/>
          </p:nvSpPr>
          <p:spPr>
            <a:xfrm rot="5400000">
              <a:off x="1164240" y="235332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973" name=""/>
          <p:cNvGrpSpPr/>
          <p:nvPr/>
        </p:nvGrpSpPr>
        <p:grpSpPr>
          <a:xfrm>
            <a:off x="1219320" y="2923920"/>
            <a:ext cx="6697440" cy="734040"/>
            <a:chOff x="1219320" y="2923920"/>
            <a:chExt cx="6697440" cy="734040"/>
          </a:xfrm>
        </p:grpSpPr>
        <p:sp>
          <p:nvSpPr>
            <p:cNvPr id="1974" name=""/>
            <p:cNvSpPr/>
            <p:nvPr/>
          </p:nvSpPr>
          <p:spPr>
            <a:xfrm>
              <a:off x="1749600" y="2923920"/>
              <a:ext cx="6167160" cy="73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ransparente und koordinierte  Prozessgestaltung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n der Schule</a:t>
              </a:r>
              <a:endParaRPr b="0" lang="en-US" sz="2100" spc="-1" strike="noStrike">
                <a:solidFill>
                  <a:srgbClr val="000000"/>
                </a:solidFill>
                <a:latin typeface="Times New Roman"/>
              </a:endParaRPr>
            </a:p>
          </p:txBody>
        </p:sp>
        <p:sp>
          <p:nvSpPr>
            <p:cNvPr id="1975" name=""/>
            <p:cNvSpPr/>
            <p:nvPr/>
          </p:nvSpPr>
          <p:spPr>
            <a:xfrm rot="5400000">
              <a:off x="1164600" y="315828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976" name=""/>
          <p:cNvGrpSpPr/>
          <p:nvPr/>
        </p:nvGrpSpPr>
        <p:grpSpPr>
          <a:xfrm>
            <a:off x="1219320" y="3809520"/>
            <a:ext cx="5085720" cy="734040"/>
            <a:chOff x="1219320" y="3809520"/>
            <a:chExt cx="5085720" cy="734040"/>
          </a:xfrm>
        </p:grpSpPr>
        <p:sp>
          <p:nvSpPr>
            <p:cNvPr id="1977" name=""/>
            <p:cNvSpPr/>
            <p:nvPr/>
          </p:nvSpPr>
          <p:spPr>
            <a:xfrm>
              <a:off x="1750320" y="3809520"/>
              <a:ext cx="4554720" cy="73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Abstimmung auf 5 Qualitätsbereiche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und Zyklus der Qualitätsentwicklung</a:t>
              </a:r>
              <a:endParaRPr b="0" lang="en-US" sz="2100" spc="-1" strike="noStrike">
                <a:solidFill>
                  <a:srgbClr val="000000"/>
                </a:solidFill>
                <a:latin typeface="Times New Roman"/>
              </a:endParaRPr>
            </a:p>
          </p:txBody>
        </p:sp>
        <p:sp>
          <p:nvSpPr>
            <p:cNvPr id="1978" name=""/>
            <p:cNvSpPr/>
            <p:nvPr/>
          </p:nvSpPr>
          <p:spPr>
            <a:xfrm rot="5400000">
              <a:off x="1164240" y="4002480"/>
              <a:ext cx="38124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979" name=""/>
          <p:cNvGrpSpPr/>
          <p:nvPr/>
        </p:nvGrpSpPr>
        <p:grpSpPr>
          <a:xfrm>
            <a:off x="1219320" y="4660920"/>
            <a:ext cx="6324480" cy="1054080"/>
            <a:chOff x="1219320" y="4660920"/>
            <a:chExt cx="6324480" cy="1054080"/>
          </a:xfrm>
        </p:grpSpPr>
        <p:sp>
          <p:nvSpPr>
            <p:cNvPr id="1980" name=""/>
            <p:cNvSpPr/>
            <p:nvPr/>
          </p:nvSpPr>
          <p:spPr>
            <a:xfrm>
              <a:off x="1752480" y="4660920"/>
              <a:ext cx="579132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Verbindungsglied zwischen Q.I.S.-Leitfaden und Methoden- bzw. Instrumenten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981" name=""/>
            <p:cNvSpPr/>
            <p:nvPr/>
          </p:nvSpPr>
          <p:spPr>
            <a:xfrm rot="5400000">
              <a:off x="1164600" y="483948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982" name=""/>
          <p:cNvGrpSpPr/>
          <p:nvPr/>
        </p:nvGrpSpPr>
        <p:grpSpPr>
          <a:xfrm>
            <a:off x="1219320" y="5514480"/>
            <a:ext cx="6095880" cy="734040"/>
            <a:chOff x="1219320" y="5514480"/>
            <a:chExt cx="6095880" cy="734040"/>
          </a:xfrm>
        </p:grpSpPr>
        <p:sp>
          <p:nvSpPr>
            <p:cNvPr id="1983" name=""/>
            <p:cNvSpPr/>
            <p:nvPr/>
          </p:nvSpPr>
          <p:spPr>
            <a:xfrm>
              <a:off x="1752480" y="5514480"/>
              <a:ext cx="556272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Orientierungshilfe: Auswahl und Adaptierung für den eigenen Bedarf</a:t>
              </a:r>
              <a:endParaRPr b="0" lang="en-US" sz="2100" spc="-1" strike="noStrike">
                <a:solidFill>
                  <a:srgbClr val="000000"/>
                </a:solidFill>
                <a:latin typeface="Times New Roman"/>
              </a:endParaRPr>
            </a:p>
          </p:txBody>
        </p:sp>
        <p:sp>
          <p:nvSpPr>
            <p:cNvPr id="1984" name=""/>
            <p:cNvSpPr/>
            <p:nvPr/>
          </p:nvSpPr>
          <p:spPr>
            <a:xfrm rot="5400000">
              <a:off x="1164600" y="5726880"/>
              <a:ext cx="380880" cy="271440"/>
            </a:xfrm>
            <a:prstGeom prst="triangle">
              <a:avLst>
                <a:gd name="adj" fmla="val 50000"/>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grpSp>
        <p:nvGrpSpPr>
          <p:cNvPr id="1985" name=""/>
          <p:cNvGrpSpPr/>
          <p:nvPr/>
        </p:nvGrpSpPr>
        <p:grpSpPr>
          <a:xfrm>
            <a:off x="0" y="1371600"/>
            <a:ext cx="1219320" cy="990360"/>
            <a:chOff x="0" y="1371600"/>
            <a:chExt cx="1219320" cy="990360"/>
          </a:xfrm>
        </p:grpSpPr>
        <p:sp>
          <p:nvSpPr>
            <p:cNvPr id="1986"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7"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9" name="bmuk_sw" descr=""/>
          <p:cNvPicPr/>
          <p:nvPr/>
        </p:nvPicPr>
        <p:blipFill>
          <a:blip r:embed="rId1"/>
          <a:stretch/>
        </p:blipFill>
        <p:spPr>
          <a:xfrm>
            <a:off x="76320" y="0"/>
            <a:ext cx="1218960" cy="566640"/>
          </a:xfrm>
          <a:prstGeom prst="rect">
            <a:avLst/>
          </a:prstGeom>
          <a:ln w="0">
            <a:noFill/>
          </a:ln>
        </p:spPr>
      </p:pic>
      <p:sp>
        <p:nvSpPr>
          <p:cNvPr id="1990"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1778760" y="1599120"/>
            <a:ext cx="221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1 Sequenzen</a:t>
            </a:r>
            <a:endParaRPr b="0" lang="en-US" sz="2400" spc="-1" strike="noStrike">
              <a:solidFill>
                <a:srgbClr val="000000"/>
              </a:solidFill>
              <a:latin typeface="Times New Roman"/>
            </a:endParaRPr>
          </a:p>
        </p:txBody>
      </p:sp>
      <p:sp>
        <p:nvSpPr>
          <p:cNvPr id="199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7"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8"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1999" name=""/>
          <p:cNvSpPr/>
          <p:nvPr/>
        </p:nvSpPr>
        <p:spPr>
          <a:xfrm>
            <a:off x="0" y="990720"/>
            <a:ext cx="31240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0" name=""/>
          <p:cNvSpPr/>
          <p:nvPr/>
        </p:nvSpPr>
        <p:spPr>
          <a:xfrm>
            <a:off x="0" y="944640"/>
            <a:ext cx="3124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fahrensvorschläge</a:t>
            </a:r>
            <a:endParaRPr b="0" lang="en-US" sz="2200" spc="-1" strike="noStrike">
              <a:solidFill>
                <a:srgbClr val="000000"/>
              </a:solidFill>
              <a:latin typeface="Times New Roman"/>
            </a:endParaRPr>
          </a:p>
        </p:txBody>
      </p:sp>
      <p:grpSp>
        <p:nvGrpSpPr>
          <p:cNvPr id="2001" name=""/>
          <p:cNvGrpSpPr/>
          <p:nvPr/>
        </p:nvGrpSpPr>
        <p:grpSpPr>
          <a:xfrm>
            <a:off x="1219320" y="2456280"/>
            <a:ext cx="4524120" cy="607680"/>
            <a:chOff x="1219320" y="2456280"/>
            <a:chExt cx="4524120" cy="607680"/>
          </a:xfrm>
        </p:grpSpPr>
        <p:sp>
          <p:nvSpPr>
            <p:cNvPr id="2002" name=""/>
            <p:cNvSpPr/>
            <p:nvPr/>
          </p:nvSpPr>
          <p:spPr>
            <a:xfrm>
              <a:off x="1219320" y="25369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
            <p:cNvSpPr/>
            <p:nvPr/>
          </p:nvSpPr>
          <p:spPr>
            <a:xfrm>
              <a:off x="1754280" y="2456280"/>
              <a:ext cx="3989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Über den Einstieg entscheiden</a:t>
              </a:r>
              <a:endParaRPr b="0" lang="en-US" sz="2200" spc="-1" strike="noStrike">
                <a:solidFill>
                  <a:srgbClr val="000000"/>
                </a:solidFill>
                <a:latin typeface="Times New Roman"/>
              </a:endParaRPr>
            </a:p>
          </p:txBody>
        </p:sp>
        <p:sp>
          <p:nvSpPr>
            <p:cNvPr id="2004" name=""/>
            <p:cNvSpPr/>
            <p:nvPr/>
          </p:nvSpPr>
          <p:spPr>
            <a:xfrm>
              <a:off x="1219320" y="27147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1219320" y="3156480"/>
            <a:ext cx="3451680" cy="429120"/>
            <a:chOff x="1219320" y="3156480"/>
            <a:chExt cx="3451680" cy="429120"/>
          </a:xfrm>
        </p:grpSpPr>
        <p:sp>
          <p:nvSpPr>
            <p:cNvPr id="2006" name=""/>
            <p:cNvSpPr/>
            <p:nvPr/>
          </p:nvSpPr>
          <p:spPr>
            <a:xfrm>
              <a:off x="1753200" y="3156480"/>
              <a:ext cx="29178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teiligte einbeziehen</a:t>
              </a:r>
              <a:endParaRPr b="0" lang="en-US" sz="2200" spc="-1" strike="noStrike">
                <a:solidFill>
                  <a:srgbClr val="000000"/>
                </a:solidFill>
                <a:latin typeface="Times New Roman"/>
              </a:endParaRPr>
            </a:p>
          </p:txBody>
        </p:sp>
        <p:sp>
          <p:nvSpPr>
            <p:cNvPr id="2007" name=""/>
            <p:cNvSpPr/>
            <p:nvPr/>
          </p:nvSpPr>
          <p:spPr>
            <a:xfrm>
              <a:off x="1219320" y="3406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1219320" y="3827880"/>
            <a:ext cx="5240160" cy="429120"/>
            <a:chOff x="1219320" y="3827880"/>
            <a:chExt cx="5240160" cy="429120"/>
          </a:xfrm>
        </p:grpSpPr>
        <p:sp>
          <p:nvSpPr>
            <p:cNvPr id="2009" name=""/>
            <p:cNvSpPr/>
            <p:nvPr/>
          </p:nvSpPr>
          <p:spPr>
            <a:xfrm>
              <a:off x="1752480" y="3827880"/>
              <a:ext cx="470700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 die Qualitätsdiskussion einsteigen</a:t>
              </a:r>
              <a:endParaRPr b="0" lang="en-US" sz="2200" spc="-1" strike="noStrike">
                <a:solidFill>
                  <a:srgbClr val="000000"/>
                </a:solidFill>
                <a:latin typeface="Times New Roman"/>
              </a:endParaRPr>
            </a:p>
          </p:txBody>
        </p:sp>
        <p:sp>
          <p:nvSpPr>
            <p:cNvPr id="2010" name=""/>
            <p:cNvSpPr/>
            <p:nvPr/>
          </p:nvSpPr>
          <p:spPr>
            <a:xfrm>
              <a:off x="1219320" y="40762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1" name=""/>
          <p:cNvGrpSpPr/>
          <p:nvPr/>
        </p:nvGrpSpPr>
        <p:grpSpPr>
          <a:xfrm>
            <a:off x="1219320" y="4497840"/>
            <a:ext cx="5549040" cy="607680"/>
            <a:chOff x="1219320" y="4497840"/>
            <a:chExt cx="5549040" cy="607680"/>
          </a:xfrm>
        </p:grpSpPr>
        <p:sp>
          <p:nvSpPr>
            <p:cNvPr id="2012" name=""/>
            <p:cNvSpPr/>
            <p:nvPr/>
          </p:nvSpPr>
          <p:spPr>
            <a:xfrm>
              <a:off x="1219320" y="457848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
            <p:cNvSpPr/>
            <p:nvPr/>
          </p:nvSpPr>
          <p:spPr>
            <a:xfrm>
              <a:off x="1756440" y="4497840"/>
              <a:ext cx="50119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meinsam Qualitätsansprüche klären</a:t>
              </a:r>
              <a:endParaRPr b="0" lang="en-US" sz="2200" spc="-1" strike="noStrike">
                <a:solidFill>
                  <a:srgbClr val="000000"/>
                </a:solidFill>
                <a:latin typeface="Times New Roman"/>
              </a:endParaRPr>
            </a:p>
          </p:txBody>
        </p:sp>
        <p:sp>
          <p:nvSpPr>
            <p:cNvPr id="2014" name=""/>
            <p:cNvSpPr/>
            <p:nvPr/>
          </p:nvSpPr>
          <p:spPr>
            <a:xfrm>
              <a:off x="1219320" y="47563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1219320" y="5180400"/>
            <a:ext cx="4975920" cy="429120"/>
            <a:chOff x="1219320" y="5180400"/>
            <a:chExt cx="4975920" cy="429120"/>
          </a:xfrm>
        </p:grpSpPr>
        <p:sp>
          <p:nvSpPr>
            <p:cNvPr id="2017" name=""/>
            <p:cNvSpPr/>
            <p:nvPr/>
          </p:nvSpPr>
          <p:spPr>
            <a:xfrm>
              <a:off x="1755000" y="5180400"/>
              <a:ext cx="44402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riterien und Indikatoren festlegen</a:t>
              </a:r>
              <a:endParaRPr b="0" lang="en-US" sz="2200" spc="-1" strike="noStrike">
                <a:solidFill>
                  <a:srgbClr val="000000"/>
                </a:solidFill>
                <a:latin typeface="Times New Roman"/>
              </a:endParaRPr>
            </a:p>
          </p:txBody>
        </p:sp>
        <p:sp>
          <p:nvSpPr>
            <p:cNvPr id="2018" name=""/>
            <p:cNvSpPr/>
            <p:nvPr/>
          </p:nvSpPr>
          <p:spPr>
            <a:xfrm>
              <a:off x="1219320" y="5438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9" name=""/>
          <p:cNvGrpSpPr/>
          <p:nvPr/>
        </p:nvGrpSpPr>
        <p:grpSpPr>
          <a:xfrm>
            <a:off x="0" y="1371600"/>
            <a:ext cx="1219320" cy="990360"/>
            <a:chOff x="0" y="1371600"/>
            <a:chExt cx="1219320" cy="990360"/>
          </a:xfrm>
        </p:grpSpPr>
        <p:sp>
          <p:nvSpPr>
            <p:cNvPr id="2020"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1" name="" descr=""/>
            <p:cNvPicPr/>
            <p:nvPr/>
          </p:nvPicPr>
          <p:blipFill>
            <a:blip r:embed="rId2"/>
            <a:stretch/>
          </p:blipFill>
          <p:spPr>
            <a:xfrm>
              <a:off x="152280" y="1447560"/>
              <a:ext cx="914400" cy="831960"/>
            </a:xfrm>
            <a:prstGeom prst="rect">
              <a:avLst/>
            </a:prstGeom>
            <a:ln w="0">
              <a:noFill/>
            </a:ln>
          </p:spPr>
        </p:pic>
      </p:grpSp>
      <p:sp>
        <p:nvSpPr>
          <p:cNvPr id="2022"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4" name="bmuk_sw" descr=""/>
          <p:cNvPicPr/>
          <p:nvPr/>
        </p:nvPicPr>
        <p:blipFill>
          <a:blip r:embed="rId1"/>
          <a:stretch/>
        </p:blipFill>
        <p:spPr>
          <a:xfrm>
            <a:off x="76320" y="0"/>
            <a:ext cx="1218960" cy="566640"/>
          </a:xfrm>
          <a:prstGeom prst="rect">
            <a:avLst/>
          </a:prstGeom>
          <a:ln w="0">
            <a:noFill/>
          </a:ln>
        </p:spPr>
      </p:pic>
      <p:sp>
        <p:nvSpPr>
          <p:cNvPr id="202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1778760" y="1599120"/>
            <a:ext cx="221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11 Sequenzen</a:t>
            </a:r>
            <a:endParaRPr b="0" lang="en-US" sz="2400" spc="-1" strike="noStrike">
              <a:solidFill>
                <a:srgbClr val="000000"/>
              </a:solidFill>
              <a:latin typeface="Times New Roman"/>
            </a:endParaRPr>
          </a:p>
        </p:txBody>
      </p:sp>
      <p:sp>
        <p:nvSpPr>
          <p:cNvPr id="2027"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3"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2034" name=""/>
          <p:cNvSpPr/>
          <p:nvPr/>
        </p:nvSpPr>
        <p:spPr>
          <a:xfrm>
            <a:off x="0" y="990720"/>
            <a:ext cx="31240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5" name=""/>
          <p:cNvSpPr/>
          <p:nvPr/>
        </p:nvSpPr>
        <p:spPr>
          <a:xfrm>
            <a:off x="0" y="944640"/>
            <a:ext cx="3124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fahrensvorschläge</a:t>
            </a:r>
            <a:endParaRPr b="0" lang="en-US" sz="2200" spc="-1" strike="noStrike">
              <a:solidFill>
                <a:srgbClr val="000000"/>
              </a:solidFill>
              <a:latin typeface="Times New Roman"/>
            </a:endParaRPr>
          </a:p>
        </p:txBody>
      </p:sp>
      <p:grpSp>
        <p:nvGrpSpPr>
          <p:cNvPr id="2036" name=""/>
          <p:cNvGrpSpPr/>
          <p:nvPr/>
        </p:nvGrpSpPr>
        <p:grpSpPr>
          <a:xfrm>
            <a:off x="1219320" y="2437200"/>
            <a:ext cx="4991400" cy="429120"/>
            <a:chOff x="1219320" y="2437200"/>
            <a:chExt cx="4991400" cy="429120"/>
          </a:xfrm>
        </p:grpSpPr>
        <p:sp>
          <p:nvSpPr>
            <p:cNvPr id="2037" name=""/>
            <p:cNvSpPr/>
            <p:nvPr/>
          </p:nvSpPr>
          <p:spPr>
            <a:xfrm>
              <a:off x="1755000" y="2437200"/>
              <a:ext cx="44557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aten analysieren und aufbereiten</a:t>
              </a:r>
              <a:endParaRPr b="0" lang="en-US" sz="2200" spc="-1" strike="noStrike">
                <a:solidFill>
                  <a:srgbClr val="000000"/>
                </a:solidFill>
                <a:latin typeface="Times New Roman"/>
              </a:endParaRPr>
            </a:p>
          </p:txBody>
        </p:sp>
        <p:sp>
          <p:nvSpPr>
            <p:cNvPr id="2038" name=""/>
            <p:cNvSpPr/>
            <p:nvPr/>
          </p:nvSpPr>
          <p:spPr>
            <a:xfrm>
              <a:off x="1219320" y="2687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1219320" y="3108960"/>
            <a:ext cx="3405240" cy="429120"/>
            <a:chOff x="1219320" y="3108960"/>
            <a:chExt cx="3405240" cy="429120"/>
          </a:xfrm>
        </p:grpSpPr>
        <p:sp>
          <p:nvSpPr>
            <p:cNvPr id="2040" name=""/>
            <p:cNvSpPr/>
            <p:nvPr/>
          </p:nvSpPr>
          <p:spPr>
            <a:xfrm>
              <a:off x="1753920" y="3108960"/>
              <a:ext cx="287064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gebnisse darstellen</a:t>
              </a:r>
              <a:endParaRPr b="0" lang="en-US" sz="2200" spc="-1" strike="noStrike">
                <a:solidFill>
                  <a:srgbClr val="000000"/>
                </a:solidFill>
                <a:latin typeface="Times New Roman"/>
              </a:endParaRPr>
            </a:p>
          </p:txBody>
        </p:sp>
        <p:sp>
          <p:nvSpPr>
            <p:cNvPr id="2041" name=""/>
            <p:cNvSpPr/>
            <p:nvPr/>
          </p:nvSpPr>
          <p:spPr>
            <a:xfrm>
              <a:off x="1219320" y="3357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2" name=""/>
          <p:cNvSpPr/>
          <p:nvPr/>
        </p:nvSpPr>
        <p:spPr>
          <a:xfrm>
            <a:off x="1219320" y="465444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3" name=""/>
          <p:cNvGrpSpPr/>
          <p:nvPr/>
        </p:nvGrpSpPr>
        <p:grpSpPr>
          <a:xfrm>
            <a:off x="1219320" y="3778920"/>
            <a:ext cx="6064200" cy="429120"/>
            <a:chOff x="1219320" y="3778920"/>
            <a:chExt cx="6064200" cy="429120"/>
          </a:xfrm>
        </p:grpSpPr>
        <p:sp>
          <p:nvSpPr>
            <p:cNvPr id="2044" name=""/>
            <p:cNvSpPr/>
            <p:nvPr/>
          </p:nvSpPr>
          <p:spPr>
            <a:xfrm>
              <a:off x="1753560" y="3778920"/>
              <a:ext cx="5529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gebnisse analysieren und Ziele festlegen</a:t>
              </a:r>
              <a:endParaRPr b="0" lang="en-US" sz="2200" spc="-1" strike="noStrike">
                <a:solidFill>
                  <a:srgbClr val="000000"/>
                </a:solidFill>
                <a:latin typeface="Times New Roman"/>
              </a:endParaRPr>
            </a:p>
          </p:txBody>
        </p:sp>
        <p:sp>
          <p:nvSpPr>
            <p:cNvPr id="2045" name=""/>
            <p:cNvSpPr/>
            <p:nvPr/>
          </p:nvSpPr>
          <p:spPr>
            <a:xfrm>
              <a:off x="1219320" y="40370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1219320" y="4448880"/>
            <a:ext cx="5222520" cy="531000"/>
            <a:chOff x="1219320" y="4448880"/>
            <a:chExt cx="5222520" cy="531000"/>
          </a:xfrm>
        </p:grpSpPr>
        <p:sp>
          <p:nvSpPr>
            <p:cNvPr id="2048" name=""/>
            <p:cNvSpPr/>
            <p:nvPr/>
          </p:nvSpPr>
          <p:spPr>
            <a:xfrm>
              <a:off x="1219320" y="445284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9" name=""/>
            <p:cNvSpPr/>
            <p:nvPr/>
          </p:nvSpPr>
          <p:spPr>
            <a:xfrm>
              <a:off x="1757520" y="4448880"/>
              <a:ext cx="468432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ßnahmen zur Umsetzung suchen</a:t>
              </a:r>
              <a:endParaRPr b="0" lang="en-US" sz="2200" spc="-1" strike="noStrike">
                <a:solidFill>
                  <a:srgbClr val="000000"/>
                </a:solidFill>
                <a:latin typeface="Times New Roman"/>
              </a:endParaRPr>
            </a:p>
          </p:txBody>
        </p:sp>
        <p:sp>
          <p:nvSpPr>
            <p:cNvPr id="2050" name=""/>
            <p:cNvSpPr/>
            <p:nvPr/>
          </p:nvSpPr>
          <p:spPr>
            <a:xfrm>
              <a:off x="1219320" y="4707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1" name=""/>
          <p:cNvGrpSpPr/>
          <p:nvPr/>
        </p:nvGrpSpPr>
        <p:grpSpPr>
          <a:xfrm>
            <a:off x="1219320" y="5148720"/>
            <a:ext cx="6901920" cy="429120"/>
            <a:chOff x="1219320" y="5148720"/>
            <a:chExt cx="6901920" cy="429120"/>
          </a:xfrm>
        </p:grpSpPr>
        <p:sp>
          <p:nvSpPr>
            <p:cNvPr id="2052" name=""/>
            <p:cNvSpPr/>
            <p:nvPr/>
          </p:nvSpPr>
          <p:spPr>
            <a:xfrm>
              <a:off x="1756080" y="5148720"/>
              <a:ext cx="63651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us Textbausteinen ein Schulprogramm gestalten</a:t>
              </a:r>
              <a:endParaRPr b="0" lang="en-US" sz="2200" spc="-1" strike="noStrike">
                <a:solidFill>
                  <a:srgbClr val="000000"/>
                </a:solidFill>
                <a:latin typeface="Times New Roman"/>
              </a:endParaRPr>
            </a:p>
          </p:txBody>
        </p:sp>
        <p:sp>
          <p:nvSpPr>
            <p:cNvPr id="2053" name=""/>
            <p:cNvSpPr/>
            <p:nvPr/>
          </p:nvSpPr>
          <p:spPr>
            <a:xfrm>
              <a:off x="1219320" y="5398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4" name=""/>
          <p:cNvGrpSpPr/>
          <p:nvPr/>
        </p:nvGrpSpPr>
        <p:grpSpPr>
          <a:xfrm>
            <a:off x="1219320" y="5820120"/>
            <a:ext cx="5688720" cy="429120"/>
            <a:chOff x="1219320" y="5820120"/>
            <a:chExt cx="5688720" cy="429120"/>
          </a:xfrm>
        </p:grpSpPr>
        <p:sp>
          <p:nvSpPr>
            <p:cNvPr id="2055" name=""/>
            <p:cNvSpPr/>
            <p:nvPr/>
          </p:nvSpPr>
          <p:spPr>
            <a:xfrm>
              <a:off x="1756080" y="5820120"/>
              <a:ext cx="5151960" cy="429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Umsetzung von Vorhaben angehen.</a:t>
              </a:r>
              <a:endParaRPr b="0" lang="en-US" sz="2200" spc="-1" strike="noStrike">
                <a:solidFill>
                  <a:srgbClr val="000000"/>
                </a:solidFill>
                <a:latin typeface="Times New Roman"/>
              </a:endParaRPr>
            </a:p>
          </p:txBody>
        </p:sp>
        <p:sp>
          <p:nvSpPr>
            <p:cNvPr id="2056" name=""/>
            <p:cNvSpPr/>
            <p:nvPr/>
          </p:nvSpPr>
          <p:spPr>
            <a:xfrm>
              <a:off x="1219320" y="60685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7" name=""/>
          <p:cNvGrpSpPr/>
          <p:nvPr/>
        </p:nvGrpSpPr>
        <p:grpSpPr>
          <a:xfrm>
            <a:off x="0" y="1371600"/>
            <a:ext cx="1219320" cy="990360"/>
            <a:chOff x="0" y="1371600"/>
            <a:chExt cx="1219320" cy="990360"/>
          </a:xfrm>
        </p:grpSpPr>
        <p:sp>
          <p:nvSpPr>
            <p:cNvPr id="2058"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9" name="" descr=""/>
            <p:cNvPicPr/>
            <p:nvPr/>
          </p:nvPicPr>
          <p:blipFill>
            <a:blip r:embed="rId2"/>
            <a:stretch/>
          </p:blipFill>
          <p:spPr>
            <a:xfrm>
              <a:off x="152280" y="1447560"/>
              <a:ext cx="914400" cy="831960"/>
            </a:xfrm>
            <a:prstGeom prst="rect">
              <a:avLst/>
            </a:prstGeom>
            <a:ln w="0">
              <a:noFill/>
            </a:ln>
          </p:spPr>
        </p:pic>
      </p:grpSp>
      <p:sp>
        <p:nvSpPr>
          <p:cNvPr id="2060"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2" name="bmuk_sw" descr=""/>
          <p:cNvPicPr/>
          <p:nvPr/>
        </p:nvPicPr>
        <p:blipFill>
          <a:blip r:embed="rId1"/>
          <a:stretch/>
        </p:blipFill>
        <p:spPr>
          <a:xfrm>
            <a:off x="76320" y="0"/>
            <a:ext cx="1218960" cy="566640"/>
          </a:xfrm>
          <a:prstGeom prst="rect">
            <a:avLst/>
          </a:prstGeom>
          <a:ln w="0">
            <a:noFill/>
          </a:ln>
        </p:spPr>
      </p:pic>
      <p:sp>
        <p:nvSpPr>
          <p:cNvPr id="206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1693080" y="1599120"/>
            <a:ext cx="2382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um es geht</a:t>
            </a:r>
            <a:endParaRPr b="0" lang="en-US" sz="2400" spc="-1" strike="noStrike">
              <a:solidFill>
                <a:srgbClr val="000000"/>
              </a:solidFill>
              <a:latin typeface="Times New Roman"/>
            </a:endParaRPr>
          </a:p>
        </p:txBody>
      </p:sp>
      <p:sp>
        <p:nvSpPr>
          <p:cNvPr id="206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6" name=""/>
          <p:cNvGrpSpPr/>
          <p:nvPr/>
        </p:nvGrpSpPr>
        <p:grpSpPr>
          <a:xfrm>
            <a:off x="1219320" y="2210400"/>
            <a:ext cx="6400800" cy="3445560"/>
            <a:chOff x="1219320" y="2210400"/>
            <a:chExt cx="6400800" cy="3445560"/>
          </a:xfrm>
        </p:grpSpPr>
        <p:sp>
          <p:nvSpPr>
            <p:cNvPr id="2067" name=""/>
            <p:cNvSpPr/>
            <p:nvPr/>
          </p:nvSpPr>
          <p:spPr>
            <a:xfrm>
              <a:off x="1219320" y="2590920"/>
              <a:ext cx="350496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1219320" y="2210400"/>
              <a:ext cx="6400800" cy="3445560"/>
            </a:xfrm>
            <a:prstGeom prst="rect">
              <a:avLst/>
            </a:prstGeom>
            <a:noFill/>
            <a:ln w="0">
              <a:noFill/>
            </a:ln>
          </p:spPr>
          <p:style>
            <a:lnRef idx="0"/>
            <a:fillRef idx="0"/>
            <a:effectRef idx="0"/>
            <a:fontRef idx="minor"/>
          </p:style>
          <p:txBody>
            <a:bodyPr lIns="90000" rIns="90000" tIns="46800" bIns="46800" anchor="ctr">
              <a:spAutoFit/>
            </a:bodyPr>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a:t>
              </a:r>
              <a:r>
                <a:rPr b="1" lang="de-DE" sz="2200" spc="-1" strike="noStrike">
                  <a:solidFill>
                    <a:srgbClr val="000000"/>
                  </a:solidFill>
                  <a:latin typeface="Arial"/>
                </a:rPr>
                <a:t>Offenen Methoden</a:t>
              </a:r>
              <a:r>
                <a:rPr b="0" lang="de-DE" sz="2200" spc="-1" strike="noStrike">
                  <a:solidFill>
                    <a:srgbClr val="000000"/>
                  </a:solidFill>
                  <a:latin typeface="Arial"/>
                </a:rPr>
                <a:t> eignen sich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esonders als Einstieg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 die Qualitätsentwicklung und zur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tersuchung konkreter Themen bzw.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ßnahmen.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ie sind auf die 5 Qualitätsbereiche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gestimmt und bieten zahlreiche </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lternativen zum Einsatz von Fragebögen</a:t>
              </a:r>
              <a:endParaRPr b="0" lang="en-US" sz="2200" spc="-1" strike="noStrike">
                <a:solidFill>
                  <a:srgbClr val="000000"/>
                </a:solidFill>
                <a:latin typeface="Times New Roman"/>
              </a:endParaRPr>
            </a:p>
            <a:p>
              <a:pPr marL="480960" indent="-100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
        <p:nvSpPr>
          <p:cNvPr id="2069"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0"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0" y="609480"/>
            <a:ext cx="259092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6"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2077" name=""/>
          <p:cNvSpPr/>
          <p:nvPr/>
        </p:nvSpPr>
        <p:spPr>
          <a:xfrm>
            <a:off x="0" y="990720"/>
            <a:ext cx="2590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0" y="944640"/>
            <a:ext cx="2590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ffene Methoden</a:t>
            </a:r>
            <a:endParaRPr b="0" lang="en-US" sz="2200" spc="-1" strike="noStrike">
              <a:solidFill>
                <a:srgbClr val="000000"/>
              </a:solidFill>
              <a:latin typeface="Times New Roman"/>
            </a:endParaRPr>
          </a:p>
        </p:txBody>
      </p:sp>
      <p:grpSp>
        <p:nvGrpSpPr>
          <p:cNvPr id="2079" name=""/>
          <p:cNvGrpSpPr/>
          <p:nvPr/>
        </p:nvGrpSpPr>
        <p:grpSpPr>
          <a:xfrm>
            <a:off x="0" y="1371600"/>
            <a:ext cx="1219320" cy="990360"/>
            <a:chOff x="0" y="1371600"/>
            <a:chExt cx="1219320" cy="990360"/>
          </a:xfrm>
        </p:grpSpPr>
        <p:sp>
          <p:nvSpPr>
            <p:cNvPr id="2080"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1"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220760" y="1446840"/>
            <a:ext cx="2872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men/Methoden</a:t>
            </a:r>
            <a:endParaRPr b="0" lang="en-US" sz="2400" spc="-1" strike="noStrike">
              <a:solidFill>
                <a:srgbClr val="000000"/>
              </a:solidFill>
              <a:latin typeface="Times New Roman"/>
            </a:endParaRPr>
          </a:p>
        </p:txBody>
      </p:sp>
      <p:sp>
        <p:nvSpPr>
          <p:cNvPr id="208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0" y="609480"/>
            <a:ext cx="259092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8"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2089" name=""/>
          <p:cNvSpPr/>
          <p:nvPr/>
        </p:nvSpPr>
        <p:spPr>
          <a:xfrm>
            <a:off x="0" y="990720"/>
            <a:ext cx="25909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
          <p:cNvSpPr/>
          <p:nvPr/>
        </p:nvSpPr>
        <p:spPr>
          <a:xfrm>
            <a:off x="0" y="944640"/>
            <a:ext cx="2590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ffene Methoden</a:t>
            </a:r>
            <a:endParaRPr b="0" lang="en-US" sz="2200" spc="-1" strike="noStrike">
              <a:solidFill>
                <a:srgbClr val="000000"/>
              </a:solidFill>
              <a:latin typeface="Times New Roman"/>
            </a:endParaRPr>
          </a:p>
        </p:txBody>
      </p:sp>
      <p:sp>
        <p:nvSpPr>
          <p:cNvPr id="209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2" name=""/>
          <p:cNvGrpSpPr/>
          <p:nvPr/>
        </p:nvGrpSpPr>
        <p:grpSpPr>
          <a:xfrm>
            <a:off x="0" y="1371600"/>
            <a:ext cx="1219320" cy="990360"/>
            <a:chOff x="0" y="1371600"/>
            <a:chExt cx="1219320" cy="990360"/>
          </a:xfrm>
        </p:grpSpPr>
        <p:sp>
          <p:nvSpPr>
            <p:cNvPr id="2093"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94" name="" descr=""/>
            <p:cNvPicPr/>
            <p:nvPr/>
          </p:nvPicPr>
          <p:blipFill>
            <a:blip r:embed="rId1"/>
            <a:stretch/>
          </p:blipFill>
          <p:spPr>
            <a:xfrm>
              <a:off x="152280" y="1447560"/>
              <a:ext cx="914400" cy="831960"/>
            </a:xfrm>
            <a:prstGeom prst="rect">
              <a:avLst/>
            </a:prstGeom>
            <a:ln w="0">
              <a:noFill/>
            </a:ln>
          </p:spPr>
        </p:pic>
      </p:grpSp>
      <p:sp>
        <p:nvSpPr>
          <p:cNvPr id="209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6" name=""/>
          <p:cNvGrpSpPr/>
          <p:nvPr/>
        </p:nvGrpSpPr>
        <p:grpSpPr>
          <a:xfrm>
            <a:off x="-76320" y="1814400"/>
            <a:ext cx="1981440" cy="1157040"/>
            <a:chOff x="-76320" y="1814400"/>
            <a:chExt cx="1981440" cy="1157040"/>
          </a:xfrm>
        </p:grpSpPr>
        <p:sp>
          <p:nvSpPr>
            <p:cNvPr id="2097" name=""/>
            <p:cNvSpPr/>
            <p:nvPr/>
          </p:nvSpPr>
          <p:spPr>
            <a:xfrm>
              <a:off x="0" y="1822320"/>
              <a:ext cx="121932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8" name=""/>
            <p:cNvGrpSpPr/>
            <p:nvPr/>
          </p:nvGrpSpPr>
          <p:grpSpPr>
            <a:xfrm>
              <a:off x="-76320" y="1814400"/>
              <a:ext cx="1981440" cy="1157040"/>
              <a:chOff x="-76320" y="1814400"/>
              <a:chExt cx="1981440" cy="1157040"/>
            </a:xfrm>
          </p:grpSpPr>
          <p:sp>
            <p:nvSpPr>
              <p:cNvPr id="2099" name=""/>
              <p:cNvSpPr/>
              <p:nvPr/>
            </p:nvSpPr>
            <p:spPr>
              <a:xfrm>
                <a:off x="0" y="1814400"/>
                <a:ext cx="1828800" cy="115704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
              <p:cNvSpPr/>
              <p:nvPr/>
            </p:nvSpPr>
            <p:spPr>
              <a:xfrm>
                <a:off x="-76320" y="1866960"/>
                <a:ext cx="19814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llegiale Unterrichts-beobachtung</a:t>
                </a:r>
                <a:endParaRPr b="0" lang="en-US" sz="2000" spc="-1" strike="noStrike">
                  <a:solidFill>
                    <a:srgbClr val="000000"/>
                  </a:solidFill>
                  <a:latin typeface="Times New Roman"/>
                </a:endParaRPr>
              </a:p>
            </p:txBody>
          </p:sp>
        </p:grpSp>
      </p:grpSp>
      <p:grpSp>
        <p:nvGrpSpPr>
          <p:cNvPr id="2101" name=""/>
          <p:cNvGrpSpPr/>
          <p:nvPr/>
        </p:nvGrpSpPr>
        <p:grpSpPr>
          <a:xfrm>
            <a:off x="1752480" y="1778400"/>
            <a:ext cx="1905120" cy="1313640"/>
            <a:chOff x="1752480" y="1778400"/>
            <a:chExt cx="1905120" cy="1313640"/>
          </a:xfrm>
        </p:grpSpPr>
        <p:sp>
          <p:nvSpPr>
            <p:cNvPr id="2102" name=""/>
            <p:cNvSpPr/>
            <p:nvPr/>
          </p:nvSpPr>
          <p:spPr>
            <a:xfrm>
              <a:off x="1825560" y="1814400"/>
              <a:ext cx="1758960" cy="1157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
            <p:cNvSpPr/>
            <p:nvPr/>
          </p:nvSpPr>
          <p:spPr>
            <a:xfrm>
              <a:off x="1752480" y="1778400"/>
              <a:ext cx="190512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istungs-beurteil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04" name=""/>
          <p:cNvGrpSpPr/>
          <p:nvPr/>
        </p:nvGrpSpPr>
        <p:grpSpPr>
          <a:xfrm>
            <a:off x="3505320" y="1816200"/>
            <a:ext cx="2057400" cy="1155600"/>
            <a:chOff x="3505320" y="1816200"/>
            <a:chExt cx="2057400" cy="1155600"/>
          </a:xfrm>
        </p:grpSpPr>
        <p:sp>
          <p:nvSpPr>
            <p:cNvPr id="2105" name=""/>
            <p:cNvSpPr/>
            <p:nvPr/>
          </p:nvSpPr>
          <p:spPr>
            <a:xfrm>
              <a:off x="3584520" y="1816200"/>
              <a:ext cx="1898640" cy="11556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6" name=""/>
            <p:cNvSpPr/>
            <p:nvPr/>
          </p:nvSpPr>
          <p:spPr>
            <a:xfrm>
              <a:off x="3505320" y="2067480"/>
              <a:ext cx="20574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ern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ennen lernen</a:t>
              </a:r>
              <a:endParaRPr b="0" lang="en-US" sz="2000" spc="-1" strike="noStrike">
                <a:solidFill>
                  <a:srgbClr val="000000"/>
                </a:solidFill>
                <a:latin typeface="Times New Roman"/>
              </a:endParaRPr>
            </a:p>
          </p:txBody>
        </p:sp>
      </p:grpSp>
      <p:grpSp>
        <p:nvGrpSpPr>
          <p:cNvPr id="2107" name=""/>
          <p:cNvGrpSpPr/>
          <p:nvPr/>
        </p:nvGrpSpPr>
        <p:grpSpPr>
          <a:xfrm>
            <a:off x="5410080" y="1816200"/>
            <a:ext cx="1981440" cy="1155600"/>
            <a:chOff x="5410080" y="1816200"/>
            <a:chExt cx="1981440" cy="1155600"/>
          </a:xfrm>
        </p:grpSpPr>
        <p:sp>
          <p:nvSpPr>
            <p:cNvPr id="2108" name=""/>
            <p:cNvSpPr/>
            <p:nvPr/>
          </p:nvSpPr>
          <p:spPr>
            <a:xfrm>
              <a:off x="5486400" y="1816200"/>
              <a:ext cx="1828800" cy="11556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9" name=""/>
            <p:cNvSpPr/>
            <p:nvPr/>
          </p:nvSpPr>
          <p:spPr>
            <a:xfrm>
              <a:off x="5410080" y="2067480"/>
              <a:ext cx="1981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kli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10" name=""/>
          <p:cNvGrpSpPr/>
          <p:nvPr/>
        </p:nvGrpSpPr>
        <p:grpSpPr>
          <a:xfrm>
            <a:off x="7238880" y="1816200"/>
            <a:ext cx="1981440" cy="1155600"/>
            <a:chOff x="7238880" y="1816200"/>
            <a:chExt cx="1981440" cy="1155600"/>
          </a:xfrm>
        </p:grpSpPr>
        <p:sp>
          <p:nvSpPr>
            <p:cNvPr id="2111" name=""/>
            <p:cNvSpPr/>
            <p:nvPr/>
          </p:nvSpPr>
          <p:spPr>
            <a:xfrm>
              <a:off x="7315200" y="1816200"/>
              <a:ext cx="1828800" cy="11556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2" name=""/>
            <p:cNvSpPr/>
            <p:nvPr/>
          </p:nvSpPr>
          <p:spPr>
            <a:xfrm>
              <a:off x="7238880" y="2067480"/>
              <a:ext cx="1981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toevalu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13" name=""/>
          <p:cNvGrpSpPr/>
          <p:nvPr/>
        </p:nvGrpSpPr>
        <p:grpSpPr>
          <a:xfrm>
            <a:off x="1752480" y="2975040"/>
            <a:ext cx="1905120" cy="1175760"/>
            <a:chOff x="1752480" y="2975040"/>
            <a:chExt cx="1905120" cy="1175760"/>
          </a:xfrm>
        </p:grpSpPr>
        <p:sp>
          <p:nvSpPr>
            <p:cNvPr id="2114" name=""/>
            <p:cNvSpPr/>
            <p:nvPr/>
          </p:nvSpPr>
          <p:spPr>
            <a:xfrm>
              <a:off x="1825560" y="2975040"/>
              <a:ext cx="1758240" cy="117576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5" name=""/>
            <p:cNvSpPr/>
            <p:nvPr/>
          </p:nvSpPr>
          <p:spPr>
            <a:xfrm>
              <a:off x="1752480" y="3241800"/>
              <a:ext cx="19051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ltern beteiligen</a:t>
              </a:r>
              <a:endParaRPr b="0" lang="en-US" sz="2000" spc="-1" strike="noStrike">
                <a:solidFill>
                  <a:srgbClr val="000000"/>
                </a:solidFill>
                <a:latin typeface="Times New Roman"/>
              </a:endParaRPr>
            </a:p>
          </p:txBody>
        </p:sp>
      </p:grpSp>
      <p:grpSp>
        <p:nvGrpSpPr>
          <p:cNvPr id="2116" name=""/>
          <p:cNvGrpSpPr/>
          <p:nvPr/>
        </p:nvGrpSpPr>
        <p:grpSpPr>
          <a:xfrm>
            <a:off x="3505320" y="2971800"/>
            <a:ext cx="2133360" cy="1320480"/>
            <a:chOff x="3505320" y="2971800"/>
            <a:chExt cx="2133360" cy="1320480"/>
          </a:xfrm>
        </p:grpSpPr>
        <p:sp>
          <p:nvSpPr>
            <p:cNvPr id="2117" name=""/>
            <p:cNvSpPr/>
            <p:nvPr/>
          </p:nvSpPr>
          <p:spPr>
            <a:xfrm>
              <a:off x="3584520" y="2971800"/>
              <a:ext cx="1901880" cy="118116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
            <p:cNvSpPr/>
            <p:nvPr/>
          </p:nvSpPr>
          <p:spPr>
            <a:xfrm>
              <a:off x="3505320" y="3283560"/>
              <a:ext cx="213336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bsolvent/innen befrag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2119" name=""/>
          <p:cNvGrpSpPr/>
          <p:nvPr/>
        </p:nvGrpSpPr>
        <p:grpSpPr>
          <a:xfrm>
            <a:off x="5410080" y="2975040"/>
            <a:ext cx="1981440" cy="1176120"/>
            <a:chOff x="5410080" y="2975040"/>
            <a:chExt cx="1981440" cy="1176120"/>
          </a:xfrm>
        </p:grpSpPr>
        <p:sp>
          <p:nvSpPr>
            <p:cNvPr id="2120" name=""/>
            <p:cNvSpPr/>
            <p:nvPr/>
          </p:nvSpPr>
          <p:spPr>
            <a:xfrm>
              <a:off x="5486400" y="2975040"/>
              <a:ext cx="1828800" cy="11761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1" name=""/>
            <p:cNvSpPr/>
            <p:nvPr/>
          </p:nvSpPr>
          <p:spPr>
            <a:xfrm>
              <a:off x="5410080" y="3275640"/>
              <a:ext cx="1981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okumenten-analyse</a:t>
              </a:r>
              <a:endParaRPr b="0" lang="en-US" sz="2000" spc="-1" strike="noStrike">
                <a:solidFill>
                  <a:srgbClr val="000000"/>
                </a:solidFill>
                <a:latin typeface="Times New Roman"/>
              </a:endParaRPr>
            </a:p>
          </p:txBody>
        </p:sp>
      </p:grpSp>
      <p:grpSp>
        <p:nvGrpSpPr>
          <p:cNvPr id="2122" name=""/>
          <p:cNvGrpSpPr/>
          <p:nvPr/>
        </p:nvGrpSpPr>
        <p:grpSpPr>
          <a:xfrm>
            <a:off x="7238880" y="2975040"/>
            <a:ext cx="1981440" cy="1176120"/>
            <a:chOff x="7238880" y="2975040"/>
            <a:chExt cx="1981440" cy="1176120"/>
          </a:xfrm>
        </p:grpSpPr>
        <p:sp>
          <p:nvSpPr>
            <p:cNvPr id="2123" name=""/>
            <p:cNvSpPr/>
            <p:nvPr/>
          </p:nvSpPr>
          <p:spPr>
            <a:xfrm>
              <a:off x="7315200" y="2975040"/>
              <a:ext cx="1828800" cy="11761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4" name=""/>
            <p:cNvSpPr/>
            <p:nvPr/>
          </p:nvSpPr>
          <p:spPr>
            <a:xfrm>
              <a:off x="7238880" y="3275640"/>
              <a:ext cx="1981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lem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eren</a:t>
              </a:r>
              <a:endParaRPr b="0" lang="en-US" sz="2000" spc="-1" strike="noStrike">
                <a:solidFill>
                  <a:srgbClr val="000000"/>
                </a:solidFill>
                <a:latin typeface="Times New Roman"/>
              </a:endParaRPr>
            </a:p>
          </p:txBody>
        </p:sp>
      </p:grpSp>
      <p:grpSp>
        <p:nvGrpSpPr>
          <p:cNvPr id="2125" name=""/>
          <p:cNvGrpSpPr/>
          <p:nvPr/>
        </p:nvGrpSpPr>
        <p:grpSpPr>
          <a:xfrm>
            <a:off x="1752480" y="4149720"/>
            <a:ext cx="1981440" cy="1176480"/>
            <a:chOff x="1752480" y="4149720"/>
            <a:chExt cx="1981440" cy="1176480"/>
          </a:xfrm>
        </p:grpSpPr>
        <p:sp>
          <p:nvSpPr>
            <p:cNvPr id="2126" name=""/>
            <p:cNvSpPr/>
            <p:nvPr/>
          </p:nvSpPr>
          <p:spPr>
            <a:xfrm>
              <a:off x="1825560" y="4149720"/>
              <a:ext cx="1762200" cy="117648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7" name=""/>
            <p:cNvSpPr/>
            <p:nvPr/>
          </p:nvSpPr>
          <p:spPr>
            <a:xfrm>
              <a:off x="1752480" y="4418640"/>
              <a:ext cx="1981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scheidungen</a:t>
              </a:r>
              <a:endParaRPr b="0" lang="en-US" sz="2000" spc="-1" strike="noStrike">
                <a:solidFill>
                  <a:srgbClr val="000000"/>
                </a:solidFill>
                <a:latin typeface="Times New Roman"/>
              </a:endParaRPr>
            </a:p>
          </p:txBody>
        </p:sp>
      </p:grpSp>
      <p:grpSp>
        <p:nvGrpSpPr>
          <p:cNvPr id="2128" name=""/>
          <p:cNvGrpSpPr/>
          <p:nvPr/>
        </p:nvGrpSpPr>
        <p:grpSpPr>
          <a:xfrm>
            <a:off x="3505320" y="4149720"/>
            <a:ext cx="2057040" cy="1176120"/>
            <a:chOff x="3505320" y="4149720"/>
            <a:chExt cx="2057040" cy="1176120"/>
          </a:xfrm>
        </p:grpSpPr>
        <p:sp>
          <p:nvSpPr>
            <p:cNvPr id="2129" name=""/>
            <p:cNvSpPr/>
            <p:nvPr/>
          </p:nvSpPr>
          <p:spPr>
            <a:xfrm>
              <a:off x="3584520" y="4149720"/>
              <a:ext cx="1898640" cy="11761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0" name=""/>
            <p:cNvSpPr/>
            <p:nvPr/>
          </p:nvSpPr>
          <p:spPr>
            <a:xfrm>
              <a:off x="3505320" y="4266000"/>
              <a:ext cx="20570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ärke-Schwäche-Analyse</a:t>
              </a:r>
              <a:endParaRPr b="0" lang="en-US" sz="2000" spc="-1" strike="noStrike">
                <a:solidFill>
                  <a:srgbClr val="000000"/>
                </a:solidFill>
                <a:latin typeface="Times New Roman"/>
              </a:endParaRPr>
            </a:p>
          </p:txBody>
        </p:sp>
      </p:grpSp>
      <p:grpSp>
        <p:nvGrpSpPr>
          <p:cNvPr id="2131" name=""/>
          <p:cNvGrpSpPr/>
          <p:nvPr/>
        </p:nvGrpSpPr>
        <p:grpSpPr>
          <a:xfrm>
            <a:off x="5410080" y="4149720"/>
            <a:ext cx="1981440" cy="1176120"/>
            <a:chOff x="5410080" y="4149720"/>
            <a:chExt cx="1981440" cy="1176120"/>
          </a:xfrm>
        </p:grpSpPr>
        <p:sp>
          <p:nvSpPr>
            <p:cNvPr id="2132" name=""/>
            <p:cNvSpPr/>
            <p:nvPr/>
          </p:nvSpPr>
          <p:spPr>
            <a:xfrm>
              <a:off x="5486400" y="4149720"/>
              <a:ext cx="1828800" cy="11761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
            <p:cNvSpPr/>
            <p:nvPr/>
          </p:nvSpPr>
          <p:spPr>
            <a:xfrm>
              <a:off x="5410080" y="4567680"/>
              <a:ext cx="19814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eamarbeit</a:t>
              </a:r>
              <a:endParaRPr b="0" lang="en-US" sz="2000" spc="-1" strike="noStrike">
                <a:solidFill>
                  <a:srgbClr val="000000"/>
                </a:solidFill>
                <a:latin typeface="Times New Roman"/>
              </a:endParaRPr>
            </a:p>
          </p:txBody>
        </p:sp>
      </p:grpSp>
      <p:grpSp>
        <p:nvGrpSpPr>
          <p:cNvPr id="2134" name=""/>
          <p:cNvGrpSpPr/>
          <p:nvPr/>
        </p:nvGrpSpPr>
        <p:grpSpPr>
          <a:xfrm>
            <a:off x="7238880" y="4149720"/>
            <a:ext cx="1981440" cy="1176120"/>
            <a:chOff x="7238880" y="4149720"/>
            <a:chExt cx="1981440" cy="1176120"/>
          </a:xfrm>
        </p:grpSpPr>
        <p:sp>
          <p:nvSpPr>
            <p:cNvPr id="2135" name=""/>
            <p:cNvSpPr/>
            <p:nvPr/>
          </p:nvSpPr>
          <p:spPr>
            <a:xfrm>
              <a:off x="7315200" y="4149720"/>
              <a:ext cx="1828800" cy="117612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
            <p:cNvSpPr/>
            <p:nvPr/>
          </p:nvSpPr>
          <p:spPr>
            <a:xfrm>
              <a:off x="7238880" y="4264560"/>
              <a:ext cx="198144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rsönliche Entwicklu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nung</a:t>
              </a:r>
              <a:endParaRPr b="0" lang="en-US" sz="2000" spc="-1" strike="noStrike">
                <a:solidFill>
                  <a:srgbClr val="000000"/>
                </a:solidFill>
                <a:latin typeface="Times New Roman"/>
              </a:endParaRPr>
            </a:p>
          </p:txBody>
        </p:sp>
      </p:grpSp>
      <p:grpSp>
        <p:nvGrpSpPr>
          <p:cNvPr id="2137" name=""/>
          <p:cNvGrpSpPr/>
          <p:nvPr/>
        </p:nvGrpSpPr>
        <p:grpSpPr>
          <a:xfrm>
            <a:off x="-76320" y="2975040"/>
            <a:ext cx="1981440" cy="1175760"/>
            <a:chOff x="-76320" y="2975040"/>
            <a:chExt cx="1981440" cy="1175760"/>
          </a:xfrm>
        </p:grpSpPr>
        <p:sp>
          <p:nvSpPr>
            <p:cNvPr id="2138" name=""/>
            <p:cNvSpPr/>
            <p:nvPr/>
          </p:nvSpPr>
          <p:spPr>
            <a:xfrm>
              <a:off x="0" y="2975040"/>
              <a:ext cx="1219320" cy="1175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9" name=""/>
            <p:cNvGrpSpPr/>
            <p:nvPr/>
          </p:nvGrpSpPr>
          <p:grpSpPr>
            <a:xfrm>
              <a:off x="-76320" y="2975040"/>
              <a:ext cx="1981440" cy="1175400"/>
              <a:chOff x="-76320" y="2975040"/>
              <a:chExt cx="1981440" cy="1175400"/>
            </a:xfrm>
          </p:grpSpPr>
          <p:sp>
            <p:nvSpPr>
              <p:cNvPr id="2140" name=""/>
              <p:cNvSpPr/>
              <p:nvPr/>
            </p:nvSpPr>
            <p:spPr>
              <a:xfrm>
                <a:off x="0" y="2975040"/>
                <a:ext cx="1828800" cy="117540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
              <p:cNvSpPr/>
              <p:nvPr/>
            </p:nvSpPr>
            <p:spPr>
              <a:xfrm>
                <a:off x="-76320" y="3241800"/>
                <a:ext cx="198144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chuleth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grpSp>
        <p:nvGrpSpPr>
          <p:cNvPr id="2142" name=""/>
          <p:cNvGrpSpPr/>
          <p:nvPr/>
        </p:nvGrpSpPr>
        <p:grpSpPr>
          <a:xfrm>
            <a:off x="0" y="4149720"/>
            <a:ext cx="1981080" cy="1176120"/>
            <a:chOff x="0" y="4149720"/>
            <a:chExt cx="1981080" cy="1176120"/>
          </a:xfrm>
        </p:grpSpPr>
        <p:sp>
          <p:nvSpPr>
            <p:cNvPr id="2143" name=""/>
            <p:cNvSpPr/>
            <p:nvPr/>
          </p:nvSpPr>
          <p:spPr>
            <a:xfrm>
              <a:off x="0" y="4149720"/>
              <a:ext cx="1219320" cy="117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4" name=""/>
            <p:cNvGrpSpPr/>
            <p:nvPr/>
          </p:nvGrpSpPr>
          <p:grpSpPr>
            <a:xfrm>
              <a:off x="0" y="4149720"/>
              <a:ext cx="1981080" cy="1175760"/>
              <a:chOff x="0" y="4149720"/>
              <a:chExt cx="1981080" cy="1175760"/>
            </a:xfrm>
          </p:grpSpPr>
          <p:sp>
            <p:nvSpPr>
              <p:cNvPr id="2145" name=""/>
              <p:cNvSpPr/>
              <p:nvPr/>
            </p:nvSpPr>
            <p:spPr>
              <a:xfrm>
                <a:off x="0" y="4149720"/>
                <a:ext cx="1828800" cy="1175760"/>
              </a:xfrm>
              <a:prstGeom prst="rect">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6" name=""/>
              <p:cNvSpPr/>
              <p:nvPr/>
            </p:nvSpPr>
            <p:spPr>
              <a:xfrm>
                <a:off x="0" y="4393080"/>
                <a:ext cx="198108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Konferenz- gestaltung</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8" name="bmuk_sw" descr=""/>
          <p:cNvPicPr/>
          <p:nvPr/>
        </p:nvPicPr>
        <p:blipFill>
          <a:blip r:embed="rId1"/>
          <a:stretch/>
        </p:blipFill>
        <p:spPr>
          <a:xfrm>
            <a:off x="76320" y="0"/>
            <a:ext cx="1218960" cy="566640"/>
          </a:xfrm>
          <a:prstGeom prst="rect">
            <a:avLst/>
          </a:prstGeom>
          <a:ln w="0">
            <a:noFill/>
          </a:ln>
        </p:spPr>
      </p:pic>
      <p:sp>
        <p:nvSpPr>
          <p:cNvPr id="214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0" name=""/>
          <p:cNvGrpSpPr/>
          <p:nvPr/>
        </p:nvGrpSpPr>
        <p:grpSpPr>
          <a:xfrm>
            <a:off x="1219320" y="1890000"/>
            <a:ext cx="7924680" cy="2654280"/>
            <a:chOff x="1219320" y="1890000"/>
            <a:chExt cx="7924680" cy="2654280"/>
          </a:xfrm>
        </p:grpSpPr>
        <p:sp>
          <p:nvSpPr>
            <p:cNvPr id="2151" name=""/>
            <p:cNvSpPr/>
            <p:nvPr/>
          </p:nvSpPr>
          <p:spPr>
            <a:xfrm>
              <a:off x="1219320" y="2349360"/>
              <a:ext cx="281916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1219320" y="1890000"/>
              <a:ext cx="7924680" cy="2654280"/>
            </a:xfrm>
            <a:prstGeom prst="rect">
              <a:avLst/>
            </a:prstGeom>
            <a:noFill/>
            <a:ln w="0">
              <a:noFill/>
            </a:ln>
          </p:spPr>
          <p:style>
            <a:lnRef idx="0"/>
            <a:fillRef idx="0"/>
            <a:effectRef idx="0"/>
            <a:fontRef idx="minor"/>
          </p:style>
          <p:txBody>
            <a:bodyPr lIns="90000" rIns="90000" tIns="46800" bIns="46800" anchor="ctr">
              <a:spAutoFit/>
            </a:bodyPr>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a:t>
              </a:r>
              <a:r>
                <a:rPr b="1" lang="de-DE" sz="2400" spc="-1" strike="noStrike">
                  <a:solidFill>
                    <a:srgbClr val="000000"/>
                  </a:solidFill>
                  <a:latin typeface="Arial"/>
                </a:rPr>
                <a:t> Fragebögen</a:t>
              </a:r>
              <a:r>
                <a:rPr b="0" lang="de-DE" sz="2400" spc="-1" strike="noStrike">
                  <a:solidFill>
                    <a:srgbClr val="000000"/>
                  </a:solidFill>
                  <a:latin typeface="Arial"/>
                </a:rPr>
                <a:t> sind gut dafür geeignet, sich einen Überblick zu verschaffen. Sie sind auf die 5 Qualitätsbereiche abgestimmt. Die Bögen sind gebrauchsfertig oder können nach Bedarf adaptiert werden:</a:t>
              </a:r>
              <a:endParaRPr b="0" lang="en-US" sz="2400" spc="-1" strike="noStrike">
                <a:solidFill>
                  <a:srgbClr val="000000"/>
                </a:solidFill>
                <a:latin typeface="Times New Roman"/>
              </a:endParaRPr>
            </a:p>
            <a:p>
              <a:pPr marL="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53" name=""/>
          <p:cNvSpPr/>
          <p:nvPr/>
        </p:nvSpPr>
        <p:spPr>
          <a:xfrm>
            <a:off x="1219320" y="5562720"/>
            <a:ext cx="374400" cy="527040"/>
          </a:xfrm>
          <a:prstGeom prst="rect">
            <a:avLst/>
          </a:prstGeom>
          <a:noFill/>
          <a:ln w="0">
            <a:noFill/>
          </a:ln>
        </p:spPr>
        <p:style>
          <a:lnRef idx="0"/>
          <a:fillRef idx="0"/>
          <a:effectRef idx="0"/>
          <a:fontRef idx="minor"/>
        </p:style>
        <p:txBody>
          <a:bodyPr wrap="none" lIns="90000" rIns="90000" tIns="46800" bIns="46800" anchor="ctr">
            <a:spAutoFit/>
          </a:bodyPr>
          <a:p>
            <a:pPr lvl="1" marL="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0"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2161" name=""/>
          <p:cNvSpPr/>
          <p:nvPr/>
        </p:nvSpPr>
        <p:spPr>
          <a:xfrm>
            <a:off x="0" y="990720"/>
            <a:ext cx="17524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2" name=""/>
          <p:cNvSpPr/>
          <p:nvPr/>
        </p:nvSpPr>
        <p:spPr>
          <a:xfrm>
            <a:off x="0" y="944640"/>
            <a:ext cx="1828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Fragebögen</a:t>
            </a:r>
            <a:endParaRPr b="0" lang="en-US" sz="2200" spc="-1" strike="noStrike">
              <a:solidFill>
                <a:srgbClr val="000000"/>
              </a:solidFill>
              <a:latin typeface="Times New Roman"/>
            </a:endParaRPr>
          </a:p>
        </p:txBody>
      </p:sp>
      <p:sp>
        <p:nvSpPr>
          <p:cNvPr id="216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4" name=""/>
          <p:cNvGrpSpPr/>
          <p:nvPr/>
        </p:nvGrpSpPr>
        <p:grpSpPr>
          <a:xfrm>
            <a:off x="0" y="1371600"/>
            <a:ext cx="1219320" cy="990360"/>
            <a:chOff x="0" y="1371600"/>
            <a:chExt cx="1219320" cy="990360"/>
          </a:xfrm>
        </p:grpSpPr>
        <p:sp>
          <p:nvSpPr>
            <p:cNvPr id="2165"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6"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8" name="bmuk_sw" descr=""/>
          <p:cNvPicPr/>
          <p:nvPr/>
        </p:nvPicPr>
        <p:blipFill>
          <a:blip r:embed="rId1"/>
          <a:stretch/>
        </p:blipFill>
        <p:spPr>
          <a:xfrm>
            <a:off x="76320" y="0"/>
            <a:ext cx="1218960" cy="566640"/>
          </a:xfrm>
          <a:prstGeom prst="rect">
            <a:avLst/>
          </a:prstGeom>
          <a:ln w="0">
            <a:noFill/>
          </a:ln>
        </p:spPr>
      </p:pic>
      <p:sp>
        <p:nvSpPr>
          <p:cNvPr id="2169"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1447920" y="1981080"/>
            <a:ext cx="183960" cy="52704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1" name=""/>
          <p:cNvGrpSpPr/>
          <p:nvPr/>
        </p:nvGrpSpPr>
        <p:grpSpPr>
          <a:xfrm>
            <a:off x="762120" y="3352320"/>
            <a:ext cx="7901280" cy="1175040"/>
            <a:chOff x="762120" y="3352320"/>
            <a:chExt cx="7901280" cy="1175040"/>
          </a:xfrm>
        </p:grpSpPr>
        <p:sp>
          <p:nvSpPr>
            <p:cNvPr id="2172" name=""/>
            <p:cNvSpPr/>
            <p:nvPr/>
          </p:nvSpPr>
          <p:spPr>
            <a:xfrm flipV="1">
              <a:off x="762120" y="335196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767960" y="3397320"/>
              <a:ext cx="6895440" cy="1130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Klassen – und Schulfeedback:</a:t>
              </a:r>
              <a:br>
                <a:rPr sz="2400"/>
              </a:br>
              <a:r>
                <a:rPr b="0" lang="de-DE" sz="2200" spc="-1" strike="noStrike">
                  <a:solidFill>
                    <a:srgbClr val="000000"/>
                  </a:solidFill>
                  <a:latin typeface="Arial"/>
                </a:rPr>
                <a:t>Schulpartner/innen beurteilen die Qualität ihrer Schule</a:t>
              </a:r>
              <a:br>
                <a:rPr sz="2200"/>
              </a:br>
              <a:endParaRPr b="0" lang="en-US" sz="2200" spc="-1" strike="noStrike">
                <a:solidFill>
                  <a:srgbClr val="000000"/>
                </a:solidFill>
                <a:latin typeface="Times New Roman"/>
              </a:endParaRPr>
            </a:p>
          </p:txBody>
        </p:sp>
      </p:grpSp>
      <p:grpSp>
        <p:nvGrpSpPr>
          <p:cNvPr id="2174" name=""/>
          <p:cNvGrpSpPr/>
          <p:nvPr/>
        </p:nvGrpSpPr>
        <p:grpSpPr>
          <a:xfrm>
            <a:off x="762120" y="4328640"/>
            <a:ext cx="8089560" cy="854640"/>
            <a:chOff x="762120" y="4328640"/>
            <a:chExt cx="8089560" cy="854640"/>
          </a:xfrm>
        </p:grpSpPr>
        <p:sp>
          <p:nvSpPr>
            <p:cNvPr id="2175" name=""/>
            <p:cNvSpPr/>
            <p:nvPr/>
          </p:nvSpPr>
          <p:spPr>
            <a:xfrm flipV="1">
              <a:off x="762120" y="43282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1764360" y="4357800"/>
              <a:ext cx="70873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nleitungen zur Durchführung und Auswertung</a:t>
              </a:r>
              <a:br>
                <a:rPr sz="2400"/>
              </a:br>
              <a:endParaRPr b="0" lang="en-US" sz="2400" spc="-1" strike="noStrike">
                <a:solidFill>
                  <a:srgbClr val="000000"/>
                </a:solidFill>
                <a:latin typeface="Times New Roman"/>
              </a:endParaRPr>
            </a:p>
          </p:txBody>
        </p:sp>
      </p:grpSp>
      <p:grpSp>
        <p:nvGrpSpPr>
          <p:cNvPr id="2177" name=""/>
          <p:cNvGrpSpPr/>
          <p:nvPr/>
        </p:nvGrpSpPr>
        <p:grpSpPr>
          <a:xfrm>
            <a:off x="750960" y="5257440"/>
            <a:ext cx="6717240" cy="1041480"/>
            <a:chOff x="750960" y="5257440"/>
            <a:chExt cx="6717240" cy="1041480"/>
          </a:xfrm>
        </p:grpSpPr>
        <p:sp>
          <p:nvSpPr>
            <p:cNvPr id="2178" name=""/>
            <p:cNvSpPr/>
            <p:nvPr/>
          </p:nvSpPr>
          <p:spPr>
            <a:xfrm flipV="1">
              <a:off x="750960" y="5257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1750680" y="5283000"/>
              <a:ext cx="571752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bellen, Schablonen, Kopiervorlage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1" name=""/>
          <p:cNvGrpSpPr/>
          <p:nvPr/>
        </p:nvGrpSpPr>
        <p:grpSpPr>
          <a:xfrm>
            <a:off x="762120" y="1828440"/>
            <a:ext cx="6829920" cy="1815480"/>
            <a:chOff x="762120" y="1828440"/>
            <a:chExt cx="6829920" cy="1815480"/>
          </a:xfrm>
        </p:grpSpPr>
        <p:sp>
          <p:nvSpPr>
            <p:cNvPr id="2182" name=""/>
            <p:cNvSpPr/>
            <p:nvPr/>
          </p:nvSpPr>
          <p:spPr>
            <a:xfrm flipV="1">
              <a:off x="762120" y="1828080"/>
              <a:ext cx="838080" cy="5461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1769400" y="1843560"/>
              <a:ext cx="582264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dividualfeedba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chüler/innen und Eltern geb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em einzelnen Lehrer/der einzelnen Lehrer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ückmeldung</a:t>
              </a:r>
              <a:br>
                <a:rPr sz="2200"/>
              </a:br>
              <a:endParaRPr b="0" lang="en-US" sz="2200" spc="-1" strike="noStrike">
                <a:solidFill>
                  <a:srgbClr val="000000"/>
                </a:solidFill>
                <a:latin typeface="Times New Roman"/>
              </a:endParaRPr>
            </a:p>
          </p:txBody>
        </p:sp>
      </p:grpSp>
      <p:sp>
        <p:nvSpPr>
          <p:cNvPr id="2184"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6"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0" y="6248520"/>
            <a:ext cx="1219320" cy="304560"/>
          </a:xfrm>
          <a:prstGeom prst="rect">
            <a:avLst/>
          </a:prstGeom>
          <a:solidFill>
            <a:srgbClr val="fcf3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0" y="65530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9" name=""/>
          <p:cNvSpPr/>
          <p:nvPr/>
        </p:nvSpPr>
        <p:spPr>
          <a:xfrm>
            <a:off x="0" y="609480"/>
            <a:ext cx="2438280" cy="381240"/>
          </a:xfrm>
          <a:prstGeom prst="rect">
            <a:avLst/>
          </a:prstGeom>
          <a:solidFill>
            <a:srgbClr val="fcf34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0" name=""/>
          <p:cNvSpPr/>
          <p:nvPr/>
        </p:nvSpPr>
        <p:spPr>
          <a:xfrm>
            <a:off x="0" y="609480"/>
            <a:ext cx="24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Q.I.S. im Internet</a:t>
            </a:r>
            <a:endParaRPr b="0" lang="en-US" sz="2200" spc="-1" strike="noStrike">
              <a:solidFill>
                <a:srgbClr val="000000"/>
              </a:solidFill>
              <a:latin typeface="Times New Roman"/>
            </a:endParaRPr>
          </a:p>
        </p:txBody>
      </p:sp>
      <p:sp>
        <p:nvSpPr>
          <p:cNvPr id="2191" name=""/>
          <p:cNvSpPr/>
          <p:nvPr/>
        </p:nvSpPr>
        <p:spPr>
          <a:xfrm>
            <a:off x="0" y="990720"/>
            <a:ext cx="17524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2" name=""/>
          <p:cNvSpPr/>
          <p:nvPr/>
        </p:nvSpPr>
        <p:spPr>
          <a:xfrm>
            <a:off x="0" y="944640"/>
            <a:ext cx="18288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Fragebögen</a:t>
            </a:r>
            <a:endParaRPr b="0" lang="en-US" sz="2200" spc="-1" strike="noStrike">
              <a:solidFill>
                <a:srgbClr val="000000"/>
              </a:solidFill>
              <a:latin typeface="Times New Roman"/>
            </a:endParaRPr>
          </a:p>
        </p:txBody>
      </p:sp>
      <p:grpSp>
        <p:nvGrpSpPr>
          <p:cNvPr id="2193" name=""/>
          <p:cNvGrpSpPr/>
          <p:nvPr/>
        </p:nvGrpSpPr>
        <p:grpSpPr>
          <a:xfrm>
            <a:off x="0" y="1371600"/>
            <a:ext cx="1219320" cy="990360"/>
            <a:chOff x="0" y="1371600"/>
            <a:chExt cx="1219320" cy="990360"/>
          </a:xfrm>
        </p:grpSpPr>
        <p:sp>
          <p:nvSpPr>
            <p:cNvPr id="2194" name=""/>
            <p:cNvSpPr/>
            <p:nvPr/>
          </p:nvSpPr>
          <p:spPr>
            <a:xfrm>
              <a:off x="0" y="1371600"/>
              <a:ext cx="1219320" cy="990360"/>
            </a:xfrm>
            <a:prstGeom prst="rect">
              <a:avLst/>
            </a:prstGeom>
            <a:solidFill>
              <a:srgbClr val="29292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5" name="" descr=""/>
            <p:cNvPicPr/>
            <p:nvPr/>
          </p:nvPicPr>
          <p:blipFill>
            <a:blip r:embed="rId2"/>
            <a:stretch/>
          </p:blipFill>
          <p:spPr>
            <a:xfrm>
              <a:off x="152280" y="1447560"/>
              <a:ext cx="914400" cy="831960"/>
            </a:xfrm>
            <a:prstGeom prst="rect">
              <a:avLst/>
            </a:prstGeom>
            <a:ln w="0">
              <a:noFill/>
            </a:ln>
          </p:spPr>
        </p:pic>
      </p:gr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7" name="bmuk_sw" descr=""/>
          <p:cNvPicPr/>
          <p:nvPr/>
        </p:nvPicPr>
        <p:blipFill>
          <a:blip r:embed="rId1"/>
          <a:stretch/>
        </p:blipFill>
        <p:spPr>
          <a:xfrm>
            <a:off x="76320" y="0"/>
            <a:ext cx="1218960" cy="566640"/>
          </a:xfrm>
          <a:prstGeom prst="rect">
            <a:avLst/>
          </a:prstGeom>
          <a:ln w="0">
            <a:noFill/>
          </a:ln>
        </p:spPr>
      </p:pic>
      <p:sp>
        <p:nvSpPr>
          <p:cNvPr id="219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4"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2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6" name=""/>
          <p:cNvGrpSpPr/>
          <p:nvPr/>
        </p:nvGrpSpPr>
        <p:grpSpPr>
          <a:xfrm>
            <a:off x="1219320" y="2931120"/>
            <a:ext cx="7238880" cy="1099440"/>
            <a:chOff x="1219320" y="2931120"/>
            <a:chExt cx="7238880" cy="1099440"/>
          </a:xfrm>
        </p:grpSpPr>
        <p:sp>
          <p:nvSpPr>
            <p:cNvPr id="2207" name=""/>
            <p:cNvSpPr/>
            <p:nvPr/>
          </p:nvSpPr>
          <p:spPr>
            <a:xfrm>
              <a:off x="1219320" y="33685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1752480" y="2931120"/>
              <a:ext cx="67057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bt der Arbeit mehr Sinn und steigert die berufliche Zufriedenheit - durch zielgerichtetes, koordiniertes Vorgehen in wichtigen schulischen Bereichen</a:t>
              </a:r>
              <a:endParaRPr b="0" lang="en-US" sz="2200" spc="-1" strike="noStrike">
                <a:solidFill>
                  <a:srgbClr val="000000"/>
                </a:solidFill>
                <a:latin typeface="Times New Roman"/>
              </a:endParaRPr>
            </a:p>
          </p:txBody>
        </p:sp>
      </p:grpSp>
      <p:grpSp>
        <p:nvGrpSpPr>
          <p:cNvPr id="2209" name=""/>
          <p:cNvGrpSpPr/>
          <p:nvPr/>
        </p:nvGrpSpPr>
        <p:grpSpPr>
          <a:xfrm>
            <a:off x="1219320" y="4313880"/>
            <a:ext cx="7238880" cy="1099440"/>
            <a:chOff x="1219320" y="4313880"/>
            <a:chExt cx="7238880" cy="1099440"/>
          </a:xfrm>
        </p:grpSpPr>
        <p:sp>
          <p:nvSpPr>
            <p:cNvPr id="2210" name=""/>
            <p:cNvSpPr/>
            <p:nvPr/>
          </p:nvSpPr>
          <p:spPr>
            <a:xfrm>
              <a:off x="1219320" y="4792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1752480" y="4313880"/>
              <a:ext cx="67057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möglicht die Konzentration auf das "Kerngeschäft" von Schule und hilft gegen ausufernde Anforderungen</a:t>
              </a:r>
              <a:endParaRPr b="0" lang="en-US" sz="2200" spc="-1" strike="noStrike">
                <a:solidFill>
                  <a:srgbClr val="000000"/>
                </a:solidFill>
                <a:latin typeface="Times New Roman"/>
              </a:endParaRPr>
            </a:p>
          </p:txBody>
        </p:sp>
      </p:grpSp>
      <p:sp>
        <p:nvSpPr>
          <p:cNvPr id="2212" name=""/>
          <p:cNvSpPr/>
          <p:nvPr/>
        </p:nvSpPr>
        <p:spPr>
          <a:xfrm>
            <a:off x="1371600" y="1445040"/>
            <a:ext cx="762012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Q.I.S. braucht Zeit, Energie und die Bereitschaft neue Wege zu gehen. Langfristig lassen sich jedoch zahlreiche Vorteile erwarten. Die Beschäftigung mit Schulprogramm und Selbstevaluation...</a:t>
            </a:r>
            <a:endParaRPr b="0" lang="en-US" sz="2100" spc="-1" strike="noStrike">
              <a:solidFill>
                <a:srgbClr val="000000"/>
              </a:solidFill>
              <a:latin typeface="Times New Roman"/>
            </a:endParaRPr>
          </a:p>
        </p:txBody>
      </p:sp>
      <p:grpSp>
        <p:nvGrpSpPr>
          <p:cNvPr id="2213" name=""/>
          <p:cNvGrpSpPr/>
          <p:nvPr/>
        </p:nvGrpSpPr>
        <p:grpSpPr>
          <a:xfrm>
            <a:off x="0" y="990720"/>
            <a:ext cx="3581280" cy="429120"/>
            <a:chOff x="0" y="990720"/>
            <a:chExt cx="3581280" cy="429120"/>
          </a:xfrm>
        </p:grpSpPr>
        <p:sp>
          <p:nvSpPr>
            <p:cNvPr id="2214" name=""/>
            <p:cNvSpPr/>
            <p:nvPr/>
          </p:nvSpPr>
          <p:spPr>
            <a:xfrm>
              <a:off x="0" y="990720"/>
              <a:ext cx="33526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5"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hrerinnen und Lehrer</a:t>
              </a:r>
              <a:endParaRPr b="0" lang="en-US" sz="2200" spc="-1" strike="noStrike">
                <a:solidFill>
                  <a:srgbClr val="000000"/>
                </a:solidFill>
                <a:latin typeface="Times New Roman"/>
              </a:endParaRPr>
            </a:p>
          </p:txBody>
        </p:sp>
      </p:grpSp>
      <p:sp>
        <p:nvSpPr>
          <p:cNvPr id="2216"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7" name=""/>
          <p:cNvGrpSpPr/>
          <p:nvPr/>
        </p:nvGrpSpPr>
        <p:grpSpPr>
          <a:xfrm>
            <a:off x="1219320" y="1446840"/>
            <a:ext cx="7543800" cy="764280"/>
            <a:chOff x="1219320" y="1446840"/>
            <a:chExt cx="7543800" cy="764280"/>
          </a:xfrm>
        </p:grpSpPr>
        <p:sp>
          <p:nvSpPr>
            <p:cNvPr id="2218" name=""/>
            <p:cNvSpPr/>
            <p:nvPr/>
          </p:nvSpPr>
          <p:spPr>
            <a:xfrm>
              <a:off x="1219320" y="18604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1752480" y="1446840"/>
              <a:ext cx="701064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ermittelt Orientierung und Sicherheit im schulischen Alltag - durch vereinbarte Ziele und "Spielregeln"</a:t>
              </a:r>
              <a:endParaRPr b="0" lang="en-US" sz="2200" spc="-1" strike="noStrike">
                <a:solidFill>
                  <a:srgbClr val="000000"/>
                </a:solidFill>
                <a:latin typeface="Times New Roman"/>
              </a:endParaRPr>
            </a:p>
          </p:txBody>
        </p:sp>
      </p:grpSp>
      <p:grpSp>
        <p:nvGrpSpPr>
          <p:cNvPr id="2220" name=""/>
          <p:cNvGrpSpPr/>
          <p:nvPr/>
        </p:nvGrpSpPr>
        <p:grpSpPr>
          <a:xfrm>
            <a:off x="1219320" y="2513520"/>
            <a:ext cx="7238880" cy="764280"/>
            <a:chOff x="1219320" y="2513520"/>
            <a:chExt cx="7238880" cy="764280"/>
          </a:xfrm>
        </p:grpSpPr>
        <p:sp>
          <p:nvSpPr>
            <p:cNvPr id="2221" name=""/>
            <p:cNvSpPr/>
            <p:nvPr/>
          </p:nvSpPr>
          <p:spPr>
            <a:xfrm>
              <a:off x="1219320" y="28260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1752480" y="2513520"/>
              <a:ext cx="6705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wirkt Anerkennung, Motivation und Lernchancen - durch verstärkte Rückmeldungen</a:t>
              </a:r>
              <a:endParaRPr b="0" lang="en-US" sz="2200" spc="-1" strike="noStrike">
                <a:solidFill>
                  <a:srgbClr val="000000"/>
                </a:solidFill>
                <a:latin typeface="Times New Roman"/>
              </a:endParaRPr>
            </a:p>
          </p:txBody>
        </p:sp>
      </p:grpSp>
      <p:grpSp>
        <p:nvGrpSpPr>
          <p:cNvPr id="2223" name=""/>
          <p:cNvGrpSpPr/>
          <p:nvPr/>
        </p:nvGrpSpPr>
        <p:grpSpPr>
          <a:xfrm>
            <a:off x="1219320" y="3504240"/>
            <a:ext cx="7543800" cy="764280"/>
            <a:chOff x="1219320" y="3504240"/>
            <a:chExt cx="7543800" cy="764280"/>
          </a:xfrm>
        </p:grpSpPr>
        <p:sp>
          <p:nvSpPr>
            <p:cNvPr id="2224" name=""/>
            <p:cNvSpPr/>
            <p:nvPr/>
          </p:nvSpPr>
          <p:spPr>
            <a:xfrm>
              <a:off x="1219320" y="3900240"/>
              <a:ext cx="398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5" name=""/>
            <p:cNvSpPr/>
            <p:nvPr/>
          </p:nvSpPr>
          <p:spPr>
            <a:xfrm>
              <a:off x="1752480" y="3504240"/>
              <a:ext cx="701064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höht das Verständnis für unterschiedliche Positionen und die Fähigkeit konstruktiv damit umzugehen</a:t>
              </a:r>
              <a:endParaRPr b="0" lang="en-US" sz="2200" spc="-1" strike="noStrike">
                <a:solidFill>
                  <a:srgbClr val="000000"/>
                </a:solidFill>
                <a:latin typeface="Times New Roman"/>
              </a:endParaRPr>
            </a:p>
          </p:txBody>
        </p:sp>
      </p:grpSp>
      <p:sp>
        <p:nvSpPr>
          <p:cNvPr id="222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7" name="bmuk_sw" descr=""/>
          <p:cNvPicPr/>
          <p:nvPr/>
        </p:nvPicPr>
        <p:blipFill>
          <a:blip r:embed="rId1"/>
          <a:stretch/>
        </p:blipFill>
        <p:spPr>
          <a:xfrm>
            <a:off x="76320" y="0"/>
            <a:ext cx="1218960" cy="566640"/>
          </a:xfrm>
          <a:prstGeom prst="rect">
            <a:avLst/>
          </a:prstGeom>
          <a:ln w="0">
            <a:noFill/>
          </a:ln>
        </p:spPr>
      </p:pic>
      <p:sp>
        <p:nvSpPr>
          <p:cNvPr id="222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4"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23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6" name=""/>
          <p:cNvGrpSpPr/>
          <p:nvPr/>
        </p:nvGrpSpPr>
        <p:grpSpPr>
          <a:xfrm>
            <a:off x="1219320" y="4570920"/>
            <a:ext cx="7238880" cy="764280"/>
            <a:chOff x="1219320" y="4570920"/>
            <a:chExt cx="7238880" cy="764280"/>
          </a:xfrm>
        </p:grpSpPr>
        <p:sp>
          <p:nvSpPr>
            <p:cNvPr id="2237" name=""/>
            <p:cNvSpPr/>
            <p:nvPr/>
          </p:nvSpPr>
          <p:spPr>
            <a:xfrm>
              <a:off x="1219320" y="4894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1752480" y="4570920"/>
              <a:ext cx="6705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ührt zu einem besseren Verständnis von Schule, besonders auch von Schüler/innen und ihrer Welt</a:t>
              </a:r>
              <a:endParaRPr b="0" lang="en-US" sz="2200" spc="-1" strike="noStrike">
                <a:solidFill>
                  <a:srgbClr val="000000"/>
                </a:solidFill>
                <a:latin typeface="Times New Roman"/>
              </a:endParaRPr>
            </a:p>
          </p:txBody>
        </p:sp>
      </p:grpSp>
      <p:grpSp>
        <p:nvGrpSpPr>
          <p:cNvPr id="2239" name=""/>
          <p:cNvGrpSpPr/>
          <p:nvPr/>
        </p:nvGrpSpPr>
        <p:grpSpPr>
          <a:xfrm>
            <a:off x="1219320" y="5561640"/>
            <a:ext cx="7238880" cy="764280"/>
            <a:chOff x="1219320" y="5561640"/>
            <a:chExt cx="7238880" cy="764280"/>
          </a:xfrm>
        </p:grpSpPr>
        <p:sp>
          <p:nvSpPr>
            <p:cNvPr id="2240" name=""/>
            <p:cNvSpPr/>
            <p:nvPr/>
          </p:nvSpPr>
          <p:spPr>
            <a:xfrm>
              <a:off x="1219320" y="59500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1752480" y="5561640"/>
              <a:ext cx="6705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bringt Freude, fallweise Entlastung und neue Erkenntnisse - durch verstärkte Teamarbeit</a:t>
              </a:r>
              <a:endParaRPr b="0" lang="en-US" sz="2200" spc="-1" strike="noStrike">
                <a:solidFill>
                  <a:srgbClr val="000000"/>
                </a:solidFill>
                <a:latin typeface="Times New Roman"/>
              </a:endParaRPr>
            </a:p>
          </p:txBody>
        </p:sp>
      </p:grpSp>
      <p:grpSp>
        <p:nvGrpSpPr>
          <p:cNvPr id="2242" name=""/>
          <p:cNvGrpSpPr/>
          <p:nvPr/>
        </p:nvGrpSpPr>
        <p:grpSpPr>
          <a:xfrm>
            <a:off x="0" y="990720"/>
            <a:ext cx="3581280" cy="429120"/>
            <a:chOff x="0" y="990720"/>
            <a:chExt cx="3581280" cy="429120"/>
          </a:xfrm>
        </p:grpSpPr>
        <p:sp>
          <p:nvSpPr>
            <p:cNvPr id="2243" name=""/>
            <p:cNvSpPr/>
            <p:nvPr/>
          </p:nvSpPr>
          <p:spPr>
            <a:xfrm>
              <a:off x="0" y="990720"/>
              <a:ext cx="33526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hrerinnen und Lehrer</a:t>
              </a:r>
              <a:endParaRPr b="0" lang="en-US" sz="2200" spc="-1" strike="noStrike">
                <a:solidFill>
                  <a:srgbClr val="000000"/>
                </a:solidFill>
                <a:latin typeface="Times New Roman"/>
              </a:endParaRPr>
            </a:p>
          </p:txBody>
        </p:sp>
      </p:grpSp>
      <p:sp>
        <p:nvSpPr>
          <p:cNvPr id="224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bmuk_sw" descr=""/>
          <p:cNvPicPr/>
          <p:nvPr/>
        </p:nvPicPr>
        <p:blipFill>
          <a:blip r:embed="rId1"/>
          <a:stretch/>
        </p:blipFill>
        <p:spPr>
          <a:xfrm>
            <a:off x="0" y="0"/>
            <a:ext cx="1219320" cy="566640"/>
          </a:xfrm>
          <a:prstGeom prst="rect">
            <a:avLst/>
          </a:prstGeom>
          <a:ln w="0">
            <a:noFill/>
          </a:ln>
        </p:spPr>
      </p:pic>
      <p:sp>
        <p:nvSpPr>
          <p:cNvPr id="18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5943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65530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990720"/>
            <a:ext cx="42670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987480"/>
            <a:ext cx="419112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eute aktueller denn je, weil...</a:t>
            </a:r>
            <a:endParaRPr b="0" lang="en-US" sz="2200" spc="-1" strike="noStrike">
              <a:solidFill>
                <a:srgbClr val="000000"/>
              </a:solidFill>
              <a:latin typeface="Times New Roman"/>
            </a:endParaRPr>
          </a:p>
        </p:txBody>
      </p:sp>
      <p:sp>
        <p:nvSpPr>
          <p:cNvPr id="201" name=""/>
          <p:cNvSpPr/>
          <p:nvPr/>
        </p:nvSpPr>
        <p:spPr>
          <a:xfrm>
            <a:off x="0" y="609480"/>
            <a:ext cx="449568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chäftigung mit Schulqualität</a:t>
            </a:r>
            <a:endParaRPr b="0" lang="en-US" sz="2200" spc="-1" strike="noStrike">
              <a:solidFill>
                <a:srgbClr val="000000"/>
              </a:solidFill>
              <a:latin typeface="Times New Roman"/>
            </a:endParaRPr>
          </a:p>
        </p:txBody>
      </p:sp>
      <p:grpSp>
        <p:nvGrpSpPr>
          <p:cNvPr id="202" name=""/>
          <p:cNvGrpSpPr/>
          <p:nvPr/>
        </p:nvGrpSpPr>
        <p:grpSpPr>
          <a:xfrm>
            <a:off x="1219320" y="1935360"/>
            <a:ext cx="7355160" cy="1800360"/>
            <a:chOff x="1219320" y="1935360"/>
            <a:chExt cx="7355160" cy="1800360"/>
          </a:xfrm>
        </p:grpSpPr>
        <p:sp>
          <p:nvSpPr>
            <p:cNvPr id="203" name=""/>
            <p:cNvSpPr/>
            <p:nvPr/>
          </p:nvSpPr>
          <p:spPr>
            <a:xfrm rot="5400000">
              <a:off x="1143000" y="2089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605960" y="1935360"/>
              <a:ext cx="696852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die notwendige Orientierung an Werten und Norm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mer schwerer fällt: Wertvorstellungen werd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heterogener und unverbindlicher, unterschiedlich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nteressen und Verhaltensregeln müssen aufeinand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bgestimmt werden;</a:t>
              </a:r>
              <a:r>
                <a:rPr b="0" lang="de-DE" sz="2400" spc="-1" strike="noStrike">
                  <a:solidFill>
                    <a:srgbClr val="000000"/>
                  </a:solidFill>
                  <a:latin typeface="Arial"/>
                </a:rPr>
                <a:t> </a:t>
              </a:r>
              <a:endParaRPr b="0" lang="en-US" sz="2400" spc="-1" strike="noStrike">
                <a:solidFill>
                  <a:srgbClr val="000000"/>
                </a:solidFill>
                <a:latin typeface="Times New Roman"/>
              </a:endParaRPr>
            </a:p>
          </p:txBody>
        </p:sp>
      </p:grpSp>
      <p:grpSp>
        <p:nvGrpSpPr>
          <p:cNvPr id="205" name=""/>
          <p:cNvGrpSpPr/>
          <p:nvPr/>
        </p:nvGrpSpPr>
        <p:grpSpPr>
          <a:xfrm>
            <a:off x="1219320" y="4175280"/>
            <a:ext cx="6688080" cy="1769760"/>
            <a:chOff x="1219320" y="4175280"/>
            <a:chExt cx="6688080" cy="1769760"/>
          </a:xfrm>
        </p:grpSpPr>
        <p:sp>
          <p:nvSpPr>
            <p:cNvPr id="206" name=""/>
            <p:cNvSpPr/>
            <p:nvPr/>
          </p:nvSpPr>
          <p:spPr>
            <a:xfrm rot="5400000">
              <a:off x="1143000" y="4267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671840" y="4175280"/>
              <a:ext cx="6235560" cy="17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der Begriff "Bildung" immer komplexer, in sich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widersprüchlicher wird: Seine Definition wird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gesichts der rasanten gesellschaftlich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politischen, ökonomischen und technisch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ntwicklungen immer schwieriger;</a:t>
              </a:r>
              <a:endParaRPr b="0" lang="en-US" sz="2200" spc="-1" strike="noStrike">
                <a:solidFill>
                  <a:srgbClr val="000000"/>
                </a:solidFill>
                <a:latin typeface="Times New Roman"/>
              </a:endParaRPr>
            </a:p>
          </p:txBody>
        </p:sp>
      </p:grpSp>
      <p:sp>
        <p:nvSpPr>
          <p:cNvPr id="208"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47" name="bmuk_sw" descr=""/>
          <p:cNvPicPr/>
          <p:nvPr/>
        </p:nvPicPr>
        <p:blipFill>
          <a:blip r:embed="rId1"/>
          <a:stretch/>
        </p:blipFill>
        <p:spPr>
          <a:xfrm>
            <a:off x="76320" y="0"/>
            <a:ext cx="1218960" cy="566640"/>
          </a:xfrm>
          <a:prstGeom prst="rect">
            <a:avLst/>
          </a:prstGeom>
          <a:ln w="0">
            <a:noFill/>
          </a:ln>
        </p:spPr>
      </p:pic>
      <p:sp>
        <p:nvSpPr>
          <p:cNvPr id="224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25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6" name=""/>
          <p:cNvGrpSpPr/>
          <p:nvPr/>
        </p:nvGrpSpPr>
        <p:grpSpPr>
          <a:xfrm>
            <a:off x="1219320" y="1751400"/>
            <a:ext cx="7238880" cy="764280"/>
            <a:chOff x="1219320" y="1751400"/>
            <a:chExt cx="7238880" cy="764280"/>
          </a:xfrm>
        </p:grpSpPr>
        <p:sp>
          <p:nvSpPr>
            <p:cNvPr id="2257" name=""/>
            <p:cNvSpPr/>
            <p:nvPr/>
          </p:nvSpPr>
          <p:spPr>
            <a:xfrm>
              <a:off x="1219320" y="2109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1752480" y="1751400"/>
              <a:ext cx="6705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trägt bei zur Horizonterweiterung - durch Erfahrungsaustausch und "Blick über den Zaun"</a:t>
              </a:r>
              <a:endParaRPr b="0" lang="en-US" sz="2200" spc="-1" strike="noStrike">
                <a:solidFill>
                  <a:srgbClr val="000000"/>
                </a:solidFill>
                <a:latin typeface="Times New Roman"/>
              </a:endParaRPr>
            </a:p>
          </p:txBody>
        </p:sp>
      </p:grpSp>
      <p:grpSp>
        <p:nvGrpSpPr>
          <p:cNvPr id="2259" name=""/>
          <p:cNvGrpSpPr/>
          <p:nvPr/>
        </p:nvGrpSpPr>
        <p:grpSpPr>
          <a:xfrm>
            <a:off x="1219320" y="2788200"/>
            <a:ext cx="7543800" cy="1099440"/>
            <a:chOff x="1219320" y="2788200"/>
            <a:chExt cx="7543800" cy="1099440"/>
          </a:xfrm>
        </p:grpSpPr>
        <p:sp>
          <p:nvSpPr>
            <p:cNvPr id="2260" name=""/>
            <p:cNvSpPr/>
            <p:nvPr/>
          </p:nvSpPr>
          <p:spPr>
            <a:xfrm>
              <a:off x="1219320" y="31752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1752480" y="2788200"/>
              <a:ext cx="701064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cht stolz auf die eigene Schule, erhöht Selbstbewußtsein und Ansehen in der Öffentlichkeit - durch dokumentierte Professionalität</a:t>
              </a:r>
              <a:endParaRPr b="0" lang="en-US" sz="2200" spc="-1" strike="noStrike">
                <a:solidFill>
                  <a:srgbClr val="000000"/>
                </a:solidFill>
                <a:latin typeface="Times New Roman"/>
              </a:endParaRPr>
            </a:p>
          </p:txBody>
        </p:sp>
      </p:grpSp>
      <p:grpSp>
        <p:nvGrpSpPr>
          <p:cNvPr id="2262" name=""/>
          <p:cNvGrpSpPr/>
          <p:nvPr/>
        </p:nvGrpSpPr>
        <p:grpSpPr>
          <a:xfrm>
            <a:off x="1219320" y="4190040"/>
            <a:ext cx="7238880" cy="764280"/>
            <a:chOff x="1219320" y="4190040"/>
            <a:chExt cx="7238880" cy="764280"/>
          </a:xfrm>
        </p:grpSpPr>
        <p:sp>
          <p:nvSpPr>
            <p:cNvPr id="2263" name=""/>
            <p:cNvSpPr/>
            <p:nvPr/>
          </p:nvSpPr>
          <p:spPr>
            <a:xfrm>
              <a:off x="1219320" y="45417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1752480" y="4190040"/>
              <a:ext cx="670572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mutigt zu Öffentlichkeitsarbeit und trägt bei zur Attraktivität des Standorts </a:t>
              </a:r>
              <a:endParaRPr b="0" lang="en-US" sz="2200" spc="-1" strike="noStrike">
                <a:solidFill>
                  <a:srgbClr val="000000"/>
                </a:solidFill>
                <a:latin typeface="Times New Roman"/>
              </a:endParaRPr>
            </a:p>
          </p:txBody>
        </p:sp>
      </p:grpSp>
      <p:grpSp>
        <p:nvGrpSpPr>
          <p:cNvPr id="2265" name=""/>
          <p:cNvGrpSpPr/>
          <p:nvPr/>
        </p:nvGrpSpPr>
        <p:grpSpPr>
          <a:xfrm>
            <a:off x="0" y="990720"/>
            <a:ext cx="3581280" cy="429120"/>
            <a:chOff x="0" y="990720"/>
            <a:chExt cx="3581280" cy="429120"/>
          </a:xfrm>
        </p:grpSpPr>
        <p:sp>
          <p:nvSpPr>
            <p:cNvPr id="2266" name=""/>
            <p:cNvSpPr/>
            <p:nvPr/>
          </p:nvSpPr>
          <p:spPr>
            <a:xfrm>
              <a:off x="0" y="990720"/>
              <a:ext cx="33526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hrerinnen und Lehrer</a:t>
              </a:r>
              <a:endParaRPr b="0" lang="en-US" sz="2200" spc="-1" strike="noStrike">
                <a:solidFill>
                  <a:srgbClr val="000000"/>
                </a:solidFill>
                <a:latin typeface="Times New Roman"/>
              </a:endParaRPr>
            </a:p>
          </p:txBody>
        </p:sp>
      </p:grpSp>
      <p:sp>
        <p:nvSpPr>
          <p:cNvPr id="2268" name=""/>
          <p:cNvSpPr/>
          <p:nvPr/>
        </p:nvSpPr>
        <p:spPr>
          <a:xfrm>
            <a:off x="1757160" y="5186880"/>
            <a:ext cx="5726520" cy="1518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Q.I.S. muss wachsen könne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Nicht alles geht immer glat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Und schon gar nicht gleich und vollständig.</a:t>
            </a:r>
            <a:endParaRPr b="0" lang="en-US" sz="21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Aber einen Versuch sollte es wert sein!</a:t>
            </a:r>
            <a:endParaRPr b="0" lang="en-US" sz="2100" spc="-1" strike="noStrike">
              <a:solidFill>
                <a:srgbClr val="000000"/>
              </a:solidFill>
              <a:latin typeface="Times New Roman"/>
            </a:endParaRPr>
          </a:p>
        </p:txBody>
      </p:sp>
      <p:sp>
        <p:nvSpPr>
          <p:cNvPr id="2269"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0"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1" name="bmuk_sw" descr=""/>
          <p:cNvPicPr/>
          <p:nvPr/>
        </p:nvPicPr>
        <p:blipFill>
          <a:blip r:embed="rId1"/>
          <a:stretch/>
        </p:blipFill>
        <p:spPr>
          <a:xfrm>
            <a:off x="76320" y="0"/>
            <a:ext cx="1218960" cy="566640"/>
          </a:xfrm>
          <a:prstGeom prst="rect">
            <a:avLst/>
          </a:prstGeom>
          <a:ln w="0">
            <a:noFill/>
          </a:ln>
        </p:spPr>
      </p:pic>
      <p:sp>
        <p:nvSpPr>
          <p:cNvPr id="2272"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8"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279"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0" name=""/>
          <p:cNvGrpSpPr/>
          <p:nvPr/>
        </p:nvGrpSpPr>
        <p:grpSpPr>
          <a:xfrm>
            <a:off x="1219320" y="1828800"/>
            <a:ext cx="7238880" cy="533160"/>
            <a:chOff x="1219320" y="1828800"/>
            <a:chExt cx="7238880" cy="533160"/>
          </a:xfrm>
        </p:grpSpPr>
        <p:sp>
          <p:nvSpPr>
            <p:cNvPr id="2281" name=""/>
            <p:cNvSpPr/>
            <p:nvPr/>
          </p:nvSpPr>
          <p:spPr>
            <a:xfrm>
              <a:off x="1752480" y="1828800"/>
              <a:ext cx="6705720" cy="42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Mehr Sinn und berufliche Zufriedenheit </a:t>
              </a:r>
              <a:r>
                <a:rPr b="0" lang="de-AT" sz="2200" spc="-1" strike="noStrike">
                  <a:solidFill>
                    <a:srgbClr val="000000"/>
                  </a:solidFill>
                  <a:latin typeface="Arial"/>
                </a:rPr>
                <a:t>	</a:t>
              </a:r>
              <a:endParaRPr b="0" lang="en-US" sz="2200" spc="-1" strike="noStrike">
                <a:solidFill>
                  <a:srgbClr val="000000"/>
                </a:solidFill>
                <a:latin typeface="Times New Roman"/>
              </a:endParaRPr>
            </a:p>
          </p:txBody>
        </p:sp>
        <p:sp>
          <p:nvSpPr>
            <p:cNvPr id="2282" name=""/>
            <p:cNvSpPr/>
            <p:nvPr/>
          </p:nvSpPr>
          <p:spPr>
            <a:xfrm rot="5400000">
              <a:off x="1143000" y="19047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3" name=""/>
          <p:cNvGrpSpPr/>
          <p:nvPr/>
        </p:nvGrpSpPr>
        <p:grpSpPr>
          <a:xfrm>
            <a:off x="1219320" y="2743200"/>
            <a:ext cx="8229600" cy="533520"/>
            <a:chOff x="1219320" y="2743200"/>
            <a:chExt cx="8229600" cy="533520"/>
          </a:xfrm>
        </p:grpSpPr>
        <p:sp>
          <p:nvSpPr>
            <p:cNvPr id="2284" name=""/>
            <p:cNvSpPr/>
            <p:nvPr/>
          </p:nvSpPr>
          <p:spPr>
            <a:xfrm>
              <a:off x="1752480" y="274320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onzentration auf das "Kerngeschäft" von Schule</a:t>
              </a:r>
              <a:endParaRPr b="0" lang="en-US" sz="2200" spc="-1" strike="noStrike">
                <a:solidFill>
                  <a:srgbClr val="000000"/>
                </a:solidFill>
                <a:latin typeface="Times New Roman"/>
              </a:endParaRPr>
            </a:p>
          </p:txBody>
        </p:sp>
        <p:sp>
          <p:nvSpPr>
            <p:cNvPr id="2285" name=""/>
            <p:cNvSpPr/>
            <p:nvPr/>
          </p:nvSpPr>
          <p:spPr>
            <a:xfrm rot="5400000">
              <a:off x="1143000" y="28195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6" name=""/>
          <p:cNvGrpSpPr/>
          <p:nvPr/>
        </p:nvGrpSpPr>
        <p:grpSpPr>
          <a:xfrm>
            <a:off x="1219320" y="3581280"/>
            <a:ext cx="7238880" cy="764280"/>
            <a:chOff x="1219320" y="3581280"/>
            <a:chExt cx="7238880" cy="764280"/>
          </a:xfrm>
        </p:grpSpPr>
        <p:sp>
          <p:nvSpPr>
            <p:cNvPr id="2287" name=""/>
            <p:cNvSpPr/>
            <p:nvPr/>
          </p:nvSpPr>
          <p:spPr>
            <a:xfrm>
              <a:off x="1752480" y="358128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rientierung und Sicherheit im schulischen Alltag</a:t>
              </a:r>
              <a:r>
                <a:rPr b="0" lang="de-AT" sz="2200" spc="-1" strike="noStrike">
                  <a:solidFill>
                    <a:srgbClr val="000000"/>
                  </a:solidFill>
                  <a:latin typeface="Arial"/>
                </a:rPr>
                <a:t>	</a:t>
              </a:r>
              <a:endParaRPr b="0" lang="en-US" sz="2200" spc="-1" strike="noStrike">
                <a:solidFill>
                  <a:srgbClr val="000000"/>
                </a:solidFill>
                <a:latin typeface="Times New Roman"/>
              </a:endParaRPr>
            </a:p>
          </p:txBody>
        </p:sp>
        <p:sp>
          <p:nvSpPr>
            <p:cNvPr id="2288" name=""/>
            <p:cNvSpPr/>
            <p:nvPr/>
          </p:nvSpPr>
          <p:spPr>
            <a:xfrm rot="5400000">
              <a:off x="1143000" y="380988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9" name=""/>
          <p:cNvGrpSpPr/>
          <p:nvPr/>
        </p:nvGrpSpPr>
        <p:grpSpPr>
          <a:xfrm>
            <a:off x="1219320" y="4664160"/>
            <a:ext cx="7238880" cy="764280"/>
            <a:chOff x="1219320" y="4664160"/>
            <a:chExt cx="7238880" cy="764280"/>
          </a:xfrm>
        </p:grpSpPr>
        <p:sp>
          <p:nvSpPr>
            <p:cNvPr id="2290" name=""/>
            <p:cNvSpPr/>
            <p:nvPr/>
          </p:nvSpPr>
          <p:spPr>
            <a:xfrm>
              <a:off x="1752480" y="466416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Konstruktiver Umgang mit Unterschieden und Widerständen</a:t>
              </a:r>
              <a:endParaRPr b="0" lang="en-US" sz="2200" spc="-1" strike="noStrike">
                <a:solidFill>
                  <a:srgbClr val="000000"/>
                </a:solidFill>
                <a:latin typeface="Times New Roman"/>
              </a:endParaRPr>
            </a:p>
          </p:txBody>
        </p:sp>
        <p:sp>
          <p:nvSpPr>
            <p:cNvPr id="2291" name=""/>
            <p:cNvSpPr/>
            <p:nvPr/>
          </p:nvSpPr>
          <p:spPr>
            <a:xfrm rot="5400000">
              <a:off x="1143360" y="4892400"/>
              <a:ext cx="53280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2" name=""/>
          <p:cNvGrpSpPr/>
          <p:nvPr/>
        </p:nvGrpSpPr>
        <p:grpSpPr>
          <a:xfrm>
            <a:off x="0" y="990720"/>
            <a:ext cx="3581280" cy="429120"/>
            <a:chOff x="0" y="990720"/>
            <a:chExt cx="3581280" cy="429120"/>
          </a:xfrm>
        </p:grpSpPr>
        <p:sp>
          <p:nvSpPr>
            <p:cNvPr id="2293" name=""/>
            <p:cNvSpPr/>
            <p:nvPr/>
          </p:nvSpPr>
          <p:spPr>
            <a:xfrm>
              <a:off x="0" y="990720"/>
              <a:ext cx="33526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hrerinnen und Lehrer</a:t>
              </a:r>
              <a:endParaRPr b="0" lang="en-US" sz="2200" spc="-1" strike="noStrike">
                <a:solidFill>
                  <a:srgbClr val="000000"/>
                </a:solidFill>
                <a:latin typeface="Times New Roman"/>
              </a:endParaRPr>
            </a:p>
          </p:txBody>
        </p:sp>
      </p:grpSp>
      <p:sp>
        <p:nvSpPr>
          <p:cNvPr id="229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bmuk_sw" descr=""/>
          <p:cNvPicPr/>
          <p:nvPr/>
        </p:nvPicPr>
        <p:blipFill>
          <a:blip r:embed="rId1"/>
          <a:stretch/>
        </p:blipFill>
        <p:spPr>
          <a:xfrm>
            <a:off x="76320" y="0"/>
            <a:ext cx="1218960" cy="566640"/>
          </a:xfrm>
          <a:prstGeom prst="rect">
            <a:avLst/>
          </a:prstGeom>
          <a:ln w="0">
            <a:noFill/>
          </a:ln>
        </p:spPr>
      </p:pic>
      <p:sp>
        <p:nvSpPr>
          <p:cNvPr id="229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4"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3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6" name=""/>
          <p:cNvGrpSpPr/>
          <p:nvPr/>
        </p:nvGrpSpPr>
        <p:grpSpPr>
          <a:xfrm>
            <a:off x="1219320" y="1752480"/>
            <a:ext cx="7543800" cy="764280"/>
            <a:chOff x="1219320" y="1752480"/>
            <a:chExt cx="7543800" cy="764280"/>
          </a:xfrm>
        </p:grpSpPr>
        <p:sp>
          <p:nvSpPr>
            <p:cNvPr id="2307" name=""/>
            <p:cNvSpPr/>
            <p:nvPr/>
          </p:nvSpPr>
          <p:spPr>
            <a:xfrm>
              <a:off x="1752480" y="1752480"/>
              <a:ext cx="7010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ertieftes Verständnis von Schule und Schüler/innen</a:t>
              </a:r>
              <a:endParaRPr b="0" lang="en-US" sz="2200" spc="-1" strike="noStrike">
                <a:solidFill>
                  <a:srgbClr val="000000"/>
                </a:solidFill>
                <a:latin typeface="Times New Roman"/>
              </a:endParaRPr>
            </a:p>
          </p:txBody>
        </p:sp>
        <p:sp>
          <p:nvSpPr>
            <p:cNvPr id="2308" name=""/>
            <p:cNvSpPr/>
            <p:nvPr/>
          </p:nvSpPr>
          <p:spPr>
            <a:xfrm rot="5400000">
              <a:off x="1143000" y="19051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9" name=""/>
          <p:cNvGrpSpPr/>
          <p:nvPr/>
        </p:nvGrpSpPr>
        <p:grpSpPr>
          <a:xfrm>
            <a:off x="1219320" y="2743200"/>
            <a:ext cx="8229600" cy="533520"/>
            <a:chOff x="1219320" y="2743200"/>
            <a:chExt cx="8229600" cy="533520"/>
          </a:xfrm>
        </p:grpSpPr>
        <p:sp>
          <p:nvSpPr>
            <p:cNvPr id="2310" name=""/>
            <p:cNvSpPr/>
            <p:nvPr/>
          </p:nvSpPr>
          <p:spPr>
            <a:xfrm>
              <a:off x="1752480" y="281952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Freude und neue Erkenntnisse  durch Teamarbeit</a:t>
              </a:r>
              <a:endParaRPr b="0" lang="en-US" sz="2200" spc="-1" strike="noStrike">
                <a:solidFill>
                  <a:srgbClr val="000000"/>
                </a:solidFill>
                <a:latin typeface="Times New Roman"/>
              </a:endParaRPr>
            </a:p>
          </p:txBody>
        </p:sp>
        <p:sp>
          <p:nvSpPr>
            <p:cNvPr id="2311" name=""/>
            <p:cNvSpPr/>
            <p:nvPr/>
          </p:nvSpPr>
          <p:spPr>
            <a:xfrm rot="5400000">
              <a:off x="1143000" y="28195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2" name=""/>
          <p:cNvGrpSpPr/>
          <p:nvPr/>
        </p:nvGrpSpPr>
        <p:grpSpPr>
          <a:xfrm>
            <a:off x="1219320" y="3733920"/>
            <a:ext cx="7238880" cy="533160"/>
            <a:chOff x="1219320" y="3733920"/>
            <a:chExt cx="7238880" cy="533160"/>
          </a:xfrm>
        </p:grpSpPr>
        <p:sp>
          <p:nvSpPr>
            <p:cNvPr id="2313" name=""/>
            <p:cNvSpPr/>
            <p:nvPr/>
          </p:nvSpPr>
          <p:spPr>
            <a:xfrm>
              <a:off x="1752480" y="376380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orizonterweiterung durch Erfahrungsaustausch</a:t>
              </a:r>
              <a:endParaRPr b="0" lang="en-US" sz="2200" spc="-1" strike="noStrike">
                <a:solidFill>
                  <a:srgbClr val="000000"/>
                </a:solidFill>
                <a:latin typeface="Times New Roman"/>
              </a:endParaRPr>
            </a:p>
          </p:txBody>
        </p:sp>
        <p:sp>
          <p:nvSpPr>
            <p:cNvPr id="2314" name=""/>
            <p:cNvSpPr/>
            <p:nvPr/>
          </p:nvSpPr>
          <p:spPr>
            <a:xfrm rot="5400000">
              <a:off x="1143000" y="38098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5" name=""/>
          <p:cNvGrpSpPr/>
          <p:nvPr/>
        </p:nvGrpSpPr>
        <p:grpSpPr>
          <a:xfrm>
            <a:off x="1219320" y="4572000"/>
            <a:ext cx="7238880" cy="764280"/>
            <a:chOff x="1219320" y="4572000"/>
            <a:chExt cx="7238880" cy="764280"/>
          </a:xfrm>
        </p:grpSpPr>
        <p:sp>
          <p:nvSpPr>
            <p:cNvPr id="2316" name=""/>
            <p:cNvSpPr/>
            <p:nvPr/>
          </p:nvSpPr>
          <p:spPr>
            <a:xfrm>
              <a:off x="1752480" y="457200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elbstbewußtsein und Ansehen in der Öffentlichkeit</a:t>
              </a:r>
              <a:endParaRPr b="0" lang="en-US" sz="2200" spc="-1" strike="noStrike">
                <a:solidFill>
                  <a:srgbClr val="000000"/>
                </a:solidFill>
                <a:latin typeface="Times New Roman"/>
              </a:endParaRPr>
            </a:p>
          </p:txBody>
        </p:sp>
        <p:sp>
          <p:nvSpPr>
            <p:cNvPr id="2317" name=""/>
            <p:cNvSpPr/>
            <p:nvPr/>
          </p:nvSpPr>
          <p:spPr>
            <a:xfrm rot="5400000">
              <a:off x="1143000" y="47242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19320" y="5638680"/>
            <a:ext cx="7238880" cy="533520"/>
            <a:chOff x="1219320" y="5638680"/>
            <a:chExt cx="7238880" cy="533520"/>
          </a:xfrm>
        </p:grpSpPr>
        <p:sp>
          <p:nvSpPr>
            <p:cNvPr id="2319" name=""/>
            <p:cNvSpPr/>
            <p:nvPr/>
          </p:nvSpPr>
          <p:spPr>
            <a:xfrm>
              <a:off x="1752480" y="566892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Attraktivität des Standorts </a:t>
              </a:r>
              <a:endParaRPr b="0" lang="en-US" sz="2200" spc="-1" strike="noStrike">
                <a:solidFill>
                  <a:srgbClr val="000000"/>
                </a:solidFill>
                <a:latin typeface="Times New Roman"/>
              </a:endParaRPr>
            </a:p>
          </p:txBody>
        </p:sp>
        <p:sp>
          <p:nvSpPr>
            <p:cNvPr id="2320" name=""/>
            <p:cNvSpPr/>
            <p:nvPr/>
          </p:nvSpPr>
          <p:spPr>
            <a:xfrm rot="5400000">
              <a:off x="1143000" y="57150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1" name=""/>
          <p:cNvGrpSpPr/>
          <p:nvPr/>
        </p:nvGrpSpPr>
        <p:grpSpPr>
          <a:xfrm>
            <a:off x="0" y="990720"/>
            <a:ext cx="3581280" cy="429120"/>
            <a:chOff x="0" y="990720"/>
            <a:chExt cx="3581280" cy="429120"/>
          </a:xfrm>
        </p:grpSpPr>
        <p:sp>
          <p:nvSpPr>
            <p:cNvPr id="2322" name=""/>
            <p:cNvSpPr/>
            <p:nvPr/>
          </p:nvSpPr>
          <p:spPr>
            <a:xfrm>
              <a:off x="0" y="990720"/>
              <a:ext cx="335268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3"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hrerinnen und Lehrer</a:t>
              </a:r>
              <a:endParaRPr b="0" lang="en-US" sz="2200" spc="-1" strike="noStrike">
                <a:solidFill>
                  <a:srgbClr val="000000"/>
                </a:solidFill>
                <a:latin typeface="Times New Roman"/>
              </a:endParaRPr>
            </a:p>
          </p:txBody>
        </p:sp>
      </p:grpSp>
      <p:sp>
        <p:nvSpPr>
          <p:cNvPr id="2324"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6" name="bmuk_sw" descr=""/>
          <p:cNvPicPr/>
          <p:nvPr/>
        </p:nvPicPr>
        <p:blipFill>
          <a:blip r:embed="rId1"/>
          <a:stretch/>
        </p:blipFill>
        <p:spPr>
          <a:xfrm>
            <a:off x="76320" y="0"/>
            <a:ext cx="1218960" cy="566640"/>
          </a:xfrm>
          <a:prstGeom prst="rect">
            <a:avLst/>
          </a:prstGeom>
          <a:ln w="0">
            <a:noFill/>
          </a:ln>
        </p:spPr>
      </p:pic>
      <p:sp>
        <p:nvSpPr>
          <p:cNvPr id="232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334" name=""/>
          <p:cNvSpPr/>
          <p:nvPr/>
        </p:nvSpPr>
        <p:spPr>
          <a:xfrm>
            <a:off x="0" y="990720"/>
            <a:ext cx="3657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5" name=""/>
          <p:cNvSpPr/>
          <p:nvPr/>
        </p:nvSpPr>
        <p:spPr>
          <a:xfrm>
            <a:off x="0" y="990720"/>
            <a:ext cx="36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ülerinnen und Schüler</a:t>
            </a:r>
            <a:endParaRPr b="0" lang="en-US" sz="2200" spc="-1" strike="noStrike">
              <a:solidFill>
                <a:srgbClr val="000000"/>
              </a:solidFill>
              <a:latin typeface="Times New Roman"/>
            </a:endParaRPr>
          </a:p>
        </p:txBody>
      </p:sp>
      <p:sp>
        <p:nvSpPr>
          <p:cNvPr id="233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7" name=""/>
          <p:cNvGrpSpPr/>
          <p:nvPr/>
        </p:nvGrpSpPr>
        <p:grpSpPr>
          <a:xfrm>
            <a:off x="1219320" y="3000960"/>
            <a:ext cx="7619760" cy="1099440"/>
            <a:chOff x="1219320" y="3000960"/>
            <a:chExt cx="7619760" cy="1099440"/>
          </a:xfrm>
        </p:grpSpPr>
        <p:sp>
          <p:nvSpPr>
            <p:cNvPr id="2338" name=""/>
            <p:cNvSpPr/>
            <p:nvPr/>
          </p:nvSpPr>
          <p:spPr>
            <a:xfrm>
              <a:off x="1219320" y="32115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752480" y="3000960"/>
              <a:ext cx="70866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bessert die Qualität von Bildung und Ausbildung für den/die Einzelne/n: Koordiniertes, zielgerichtetes Vorgehen am Standort bündelt Kräfte und Ressourcen </a:t>
              </a:r>
              <a:endParaRPr b="0" lang="en-US" sz="2200" spc="-1" strike="noStrike">
                <a:solidFill>
                  <a:srgbClr val="000000"/>
                </a:solidFill>
                <a:latin typeface="Times New Roman"/>
              </a:endParaRPr>
            </a:p>
          </p:txBody>
        </p:sp>
      </p:grpSp>
      <p:grpSp>
        <p:nvGrpSpPr>
          <p:cNvPr id="2340" name=""/>
          <p:cNvGrpSpPr/>
          <p:nvPr/>
        </p:nvGrpSpPr>
        <p:grpSpPr>
          <a:xfrm>
            <a:off x="1219320" y="4540680"/>
            <a:ext cx="7238880" cy="1099440"/>
            <a:chOff x="1219320" y="4540680"/>
            <a:chExt cx="7238880" cy="1099440"/>
          </a:xfrm>
        </p:grpSpPr>
        <p:sp>
          <p:nvSpPr>
            <p:cNvPr id="2341" name=""/>
            <p:cNvSpPr/>
            <p:nvPr/>
          </p:nvSpPr>
          <p:spPr>
            <a:xfrm>
              <a:off x="1219320" y="49226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752480" y="4540680"/>
              <a:ext cx="67057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mutigt Schüler/innen, verstärkten Einfluss auf Schule und Unterricht zu nehmen: Schule hat mehr mit ihnen und ihrer Welt zu tun - die Motivation steigt</a:t>
              </a:r>
              <a:endParaRPr b="0" lang="en-US" sz="2200" spc="-1" strike="noStrike">
                <a:solidFill>
                  <a:srgbClr val="000000"/>
                </a:solidFill>
                <a:latin typeface="Times New Roman"/>
              </a:endParaRPr>
            </a:p>
          </p:txBody>
        </p:sp>
      </p:grpSp>
      <p:sp>
        <p:nvSpPr>
          <p:cNvPr id="2343" name=""/>
          <p:cNvSpPr/>
          <p:nvPr/>
        </p:nvSpPr>
        <p:spPr>
          <a:xfrm>
            <a:off x="1371600" y="1445040"/>
            <a:ext cx="762012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Q.I.S. braucht Zeit, Energie und die Bereitschaft neue Wege zu gehen. Langfristig lassen sich jedoch zahlreiche Vorteile erwarten. Die Beschäftigung mit Schulprogramm und Selbstevaluation...</a:t>
            </a:r>
            <a:endParaRPr b="0" lang="en-US" sz="2100" spc="-1" strike="noStrike">
              <a:solidFill>
                <a:srgbClr val="000000"/>
              </a:solidFill>
              <a:latin typeface="Times New Roman"/>
            </a:endParaRPr>
          </a:p>
        </p:txBody>
      </p:sp>
      <p:sp>
        <p:nvSpPr>
          <p:cNvPr id="2344"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5" name=""/>
          <p:cNvGrpSpPr/>
          <p:nvPr/>
        </p:nvGrpSpPr>
        <p:grpSpPr>
          <a:xfrm>
            <a:off x="1219320" y="1538640"/>
            <a:ext cx="7924680" cy="1434600"/>
            <a:chOff x="1219320" y="1538640"/>
            <a:chExt cx="7924680" cy="1434600"/>
          </a:xfrm>
        </p:grpSpPr>
        <p:sp>
          <p:nvSpPr>
            <p:cNvPr id="2346" name=""/>
            <p:cNvSpPr/>
            <p:nvPr/>
          </p:nvSpPr>
          <p:spPr>
            <a:xfrm>
              <a:off x="1752480" y="1538640"/>
              <a:ext cx="73915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möglicht gelebte Demokratie: Schüler/innen beeinflussen ihr Umfeld, indem sie ihre Interessen vertreten, Verantwortung übernehmen, Konflikte bewältigen </a:t>
              </a:r>
              <a:endParaRPr b="0" lang="en-US" sz="2200" spc="-1" strike="noStrike">
                <a:solidFill>
                  <a:srgbClr val="000000"/>
                </a:solidFill>
                <a:latin typeface="Times New Roman"/>
              </a:endParaRPr>
            </a:p>
          </p:txBody>
        </p:sp>
        <p:sp>
          <p:nvSpPr>
            <p:cNvPr id="2347" name=""/>
            <p:cNvSpPr/>
            <p:nvPr/>
          </p:nvSpPr>
          <p:spPr>
            <a:xfrm>
              <a:off x="1219320" y="1949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8" name=""/>
          <p:cNvGrpSpPr/>
          <p:nvPr/>
        </p:nvGrpSpPr>
        <p:grpSpPr>
          <a:xfrm>
            <a:off x="1219320" y="3016800"/>
            <a:ext cx="7619760" cy="1099440"/>
            <a:chOff x="1219320" y="3016800"/>
            <a:chExt cx="7619760" cy="1099440"/>
          </a:xfrm>
        </p:grpSpPr>
        <p:sp>
          <p:nvSpPr>
            <p:cNvPr id="2349" name=""/>
            <p:cNvSpPr/>
            <p:nvPr/>
          </p:nvSpPr>
          <p:spPr>
            <a:xfrm>
              <a:off x="1752480" y="3016800"/>
              <a:ext cx="70866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mittelt Orientierung und Sicherheit im schulischen Alltag: Schüler/innen wissen genauer, woran sie sind, sie kennen die "Spielregeln"</a:t>
              </a:r>
              <a:endParaRPr b="0" lang="en-US" sz="2200" spc="-1" strike="noStrike">
                <a:solidFill>
                  <a:srgbClr val="000000"/>
                </a:solidFill>
                <a:latin typeface="Times New Roman"/>
              </a:endParaRPr>
            </a:p>
          </p:txBody>
        </p:sp>
        <p:sp>
          <p:nvSpPr>
            <p:cNvPr id="2350" name=""/>
            <p:cNvSpPr/>
            <p:nvPr/>
          </p:nvSpPr>
          <p:spPr>
            <a:xfrm>
              <a:off x="1219320" y="33829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2" name="bmuk_sw" descr=""/>
          <p:cNvPicPr/>
          <p:nvPr/>
        </p:nvPicPr>
        <p:blipFill>
          <a:blip r:embed="rId1"/>
          <a:stretch/>
        </p:blipFill>
        <p:spPr>
          <a:xfrm>
            <a:off x="76320" y="0"/>
            <a:ext cx="1218960" cy="566640"/>
          </a:xfrm>
          <a:prstGeom prst="rect">
            <a:avLst/>
          </a:prstGeom>
          <a:ln w="0">
            <a:noFill/>
          </a:ln>
        </p:spPr>
      </p:pic>
      <p:sp>
        <p:nvSpPr>
          <p:cNvPr id="235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9"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36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1" name=""/>
          <p:cNvGrpSpPr/>
          <p:nvPr/>
        </p:nvGrpSpPr>
        <p:grpSpPr>
          <a:xfrm>
            <a:off x="1219320" y="5455080"/>
            <a:ext cx="7315200" cy="1099440"/>
            <a:chOff x="1219320" y="5455080"/>
            <a:chExt cx="7315200" cy="1099440"/>
          </a:xfrm>
        </p:grpSpPr>
        <p:sp>
          <p:nvSpPr>
            <p:cNvPr id="2362" name=""/>
            <p:cNvSpPr/>
            <p:nvPr/>
          </p:nvSpPr>
          <p:spPr>
            <a:xfrm>
              <a:off x="1219320" y="58053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1752480" y="5455080"/>
              <a:ext cx="678204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macht Spaß und steigert das Selbstwertgefühl: Schüler/innen treten in neuen Rollen auf und fühlen sich als wichtige Partner/innen anerkannt</a:t>
              </a:r>
              <a:endParaRPr b="0" lang="en-US" sz="2200" spc="-1" strike="noStrike">
                <a:solidFill>
                  <a:srgbClr val="000000"/>
                </a:solidFill>
                <a:latin typeface="Times New Roman"/>
              </a:endParaRPr>
            </a:p>
          </p:txBody>
        </p:sp>
      </p:grpSp>
      <p:grpSp>
        <p:nvGrpSpPr>
          <p:cNvPr id="2364" name=""/>
          <p:cNvGrpSpPr/>
          <p:nvPr/>
        </p:nvGrpSpPr>
        <p:grpSpPr>
          <a:xfrm>
            <a:off x="1219320" y="4190040"/>
            <a:ext cx="7696080" cy="1099440"/>
            <a:chOff x="1219320" y="4190040"/>
            <a:chExt cx="7696080" cy="1099440"/>
          </a:xfrm>
        </p:grpSpPr>
        <p:sp>
          <p:nvSpPr>
            <p:cNvPr id="2365" name=""/>
            <p:cNvSpPr/>
            <p:nvPr/>
          </p:nvSpPr>
          <p:spPr>
            <a:xfrm>
              <a:off x="1752480" y="4190040"/>
              <a:ext cx="71629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ändert das Bild von Leistungsbeurteilung: Stärken werden wichtiger, Fehler sind auch und vor allem eine Lernchance</a:t>
              </a:r>
              <a:endParaRPr b="0" lang="en-US" sz="2200" spc="-1" strike="noStrike">
                <a:solidFill>
                  <a:srgbClr val="000000"/>
                </a:solidFill>
                <a:latin typeface="Times New Roman"/>
              </a:endParaRPr>
            </a:p>
          </p:txBody>
        </p:sp>
        <p:sp>
          <p:nvSpPr>
            <p:cNvPr id="2366" name=""/>
            <p:cNvSpPr/>
            <p:nvPr/>
          </p:nvSpPr>
          <p:spPr>
            <a:xfrm>
              <a:off x="1219320" y="46324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67" name=""/>
          <p:cNvSpPr/>
          <p:nvPr/>
        </p:nvSpPr>
        <p:spPr>
          <a:xfrm>
            <a:off x="0" y="990720"/>
            <a:ext cx="3657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8" name=""/>
          <p:cNvSpPr/>
          <p:nvPr/>
        </p:nvSpPr>
        <p:spPr>
          <a:xfrm>
            <a:off x="0" y="990720"/>
            <a:ext cx="36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ülerinnen und Schüler</a:t>
            </a:r>
            <a:endParaRPr b="0" lang="en-US" sz="2200" spc="-1" strike="noStrike">
              <a:solidFill>
                <a:srgbClr val="000000"/>
              </a:solidFill>
              <a:latin typeface="Times New Roman"/>
            </a:endParaRPr>
          </a:p>
        </p:txBody>
      </p:sp>
      <p:sp>
        <p:nvSpPr>
          <p:cNvPr id="2369"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71" name="bmuk_sw" descr=""/>
          <p:cNvPicPr/>
          <p:nvPr/>
        </p:nvPicPr>
        <p:blipFill>
          <a:blip r:embed="rId1"/>
          <a:stretch/>
        </p:blipFill>
        <p:spPr>
          <a:xfrm>
            <a:off x="76320" y="0"/>
            <a:ext cx="1218960" cy="566640"/>
          </a:xfrm>
          <a:prstGeom prst="rect">
            <a:avLst/>
          </a:prstGeom>
          <a:ln w="0">
            <a:noFill/>
          </a:ln>
        </p:spPr>
      </p:pic>
      <p:sp>
        <p:nvSpPr>
          <p:cNvPr id="2372"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5"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376"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1219320" y="1568880"/>
            <a:ext cx="7467480" cy="1099440"/>
            <a:chOff x="1219320" y="1568880"/>
            <a:chExt cx="7467480" cy="1099440"/>
          </a:xfrm>
        </p:grpSpPr>
        <p:sp>
          <p:nvSpPr>
            <p:cNvPr id="2378" name=""/>
            <p:cNvSpPr/>
            <p:nvPr/>
          </p:nvSpPr>
          <p:spPr>
            <a:xfrm>
              <a:off x="1219320" y="19796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1752480" y="1568880"/>
              <a:ext cx="69343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steigert die Identifikation mit der eigenen Schule: Schüler/innen sind stolz auf ihren Beitrag und die Dokumentation des Geleisteten</a:t>
              </a:r>
              <a:endParaRPr b="0" lang="en-US" sz="2200" spc="-1" strike="noStrike">
                <a:solidFill>
                  <a:srgbClr val="000000"/>
                </a:solidFill>
                <a:latin typeface="Times New Roman"/>
              </a:endParaRPr>
            </a:p>
          </p:txBody>
        </p:sp>
      </p:grpSp>
      <p:grpSp>
        <p:nvGrpSpPr>
          <p:cNvPr id="2380" name=""/>
          <p:cNvGrpSpPr/>
          <p:nvPr/>
        </p:nvGrpSpPr>
        <p:grpSpPr>
          <a:xfrm>
            <a:off x="1219320" y="3931200"/>
            <a:ext cx="7696080" cy="1099440"/>
            <a:chOff x="1219320" y="3931200"/>
            <a:chExt cx="7696080" cy="1099440"/>
          </a:xfrm>
        </p:grpSpPr>
        <p:sp>
          <p:nvSpPr>
            <p:cNvPr id="2381" name=""/>
            <p:cNvSpPr/>
            <p:nvPr/>
          </p:nvSpPr>
          <p:spPr>
            <a:xfrm>
              <a:off x="1219320" y="4357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1752480" y="3931200"/>
              <a:ext cx="71629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leichtert die Schulwahl: Verstärkte Öffentlichkeitsarbeit bietet bessere Entscheidungsgrundlage bei Schulstart oder -wechsel</a:t>
              </a:r>
              <a:endParaRPr b="0" lang="en-US" sz="2200" spc="-1" strike="noStrike">
                <a:solidFill>
                  <a:srgbClr val="000000"/>
                </a:solidFill>
                <a:latin typeface="Times New Roman"/>
              </a:endParaRPr>
            </a:p>
          </p:txBody>
        </p:sp>
      </p:grpSp>
      <p:sp>
        <p:nvSpPr>
          <p:cNvPr id="2383" name=""/>
          <p:cNvSpPr/>
          <p:nvPr/>
        </p:nvSpPr>
        <p:spPr>
          <a:xfrm>
            <a:off x="0" y="53341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0" y="563868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0" y="62485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a:off x="0" y="5943600"/>
            <a:ext cx="12193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0" y="5334120"/>
            <a:ext cx="12193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8" name=""/>
          <p:cNvGrpSpPr/>
          <p:nvPr/>
        </p:nvGrpSpPr>
        <p:grpSpPr>
          <a:xfrm>
            <a:off x="1219320" y="2788200"/>
            <a:ext cx="7467480" cy="1099440"/>
            <a:chOff x="1219320" y="2788200"/>
            <a:chExt cx="7467480" cy="1099440"/>
          </a:xfrm>
        </p:grpSpPr>
        <p:sp>
          <p:nvSpPr>
            <p:cNvPr id="2389" name=""/>
            <p:cNvSpPr/>
            <p:nvPr/>
          </p:nvSpPr>
          <p:spPr>
            <a:xfrm>
              <a:off x="1752480" y="2788200"/>
              <a:ext cx="693432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weitert den Horizont durch Erfahrungsaustausch und "Blick über den Zaun": Andere haben ähnliche Probleme, aber vielleicht verschiedene Lösungen?</a:t>
              </a:r>
              <a:endParaRPr b="0" lang="en-US" sz="2200" spc="-1" strike="noStrike">
                <a:solidFill>
                  <a:srgbClr val="000000"/>
                </a:solidFill>
                <a:latin typeface="Times New Roman"/>
              </a:endParaRPr>
            </a:p>
          </p:txBody>
        </p:sp>
        <p:sp>
          <p:nvSpPr>
            <p:cNvPr id="2390" name=""/>
            <p:cNvSpPr/>
            <p:nvPr/>
          </p:nvSpPr>
          <p:spPr>
            <a:xfrm>
              <a:off x="1219320" y="32162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1" name=""/>
          <p:cNvSpPr/>
          <p:nvPr/>
        </p:nvSpPr>
        <p:spPr>
          <a:xfrm>
            <a:off x="1757160" y="5186880"/>
            <a:ext cx="5726520" cy="1518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Q.I.S. muss wachsen könne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Nicht alles geht immer glat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Und schon gar nicht gleich und vollständig.</a:t>
            </a:r>
            <a:endParaRPr b="0" lang="en-US" sz="21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Aber einen Versuch sollte es wert sein!</a:t>
            </a:r>
            <a:endParaRPr b="0" lang="en-US" sz="2100" spc="-1" strike="noStrike">
              <a:solidFill>
                <a:srgbClr val="000000"/>
              </a:solidFill>
              <a:latin typeface="Times New Roman"/>
            </a:endParaRPr>
          </a:p>
        </p:txBody>
      </p:sp>
      <p:sp>
        <p:nvSpPr>
          <p:cNvPr id="2392" name=""/>
          <p:cNvSpPr/>
          <p:nvPr/>
        </p:nvSpPr>
        <p:spPr>
          <a:xfrm>
            <a:off x="0" y="990720"/>
            <a:ext cx="3657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3" name=""/>
          <p:cNvSpPr/>
          <p:nvPr/>
        </p:nvSpPr>
        <p:spPr>
          <a:xfrm>
            <a:off x="0" y="990720"/>
            <a:ext cx="36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ülerinnen und Schüler</a:t>
            </a:r>
            <a:endParaRPr b="0" lang="en-US" sz="2200" spc="-1" strike="noStrike">
              <a:solidFill>
                <a:srgbClr val="000000"/>
              </a:solidFill>
              <a:latin typeface="Times New Roman"/>
            </a:endParaRPr>
          </a:p>
        </p:txBody>
      </p:sp>
      <p:sp>
        <p:nvSpPr>
          <p:cNvPr id="2394"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5"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96" name="bmuk_sw" descr=""/>
          <p:cNvPicPr/>
          <p:nvPr/>
        </p:nvPicPr>
        <p:blipFill>
          <a:blip r:embed="rId1"/>
          <a:stretch/>
        </p:blipFill>
        <p:spPr>
          <a:xfrm>
            <a:off x="76320" y="0"/>
            <a:ext cx="1218960" cy="566640"/>
          </a:xfrm>
          <a:prstGeom prst="rect">
            <a:avLst/>
          </a:prstGeom>
          <a:ln w="0">
            <a:noFill/>
          </a:ln>
        </p:spPr>
      </p:pic>
      <p:sp>
        <p:nvSpPr>
          <p:cNvPr id="2397"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3"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40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5" name=""/>
          <p:cNvGrpSpPr/>
          <p:nvPr/>
        </p:nvGrpSpPr>
        <p:grpSpPr>
          <a:xfrm>
            <a:off x="1219320" y="1676520"/>
            <a:ext cx="7543800" cy="533160"/>
            <a:chOff x="1219320" y="1676520"/>
            <a:chExt cx="7543800" cy="533160"/>
          </a:xfrm>
        </p:grpSpPr>
        <p:sp>
          <p:nvSpPr>
            <p:cNvPr id="2406" name=""/>
            <p:cNvSpPr/>
            <p:nvPr/>
          </p:nvSpPr>
          <p:spPr>
            <a:xfrm>
              <a:off x="1752480" y="1676520"/>
              <a:ext cx="7010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Erhöhte Bildungs- und Ausbildungsqualität</a:t>
              </a:r>
              <a:endParaRPr b="0" lang="en-US" sz="2200" spc="-1" strike="noStrike">
                <a:solidFill>
                  <a:srgbClr val="000000"/>
                </a:solidFill>
                <a:latin typeface="Times New Roman"/>
              </a:endParaRPr>
            </a:p>
          </p:txBody>
        </p:sp>
        <p:sp>
          <p:nvSpPr>
            <p:cNvPr id="2407" name=""/>
            <p:cNvSpPr/>
            <p:nvPr/>
          </p:nvSpPr>
          <p:spPr>
            <a:xfrm rot="5400000">
              <a:off x="1143000" y="17524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8" name=""/>
          <p:cNvGrpSpPr/>
          <p:nvPr/>
        </p:nvGrpSpPr>
        <p:grpSpPr>
          <a:xfrm>
            <a:off x="1219320" y="2666880"/>
            <a:ext cx="8229600" cy="533520"/>
            <a:chOff x="1219320" y="2666880"/>
            <a:chExt cx="8229600" cy="533520"/>
          </a:xfrm>
        </p:grpSpPr>
        <p:sp>
          <p:nvSpPr>
            <p:cNvPr id="2409" name=""/>
            <p:cNvSpPr/>
            <p:nvPr/>
          </p:nvSpPr>
          <p:spPr>
            <a:xfrm>
              <a:off x="1752480" y="269712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Motivation durch Mitgestaltung und Lebensnähe</a:t>
              </a:r>
              <a:endParaRPr b="0" lang="en-US" sz="2200" spc="-1" strike="noStrike">
                <a:solidFill>
                  <a:srgbClr val="000000"/>
                </a:solidFill>
                <a:latin typeface="Times New Roman"/>
              </a:endParaRPr>
            </a:p>
          </p:txBody>
        </p:sp>
        <p:sp>
          <p:nvSpPr>
            <p:cNvPr id="2410" name=""/>
            <p:cNvSpPr/>
            <p:nvPr/>
          </p:nvSpPr>
          <p:spPr>
            <a:xfrm rot="5400000">
              <a:off x="1143000" y="27432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1219320" y="3657600"/>
            <a:ext cx="7238880" cy="533520"/>
            <a:chOff x="1219320" y="3657600"/>
            <a:chExt cx="7238880" cy="533520"/>
          </a:xfrm>
        </p:grpSpPr>
        <p:sp>
          <p:nvSpPr>
            <p:cNvPr id="2412" name=""/>
            <p:cNvSpPr/>
            <p:nvPr/>
          </p:nvSpPr>
          <p:spPr>
            <a:xfrm>
              <a:off x="1752480" y="373392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Gelebte Demokratie</a:t>
              </a:r>
              <a:endParaRPr b="0" lang="en-US" sz="2200" spc="-1" strike="noStrike">
                <a:solidFill>
                  <a:srgbClr val="000000"/>
                </a:solidFill>
                <a:latin typeface="Times New Roman"/>
              </a:endParaRPr>
            </a:p>
          </p:txBody>
        </p:sp>
        <p:sp>
          <p:nvSpPr>
            <p:cNvPr id="2413" name=""/>
            <p:cNvSpPr/>
            <p:nvPr/>
          </p:nvSpPr>
          <p:spPr>
            <a:xfrm rot="5400000">
              <a:off x="1143000" y="37339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4" name=""/>
          <p:cNvGrpSpPr/>
          <p:nvPr/>
        </p:nvGrpSpPr>
        <p:grpSpPr>
          <a:xfrm>
            <a:off x="1219320" y="4587840"/>
            <a:ext cx="7238880" cy="764280"/>
            <a:chOff x="1219320" y="4587840"/>
            <a:chExt cx="7238880" cy="764280"/>
          </a:xfrm>
        </p:grpSpPr>
        <p:sp>
          <p:nvSpPr>
            <p:cNvPr id="2415" name=""/>
            <p:cNvSpPr/>
            <p:nvPr/>
          </p:nvSpPr>
          <p:spPr>
            <a:xfrm>
              <a:off x="1752480" y="4587840"/>
              <a:ext cx="6705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rientierung und Sicherheit im schulischen Alltag</a:t>
              </a:r>
              <a:endParaRPr b="0" lang="en-US" sz="2200" spc="-1" strike="noStrike">
                <a:solidFill>
                  <a:srgbClr val="000000"/>
                </a:solidFill>
                <a:latin typeface="Times New Roman"/>
              </a:endParaRPr>
            </a:p>
          </p:txBody>
        </p:sp>
        <p:sp>
          <p:nvSpPr>
            <p:cNvPr id="2416" name=""/>
            <p:cNvSpPr/>
            <p:nvPr/>
          </p:nvSpPr>
          <p:spPr>
            <a:xfrm rot="5400000">
              <a:off x="1143000" y="47242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17" name=""/>
          <p:cNvGrpSpPr/>
          <p:nvPr/>
        </p:nvGrpSpPr>
        <p:grpSpPr>
          <a:xfrm>
            <a:off x="1219320" y="5638680"/>
            <a:ext cx="7238880" cy="533520"/>
            <a:chOff x="1219320" y="5638680"/>
            <a:chExt cx="7238880" cy="533520"/>
          </a:xfrm>
        </p:grpSpPr>
        <p:sp>
          <p:nvSpPr>
            <p:cNvPr id="2418" name=""/>
            <p:cNvSpPr/>
            <p:nvPr/>
          </p:nvSpPr>
          <p:spPr>
            <a:xfrm>
              <a:off x="1752480" y="563868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Besseres Schulklima</a:t>
              </a:r>
              <a:endParaRPr b="0" lang="en-US" sz="2200" spc="-1" strike="noStrike">
                <a:solidFill>
                  <a:srgbClr val="000000"/>
                </a:solidFill>
                <a:latin typeface="Times New Roman"/>
              </a:endParaRPr>
            </a:p>
          </p:txBody>
        </p:sp>
        <p:sp>
          <p:nvSpPr>
            <p:cNvPr id="2419" name=""/>
            <p:cNvSpPr/>
            <p:nvPr/>
          </p:nvSpPr>
          <p:spPr>
            <a:xfrm rot="5400000">
              <a:off x="1143000" y="57150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0" name=""/>
          <p:cNvSpPr/>
          <p:nvPr/>
        </p:nvSpPr>
        <p:spPr>
          <a:xfrm>
            <a:off x="0" y="990720"/>
            <a:ext cx="3657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0" y="990720"/>
            <a:ext cx="36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ülerinnen und Schüler</a:t>
            </a:r>
            <a:endParaRPr b="0" lang="en-US" sz="2200" spc="-1" strike="noStrike">
              <a:solidFill>
                <a:srgbClr val="000000"/>
              </a:solidFill>
              <a:latin typeface="Times New Roman"/>
            </a:endParaRPr>
          </a:p>
        </p:txBody>
      </p:sp>
      <p:sp>
        <p:nvSpPr>
          <p:cNvPr id="2422"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3"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4" name="bmuk_sw" descr=""/>
          <p:cNvPicPr/>
          <p:nvPr/>
        </p:nvPicPr>
        <p:blipFill>
          <a:blip r:embed="rId1"/>
          <a:stretch/>
        </p:blipFill>
        <p:spPr>
          <a:xfrm>
            <a:off x="76320" y="0"/>
            <a:ext cx="1218960" cy="566640"/>
          </a:xfrm>
          <a:prstGeom prst="rect">
            <a:avLst/>
          </a:prstGeom>
          <a:ln w="0">
            <a:noFill/>
          </a:ln>
        </p:spPr>
      </p:pic>
      <p:sp>
        <p:nvSpPr>
          <p:cNvPr id="2425"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1"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43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3" name=""/>
          <p:cNvGrpSpPr/>
          <p:nvPr/>
        </p:nvGrpSpPr>
        <p:grpSpPr>
          <a:xfrm>
            <a:off x="1219320" y="1676520"/>
            <a:ext cx="7543800" cy="533160"/>
            <a:chOff x="1219320" y="1676520"/>
            <a:chExt cx="7543800" cy="533160"/>
          </a:xfrm>
        </p:grpSpPr>
        <p:sp>
          <p:nvSpPr>
            <p:cNvPr id="2434" name=""/>
            <p:cNvSpPr/>
            <p:nvPr/>
          </p:nvSpPr>
          <p:spPr>
            <a:xfrm>
              <a:off x="1752480" y="1676520"/>
              <a:ext cx="7010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Verändertes Bild von Leistungsbeurteilung</a:t>
              </a:r>
              <a:endParaRPr b="0" lang="en-US" sz="2200" spc="-1" strike="noStrike">
                <a:solidFill>
                  <a:srgbClr val="000000"/>
                </a:solidFill>
                <a:latin typeface="Times New Roman"/>
              </a:endParaRPr>
            </a:p>
          </p:txBody>
        </p:sp>
        <p:sp>
          <p:nvSpPr>
            <p:cNvPr id="2435" name=""/>
            <p:cNvSpPr/>
            <p:nvPr/>
          </p:nvSpPr>
          <p:spPr>
            <a:xfrm rot="5400000">
              <a:off x="1143000" y="17524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6" name=""/>
          <p:cNvGrpSpPr/>
          <p:nvPr/>
        </p:nvGrpSpPr>
        <p:grpSpPr>
          <a:xfrm>
            <a:off x="1219320" y="2666880"/>
            <a:ext cx="8229600" cy="533520"/>
            <a:chOff x="1219320" y="2666880"/>
            <a:chExt cx="8229600" cy="533520"/>
          </a:xfrm>
        </p:grpSpPr>
        <p:sp>
          <p:nvSpPr>
            <p:cNvPr id="2437" name=""/>
            <p:cNvSpPr/>
            <p:nvPr/>
          </p:nvSpPr>
          <p:spPr>
            <a:xfrm>
              <a:off x="1752480" y="2697120"/>
              <a:ext cx="7696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Spaß und Selbstwertgefühl</a:t>
              </a:r>
              <a:endParaRPr b="0" lang="en-US" sz="2200" spc="-1" strike="noStrike">
                <a:solidFill>
                  <a:srgbClr val="000000"/>
                </a:solidFill>
                <a:latin typeface="Times New Roman"/>
              </a:endParaRPr>
            </a:p>
          </p:txBody>
        </p:sp>
        <p:sp>
          <p:nvSpPr>
            <p:cNvPr id="2438" name=""/>
            <p:cNvSpPr/>
            <p:nvPr/>
          </p:nvSpPr>
          <p:spPr>
            <a:xfrm rot="5400000">
              <a:off x="1143000" y="27432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39" name=""/>
          <p:cNvGrpSpPr/>
          <p:nvPr/>
        </p:nvGrpSpPr>
        <p:grpSpPr>
          <a:xfrm>
            <a:off x="1219320" y="3657600"/>
            <a:ext cx="7238880" cy="533520"/>
            <a:chOff x="1219320" y="3657600"/>
            <a:chExt cx="7238880" cy="533520"/>
          </a:xfrm>
        </p:grpSpPr>
        <p:sp>
          <p:nvSpPr>
            <p:cNvPr id="2440" name=""/>
            <p:cNvSpPr/>
            <p:nvPr/>
          </p:nvSpPr>
          <p:spPr>
            <a:xfrm>
              <a:off x="1752480" y="373392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Identifikation mit der Schule</a:t>
              </a:r>
              <a:endParaRPr b="0" lang="en-US" sz="2200" spc="-1" strike="noStrike">
                <a:solidFill>
                  <a:srgbClr val="000000"/>
                </a:solidFill>
                <a:latin typeface="Times New Roman"/>
              </a:endParaRPr>
            </a:p>
          </p:txBody>
        </p:sp>
        <p:sp>
          <p:nvSpPr>
            <p:cNvPr id="2441" name=""/>
            <p:cNvSpPr/>
            <p:nvPr/>
          </p:nvSpPr>
          <p:spPr>
            <a:xfrm rot="5400000">
              <a:off x="1143000" y="373392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2" name=""/>
          <p:cNvGrpSpPr/>
          <p:nvPr/>
        </p:nvGrpSpPr>
        <p:grpSpPr>
          <a:xfrm>
            <a:off x="1219320" y="4648320"/>
            <a:ext cx="7238880" cy="533160"/>
            <a:chOff x="1219320" y="4648320"/>
            <a:chExt cx="7238880" cy="533160"/>
          </a:xfrm>
        </p:grpSpPr>
        <p:sp>
          <p:nvSpPr>
            <p:cNvPr id="2443" name=""/>
            <p:cNvSpPr/>
            <p:nvPr/>
          </p:nvSpPr>
          <p:spPr>
            <a:xfrm>
              <a:off x="1752480" y="464832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orizonterweiterung durch Erfahrungsaustausch</a:t>
              </a:r>
              <a:endParaRPr b="0" lang="en-US" sz="2200" spc="-1" strike="noStrike">
                <a:solidFill>
                  <a:srgbClr val="000000"/>
                </a:solidFill>
                <a:latin typeface="Times New Roman"/>
              </a:endParaRPr>
            </a:p>
          </p:txBody>
        </p:sp>
        <p:sp>
          <p:nvSpPr>
            <p:cNvPr id="2444" name=""/>
            <p:cNvSpPr/>
            <p:nvPr/>
          </p:nvSpPr>
          <p:spPr>
            <a:xfrm rot="5400000">
              <a:off x="1143000" y="47242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5" name=""/>
          <p:cNvGrpSpPr/>
          <p:nvPr/>
        </p:nvGrpSpPr>
        <p:grpSpPr>
          <a:xfrm>
            <a:off x="1219320" y="5638680"/>
            <a:ext cx="7238880" cy="533520"/>
            <a:chOff x="1219320" y="5638680"/>
            <a:chExt cx="7238880" cy="533520"/>
          </a:xfrm>
        </p:grpSpPr>
        <p:sp>
          <p:nvSpPr>
            <p:cNvPr id="2446" name=""/>
            <p:cNvSpPr/>
            <p:nvPr/>
          </p:nvSpPr>
          <p:spPr>
            <a:xfrm>
              <a:off x="1752480" y="5715000"/>
              <a:ext cx="6705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Orientierungshilfe bei Schulwahl</a:t>
              </a:r>
              <a:endParaRPr b="0" lang="en-US" sz="2200" spc="-1" strike="noStrike">
                <a:solidFill>
                  <a:srgbClr val="000000"/>
                </a:solidFill>
                <a:latin typeface="Times New Roman"/>
              </a:endParaRPr>
            </a:p>
          </p:txBody>
        </p:sp>
        <p:sp>
          <p:nvSpPr>
            <p:cNvPr id="2447" name=""/>
            <p:cNvSpPr/>
            <p:nvPr/>
          </p:nvSpPr>
          <p:spPr>
            <a:xfrm rot="5400000">
              <a:off x="1143000" y="571500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8" name=""/>
          <p:cNvSpPr/>
          <p:nvPr/>
        </p:nvSpPr>
        <p:spPr>
          <a:xfrm>
            <a:off x="0" y="990720"/>
            <a:ext cx="36576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a:off x="0" y="990720"/>
            <a:ext cx="36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hülerinnen und Schüler</a:t>
            </a:r>
            <a:endParaRPr b="0" lang="en-US" sz="2200" spc="-1" strike="noStrike">
              <a:solidFill>
                <a:srgbClr val="000000"/>
              </a:solidFill>
              <a:latin typeface="Times New Roman"/>
            </a:endParaRPr>
          </a:p>
        </p:txBody>
      </p:sp>
      <p:sp>
        <p:nvSpPr>
          <p:cNvPr id="2450"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52" name="bmuk_sw" descr=""/>
          <p:cNvPicPr/>
          <p:nvPr/>
        </p:nvPicPr>
        <p:blipFill>
          <a:blip r:embed="rId1"/>
          <a:stretch/>
        </p:blipFill>
        <p:spPr>
          <a:xfrm>
            <a:off x="76320" y="0"/>
            <a:ext cx="1218960" cy="566640"/>
          </a:xfrm>
          <a:prstGeom prst="rect">
            <a:avLst/>
          </a:prstGeom>
          <a:ln w="0">
            <a:noFill/>
          </a:ln>
        </p:spPr>
      </p:pic>
      <p:sp>
        <p:nvSpPr>
          <p:cNvPr id="245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460" name=""/>
          <p:cNvSpPr/>
          <p:nvPr/>
        </p:nvSpPr>
        <p:spPr>
          <a:xfrm>
            <a:off x="0" y="990720"/>
            <a:ext cx="3200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1"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ziehungsberechtigte</a:t>
            </a:r>
            <a:endParaRPr b="0" lang="en-US" sz="2200" spc="-1" strike="noStrike">
              <a:solidFill>
                <a:srgbClr val="000000"/>
              </a:solidFill>
              <a:latin typeface="Times New Roman"/>
            </a:endParaRPr>
          </a:p>
        </p:txBody>
      </p:sp>
      <p:sp>
        <p:nvSpPr>
          <p:cNvPr id="2462"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3" name=""/>
          <p:cNvGrpSpPr/>
          <p:nvPr/>
        </p:nvGrpSpPr>
        <p:grpSpPr>
          <a:xfrm>
            <a:off x="1219320" y="2926440"/>
            <a:ext cx="7619760" cy="1099440"/>
            <a:chOff x="1219320" y="2926440"/>
            <a:chExt cx="7619760" cy="1099440"/>
          </a:xfrm>
        </p:grpSpPr>
        <p:sp>
          <p:nvSpPr>
            <p:cNvPr id="2464" name=""/>
            <p:cNvSpPr/>
            <p:nvPr/>
          </p:nvSpPr>
          <p:spPr>
            <a:xfrm>
              <a:off x="1219320" y="33526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1752480" y="2926440"/>
              <a:ext cx="70866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mittelt Orientierung und Sicherheit: Gemeinsame Ziele und "Spielregeln" sind Basis für Gespräche mit Lehrer/innen und zu Hause</a:t>
              </a:r>
              <a:endParaRPr b="0" lang="en-US" sz="2200" spc="-1" strike="noStrike">
                <a:solidFill>
                  <a:srgbClr val="000000"/>
                </a:solidFill>
                <a:latin typeface="Times New Roman"/>
              </a:endParaRPr>
            </a:p>
          </p:txBody>
        </p:sp>
      </p:grpSp>
      <p:grpSp>
        <p:nvGrpSpPr>
          <p:cNvPr id="2466" name=""/>
          <p:cNvGrpSpPr/>
          <p:nvPr/>
        </p:nvGrpSpPr>
        <p:grpSpPr>
          <a:xfrm>
            <a:off x="1219320" y="4384800"/>
            <a:ext cx="7924680" cy="1944360"/>
            <a:chOff x="1219320" y="4384800"/>
            <a:chExt cx="7924680" cy="1944360"/>
          </a:xfrm>
        </p:grpSpPr>
        <p:sp>
          <p:nvSpPr>
            <p:cNvPr id="2467" name=""/>
            <p:cNvSpPr/>
            <p:nvPr/>
          </p:nvSpPr>
          <p:spPr>
            <a:xfrm>
              <a:off x="1219320" y="48099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1752480" y="4384800"/>
              <a:ext cx="7391520" cy="19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stärkt das Gefühl, dass Schule eine gemeinsame Angelegenheit aller Schulpartner/innen ist: Erziehungsberechtigte gestalten mit und werden ernst genomm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sp>
        <p:nvSpPr>
          <p:cNvPr id="2469" name=""/>
          <p:cNvSpPr/>
          <p:nvPr/>
        </p:nvSpPr>
        <p:spPr>
          <a:xfrm>
            <a:off x="1371600" y="1445040"/>
            <a:ext cx="762012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Q.I.S. braucht Zeit, Energie und die Bereitschaft neue Wege zu gehen. Langfristig lassen sich jedoch zahlreiche Vorteile erwarten. Die Beschäftigung mit Schulprogramm und Selbstevaluation...</a:t>
            </a:r>
            <a:endParaRPr b="0" lang="en-US" sz="2100" spc="-1" strike="noStrike">
              <a:solidFill>
                <a:srgbClr val="000000"/>
              </a:solidFill>
              <a:latin typeface="Times New Roman"/>
            </a:endParaRPr>
          </a:p>
        </p:txBody>
      </p:sp>
      <p:sp>
        <p:nvSpPr>
          <p:cNvPr id="2470"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2" name="bmuk_sw" descr=""/>
          <p:cNvPicPr/>
          <p:nvPr/>
        </p:nvPicPr>
        <p:blipFill>
          <a:blip r:embed="rId1"/>
          <a:stretch/>
        </p:blipFill>
        <p:spPr>
          <a:xfrm>
            <a:off x="76320" y="0"/>
            <a:ext cx="1218960" cy="566640"/>
          </a:xfrm>
          <a:prstGeom prst="rect">
            <a:avLst/>
          </a:prstGeom>
          <a:ln w="0">
            <a:noFill/>
          </a:ln>
        </p:spPr>
      </p:pic>
      <p:sp>
        <p:nvSpPr>
          <p:cNvPr id="247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9"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48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1" name=""/>
          <p:cNvGrpSpPr/>
          <p:nvPr/>
        </p:nvGrpSpPr>
        <p:grpSpPr>
          <a:xfrm>
            <a:off x="1219320" y="1603440"/>
            <a:ext cx="7696080" cy="1054080"/>
            <a:chOff x="1219320" y="1603440"/>
            <a:chExt cx="7696080" cy="1054080"/>
          </a:xfrm>
        </p:grpSpPr>
        <p:sp>
          <p:nvSpPr>
            <p:cNvPr id="2482" name=""/>
            <p:cNvSpPr/>
            <p:nvPr/>
          </p:nvSpPr>
          <p:spPr>
            <a:xfrm>
              <a:off x="1219320" y="202104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1752480" y="1603440"/>
              <a:ext cx="716292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trägt bei zur Verbesserung des Schulklimas: Beziehungen zu Lehrer/innen und Schüler/innen werden intensiver, Chancen für gegenseitiges Verständnis steigen</a:t>
              </a:r>
              <a:endParaRPr b="0" lang="en-US" sz="2100" spc="-1" strike="noStrike">
                <a:solidFill>
                  <a:srgbClr val="000000"/>
                </a:solidFill>
                <a:latin typeface="Times New Roman"/>
              </a:endParaRPr>
            </a:p>
          </p:txBody>
        </p:sp>
      </p:grpSp>
      <p:grpSp>
        <p:nvGrpSpPr>
          <p:cNvPr id="2484" name=""/>
          <p:cNvGrpSpPr/>
          <p:nvPr/>
        </p:nvGrpSpPr>
        <p:grpSpPr>
          <a:xfrm>
            <a:off x="1219320" y="2976480"/>
            <a:ext cx="7543800" cy="1054080"/>
            <a:chOff x="1219320" y="2976480"/>
            <a:chExt cx="7543800" cy="1054080"/>
          </a:xfrm>
        </p:grpSpPr>
        <p:sp>
          <p:nvSpPr>
            <p:cNvPr id="2485" name=""/>
            <p:cNvSpPr/>
            <p:nvPr/>
          </p:nvSpPr>
          <p:spPr>
            <a:xfrm>
              <a:off x="1219320" y="315252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1752480" y="2976480"/>
              <a:ext cx="701064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erweitert den Horizont durch Erfahrungsaustausch und "Blick über den Zaun": Andere haben ähnliche Probleme, aber vielleicht verschiedene Lösungen? </a:t>
              </a:r>
              <a:endParaRPr b="0" lang="en-US" sz="2100" spc="-1" strike="noStrike">
                <a:solidFill>
                  <a:srgbClr val="000000"/>
                </a:solidFill>
                <a:latin typeface="Times New Roman"/>
              </a:endParaRPr>
            </a:p>
          </p:txBody>
        </p:sp>
      </p:grpSp>
      <p:grpSp>
        <p:nvGrpSpPr>
          <p:cNvPr id="2487" name=""/>
          <p:cNvGrpSpPr/>
          <p:nvPr/>
        </p:nvGrpSpPr>
        <p:grpSpPr>
          <a:xfrm>
            <a:off x="1219320" y="4129200"/>
            <a:ext cx="7619760" cy="1054080"/>
            <a:chOff x="1219320" y="4129200"/>
            <a:chExt cx="7619760" cy="1054080"/>
          </a:xfrm>
        </p:grpSpPr>
        <p:sp>
          <p:nvSpPr>
            <p:cNvPr id="2488" name=""/>
            <p:cNvSpPr/>
            <p:nvPr/>
          </p:nvSpPr>
          <p:spPr>
            <a:xfrm>
              <a:off x="1219320" y="436716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1752480" y="4129200"/>
              <a:ext cx="7086600" cy="1054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bessert die Qualität von Bildung und Ausbildung für die Schüler/innen: Koordiniertes, zielgerichtetes Vorgehen am Standort bündelt Kräfte und Ressourcen</a:t>
              </a:r>
              <a:endParaRPr b="0" lang="en-US" sz="2100" spc="-1" strike="noStrike">
                <a:solidFill>
                  <a:srgbClr val="000000"/>
                </a:solidFill>
                <a:latin typeface="Times New Roman"/>
              </a:endParaRPr>
            </a:p>
          </p:txBody>
        </p:sp>
      </p:grpSp>
      <p:grpSp>
        <p:nvGrpSpPr>
          <p:cNvPr id="2490" name=""/>
          <p:cNvGrpSpPr/>
          <p:nvPr/>
        </p:nvGrpSpPr>
        <p:grpSpPr>
          <a:xfrm>
            <a:off x="1219320" y="5483520"/>
            <a:ext cx="7543800" cy="1374120"/>
            <a:chOff x="1219320" y="5483520"/>
            <a:chExt cx="7543800" cy="1374120"/>
          </a:xfrm>
        </p:grpSpPr>
        <p:sp>
          <p:nvSpPr>
            <p:cNvPr id="2491" name=""/>
            <p:cNvSpPr/>
            <p:nvPr/>
          </p:nvSpPr>
          <p:spPr>
            <a:xfrm>
              <a:off x="1219320" y="56628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1752480" y="5483520"/>
              <a:ext cx="701064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rleichtert die Schulwahl: Verstärkte Öffentlichkeitsarbeit  bietet bessere Entscheidungsgrundlage bei Schulstart oder -wechsel</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grpSp>
      <p:sp>
        <p:nvSpPr>
          <p:cNvPr id="2493" name=""/>
          <p:cNvSpPr/>
          <p:nvPr/>
        </p:nvSpPr>
        <p:spPr>
          <a:xfrm>
            <a:off x="0" y="990720"/>
            <a:ext cx="3200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ziehungsberechtigte</a:t>
            </a:r>
            <a:endParaRPr b="0" lang="en-US" sz="2200" spc="-1" strike="noStrike">
              <a:solidFill>
                <a:srgbClr val="000000"/>
              </a:solidFill>
              <a:latin typeface="Times New Roman"/>
            </a:endParaRPr>
          </a:p>
        </p:txBody>
      </p:sp>
      <p:sp>
        <p:nvSpPr>
          <p:cNvPr id="249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bmuk_sw" descr=""/>
          <p:cNvPicPr/>
          <p:nvPr/>
        </p:nvPicPr>
        <p:blipFill>
          <a:blip r:embed="rId1"/>
          <a:stretch/>
        </p:blipFill>
        <p:spPr>
          <a:xfrm>
            <a:off x="76320" y="0"/>
            <a:ext cx="1218960" cy="566640"/>
          </a:xfrm>
          <a:prstGeom prst="rect">
            <a:avLst/>
          </a:prstGeom>
          <a:ln w="0">
            <a:noFill/>
          </a:ln>
        </p:spPr>
      </p:pic>
      <p:sp>
        <p:nvSpPr>
          <p:cNvPr id="211"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609480"/>
            <a:ext cx="121932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594360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65530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5334120"/>
            <a:ext cx="1219320" cy="304560"/>
          </a:xfrm>
          <a:prstGeom prst="rect">
            <a:avLst/>
          </a:prstGeom>
          <a:solidFill>
            <a:srgbClr val="e2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0" y="990720"/>
            <a:ext cx="419112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987480"/>
            <a:ext cx="42670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Heute aktueller denn je, weil...</a:t>
            </a:r>
            <a:endParaRPr b="0" lang="en-US" sz="2200" spc="-1" strike="noStrike">
              <a:solidFill>
                <a:srgbClr val="000000"/>
              </a:solidFill>
              <a:latin typeface="Times New Roman"/>
            </a:endParaRPr>
          </a:p>
        </p:txBody>
      </p:sp>
      <p:sp>
        <p:nvSpPr>
          <p:cNvPr id="224" name=""/>
          <p:cNvSpPr/>
          <p:nvPr/>
        </p:nvSpPr>
        <p:spPr>
          <a:xfrm>
            <a:off x="0" y="609480"/>
            <a:ext cx="449568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Beschäftigung mit Schulqualität</a:t>
            </a:r>
            <a:endParaRPr b="0" lang="en-US" sz="2200" spc="-1" strike="noStrike">
              <a:solidFill>
                <a:srgbClr val="000000"/>
              </a:solidFill>
              <a:latin typeface="Times New Roman"/>
            </a:endParaRPr>
          </a:p>
        </p:txBody>
      </p:sp>
      <p:grpSp>
        <p:nvGrpSpPr>
          <p:cNvPr id="225" name=""/>
          <p:cNvGrpSpPr/>
          <p:nvPr/>
        </p:nvGrpSpPr>
        <p:grpSpPr>
          <a:xfrm>
            <a:off x="1219320" y="1675080"/>
            <a:ext cx="6749640" cy="1769760"/>
            <a:chOff x="1219320" y="1675080"/>
            <a:chExt cx="6749640" cy="1769760"/>
          </a:xfrm>
        </p:grpSpPr>
        <p:sp>
          <p:nvSpPr>
            <p:cNvPr id="226" name=""/>
            <p:cNvSpPr/>
            <p:nvPr/>
          </p:nvSpPr>
          <p:spPr>
            <a:xfrm rot="5400000">
              <a:off x="1143000" y="18111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05240" y="1675080"/>
              <a:ext cx="6363720" cy="17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 neuer Umgang mit der explosionsarti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zunehmenden Menge an Wissen und Informatio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fragt ist: Dabei erfordern "dynamisch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Fähigkeiten" und "Schlüsselqualifikation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ine entsprechende Lehr- und Lernkultur;</a:t>
              </a:r>
              <a:endParaRPr b="0" lang="en-US" sz="2200" spc="-1" strike="noStrike">
                <a:solidFill>
                  <a:srgbClr val="000000"/>
                </a:solidFill>
                <a:latin typeface="Times New Roman"/>
              </a:endParaRPr>
            </a:p>
          </p:txBody>
        </p:sp>
      </p:grpSp>
      <p:grpSp>
        <p:nvGrpSpPr>
          <p:cNvPr id="228" name=""/>
          <p:cNvGrpSpPr/>
          <p:nvPr/>
        </p:nvGrpSpPr>
        <p:grpSpPr>
          <a:xfrm>
            <a:off x="1219320" y="4176720"/>
            <a:ext cx="7439760" cy="1769760"/>
            <a:chOff x="1219320" y="4176720"/>
            <a:chExt cx="7439760" cy="1769760"/>
          </a:xfrm>
        </p:grpSpPr>
        <p:sp>
          <p:nvSpPr>
            <p:cNvPr id="229" name=""/>
            <p:cNvSpPr/>
            <p:nvPr/>
          </p:nvSpPr>
          <p:spPr>
            <a:xfrm rot="5400000">
              <a:off x="1143000" y="42670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72200" y="4176720"/>
              <a:ext cx="6986880" cy="176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 Schule verstärkt unter ökonomischer Perspektiv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gesehen wird: Sicherung wirtschaftlich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Konkurrenzfähigkeit Österreichs, aber auch effektiver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und effizienter Mitteleinsatz am Schulstandort nehme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an Bedeutung zu;</a:t>
              </a:r>
              <a:endParaRPr b="0" lang="en-US" sz="2200" spc="-1" strike="noStrike">
                <a:solidFill>
                  <a:srgbClr val="000000"/>
                </a:solidFill>
                <a:latin typeface="Times New Roman"/>
              </a:endParaRPr>
            </a:p>
          </p:txBody>
        </p:sp>
      </p:grpSp>
      <p:sp>
        <p:nvSpPr>
          <p:cNvPr id="231"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97" name="bmuk_sw" descr=""/>
          <p:cNvPicPr/>
          <p:nvPr/>
        </p:nvPicPr>
        <p:blipFill>
          <a:blip r:embed="rId1"/>
          <a:stretch/>
        </p:blipFill>
        <p:spPr>
          <a:xfrm>
            <a:off x="76320" y="0"/>
            <a:ext cx="1218960" cy="566640"/>
          </a:xfrm>
          <a:prstGeom prst="rect">
            <a:avLst/>
          </a:prstGeom>
          <a:ln w="0">
            <a:noFill/>
          </a:ln>
        </p:spPr>
      </p:pic>
      <p:sp>
        <p:nvSpPr>
          <p:cNvPr id="249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4"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50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6" name=""/>
          <p:cNvGrpSpPr/>
          <p:nvPr/>
        </p:nvGrpSpPr>
        <p:grpSpPr>
          <a:xfrm>
            <a:off x="1219320" y="1646640"/>
            <a:ext cx="7924680" cy="1434600"/>
            <a:chOff x="1219320" y="1646640"/>
            <a:chExt cx="7924680" cy="1434600"/>
          </a:xfrm>
        </p:grpSpPr>
        <p:sp>
          <p:nvSpPr>
            <p:cNvPr id="2507" name=""/>
            <p:cNvSpPr/>
            <p:nvPr/>
          </p:nvSpPr>
          <p:spPr>
            <a:xfrm>
              <a:off x="1219320" y="20574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8" name=""/>
            <p:cNvSpPr/>
            <p:nvPr/>
          </p:nvSpPr>
          <p:spPr>
            <a:xfrm>
              <a:off x="1752480" y="1646640"/>
              <a:ext cx="739152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verstärkt den Dienstleistungsaspekt von Schule: Erziehungsberechtigte haben mehr Informationen darüber, was sich in der Schule tut und was sie als Steuerzahler/innen für ihr Geld bekommen</a:t>
              </a:r>
              <a:endParaRPr b="0" lang="en-US" sz="2200" spc="-1" strike="noStrike">
                <a:solidFill>
                  <a:srgbClr val="000000"/>
                </a:solidFill>
                <a:latin typeface="Times New Roman"/>
              </a:endParaRPr>
            </a:p>
          </p:txBody>
        </p:sp>
      </p:grpSp>
      <p:grpSp>
        <p:nvGrpSpPr>
          <p:cNvPr id="2509" name=""/>
          <p:cNvGrpSpPr/>
          <p:nvPr/>
        </p:nvGrpSpPr>
        <p:grpSpPr>
          <a:xfrm>
            <a:off x="1219320" y="3370680"/>
            <a:ext cx="7772400" cy="1434600"/>
            <a:chOff x="1219320" y="3370680"/>
            <a:chExt cx="7772400" cy="1434600"/>
          </a:xfrm>
        </p:grpSpPr>
        <p:sp>
          <p:nvSpPr>
            <p:cNvPr id="2510" name=""/>
            <p:cNvSpPr/>
            <p:nvPr/>
          </p:nvSpPr>
          <p:spPr>
            <a:xfrm>
              <a:off x="1219320" y="3736800"/>
              <a:ext cx="38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1" name=""/>
            <p:cNvSpPr/>
            <p:nvPr/>
          </p:nvSpPr>
          <p:spPr>
            <a:xfrm>
              <a:off x="1752480" y="3370680"/>
              <a:ext cx="723924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erhöht Transparenz und Verbindlichkeit: Die Einhaltung gemeinsam getroffener Vereinbarungen und Zielsetzungen kann besser überprüft und eingefordert werden</a:t>
              </a:r>
              <a:endParaRPr b="0" lang="en-US" sz="2200" spc="-1" strike="noStrike">
                <a:solidFill>
                  <a:srgbClr val="000000"/>
                </a:solidFill>
                <a:latin typeface="Times New Roman"/>
              </a:endParaRPr>
            </a:p>
          </p:txBody>
        </p:sp>
      </p:grpSp>
      <p:sp>
        <p:nvSpPr>
          <p:cNvPr id="2512" name=""/>
          <p:cNvSpPr/>
          <p:nvPr/>
        </p:nvSpPr>
        <p:spPr>
          <a:xfrm>
            <a:off x="1757160" y="5186880"/>
            <a:ext cx="5726520" cy="1518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Q.I.S. muss wachsen können.</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Nicht alles geht immer glatt.</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Und schon gar nicht gleich und vollständig.</a:t>
            </a:r>
            <a:endParaRPr b="0" lang="en-US" sz="21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00080"/>
                </a:solidFill>
                <a:latin typeface="Arial"/>
              </a:rPr>
              <a:t>Aber einen Versuch sollte es wert sein!</a:t>
            </a:r>
            <a:endParaRPr b="0" lang="en-US" sz="2100" spc="-1" strike="noStrike">
              <a:solidFill>
                <a:srgbClr val="000000"/>
              </a:solidFill>
              <a:latin typeface="Times New Roman"/>
            </a:endParaRPr>
          </a:p>
        </p:txBody>
      </p:sp>
      <p:sp>
        <p:nvSpPr>
          <p:cNvPr id="2513" name=""/>
          <p:cNvSpPr/>
          <p:nvPr/>
        </p:nvSpPr>
        <p:spPr>
          <a:xfrm>
            <a:off x="0" y="990720"/>
            <a:ext cx="3200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4"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ziehungsberechtigte</a:t>
            </a:r>
            <a:endParaRPr b="0" lang="en-US" sz="2200" spc="-1" strike="noStrike">
              <a:solidFill>
                <a:srgbClr val="000000"/>
              </a:solidFill>
              <a:latin typeface="Times New Roman"/>
            </a:endParaRPr>
          </a:p>
        </p:txBody>
      </p:sp>
      <p:sp>
        <p:nvSpPr>
          <p:cNvPr id="251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6"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7" name="bmuk_sw" descr=""/>
          <p:cNvPicPr/>
          <p:nvPr/>
        </p:nvPicPr>
        <p:blipFill>
          <a:blip r:embed="rId1"/>
          <a:stretch/>
        </p:blipFill>
        <p:spPr>
          <a:xfrm>
            <a:off x="76320" y="0"/>
            <a:ext cx="1218960" cy="566640"/>
          </a:xfrm>
          <a:prstGeom prst="rect">
            <a:avLst/>
          </a:prstGeom>
          <a:ln w="0">
            <a:noFill/>
          </a:ln>
        </p:spPr>
      </p:pic>
      <p:sp>
        <p:nvSpPr>
          <p:cNvPr id="2518"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9"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0"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4"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525"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1219320" y="1676520"/>
            <a:ext cx="7543800" cy="533160"/>
            <a:chOff x="1219320" y="1676520"/>
            <a:chExt cx="7543800" cy="533160"/>
          </a:xfrm>
        </p:grpSpPr>
        <p:sp>
          <p:nvSpPr>
            <p:cNvPr id="2527" name=""/>
            <p:cNvSpPr/>
            <p:nvPr/>
          </p:nvSpPr>
          <p:spPr>
            <a:xfrm>
              <a:off x="1752480" y="16765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ientierung und Sicherheit</a:t>
              </a:r>
              <a:endParaRPr b="0" lang="en-US" sz="2400" spc="-1" strike="noStrike">
                <a:solidFill>
                  <a:srgbClr val="000000"/>
                </a:solidFill>
                <a:latin typeface="Times New Roman"/>
              </a:endParaRPr>
            </a:p>
          </p:txBody>
        </p:sp>
        <p:sp>
          <p:nvSpPr>
            <p:cNvPr id="2528" name=""/>
            <p:cNvSpPr/>
            <p:nvPr/>
          </p:nvSpPr>
          <p:spPr>
            <a:xfrm rot="5400000">
              <a:off x="1143000" y="17524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9" name=""/>
          <p:cNvGrpSpPr/>
          <p:nvPr/>
        </p:nvGrpSpPr>
        <p:grpSpPr>
          <a:xfrm>
            <a:off x="1219320" y="2530440"/>
            <a:ext cx="7238880" cy="825480"/>
            <a:chOff x="1219320" y="2530440"/>
            <a:chExt cx="7238880" cy="825480"/>
          </a:xfrm>
        </p:grpSpPr>
        <p:sp>
          <p:nvSpPr>
            <p:cNvPr id="2530" name=""/>
            <p:cNvSpPr/>
            <p:nvPr/>
          </p:nvSpPr>
          <p:spPr>
            <a:xfrm>
              <a:off x="1752480" y="253044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stärkte Möglichke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er Mitgestaltung von Schule</a:t>
              </a:r>
              <a:endParaRPr b="0" lang="en-US" sz="2400" spc="-1" strike="noStrike">
                <a:solidFill>
                  <a:srgbClr val="000000"/>
                </a:solidFill>
                <a:latin typeface="Times New Roman"/>
              </a:endParaRPr>
            </a:p>
          </p:txBody>
        </p:sp>
        <p:sp>
          <p:nvSpPr>
            <p:cNvPr id="2531" name=""/>
            <p:cNvSpPr/>
            <p:nvPr/>
          </p:nvSpPr>
          <p:spPr>
            <a:xfrm rot="5400000">
              <a:off x="1143000" y="275904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2" name=""/>
          <p:cNvGrpSpPr/>
          <p:nvPr/>
        </p:nvGrpSpPr>
        <p:grpSpPr>
          <a:xfrm>
            <a:off x="1219320" y="3657600"/>
            <a:ext cx="7238880" cy="535680"/>
            <a:chOff x="1219320" y="3657600"/>
            <a:chExt cx="7238880" cy="535680"/>
          </a:xfrm>
        </p:grpSpPr>
        <p:sp>
          <p:nvSpPr>
            <p:cNvPr id="2533" name=""/>
            <p:cNvSpPr/>
            <p:nvPr/>
          </p:nvSpPr>
          <p:spPr>
            <a:xfrm>
              <a:off x="1752480" y="37335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Besseres Schulklima</a:t>
              </a:r>
              <a:endParaRPr b="0" lang="en-US" sz="2400" spc="-1" strike="noStrike">
                <a:solidFill>
                  <a:srgbClr val="000000"/>
                </a:solidFill>
                <a:latin typeface="Times New Roman"/>
              </a:endParaRPr>
            </a:p>
          </p:txBody>
        </p:sp>
        <p:sp>
          <p:nvSpPr>
            <p:cNvPr id="2534" name=""/>
            <p:cNvSpPr/>
            <p:nvPr/>
          </p:nvSpPr>
          <p:spPr>
            <a:xfrm rot="5400000">
              <a:off x="1143000" y="37335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5" name=""/>
          <p:cNvGrpSpPr/>
          <p:nvPr/>
        </p:nvGrpSpPr>
        <p:grpSpPr>
          <a:xfrm>
            <a:off x="1218960" y="4587840"/>
            <a:ext cx="7772760" cy="825480"/>
            <a:chOff x="1218960" y="4587840"/>
            <a:chExt cx="7772760" cy="825480"/>
          </a:xfrm>
        </p:grpSpPr>
        <p:sp>
          <p:nvSpPr>
            <p:cNvPr id="2536" name=""/>
            <p:cNvSpPr/>
            <p:nvPr/>
          </p:nvSpPr>
          <p:spPr>
            <a:xfrm>
              <a:off x="1781280" y="4587840"/>
              <a:ext cx="72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orizonterweiterung durch Erfahrungsaustausch</a:t>
              </a:r>
              <a:endParaRPr b="0" lang="en-US" sz="2400" spc="-1" strike="noStrike">
                <a:solidFill>
                  <a:srgbClr val="000000"/>
                </a:solidFill>
                <a:latin typeface="Times New Roman"/>
              </a:endParaRPr>
            </a:p>
          </p:txBody>
        </p:sp>
        <p:sp>
          <p:nvSpPr>
            <p:cNvPr id="2537" name=""/>
            <p:cNvSpPr/>
            <p:nvPr/>
          </p:nvSpPr>
          <p:spPr>
            <a:xfrm rot="5400000">
              <a:off x="1153080" y="4653720"/>
              <a:ext cx="533160" cy="40140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38" name=""/>
          <p:cNvSpPr/>
          <p:nvPr/>
        </p:nvSpPr>
        <p:spPr>
          <a:xfrm>
            <a:off x="0" y="990720"/>
            <a:ext cx="3200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9"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ziehungsberechtigte</a:t>
            </a:r>
            <a:endParaRPr b="0" lang="en-US" sz="2200" spc="-1" strike="noStrike">
              <a:solidFill>
                <a:srgbClr val="000000"/>
              </a:solidFill>
              <a:latin typeface="Times New Roman"/>
            </a:endParaRPr>
          </a:p>
        </p:txBody>
      </p:sp>
      <p:sp>
        <p:nvSpPr>
          <p:cNvPr id="2540"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1" name=""/>
          <p:cNvSpPr/>
          <p:nvPr/>
        </p:nvSpPr>
        <p:spPr>
          <a:xfrm>
            <a:off x="0" y="0"/>
            <a:ext cx="72388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2" name="bmuk_sw" descr=""/>
          <p:cNvPicPr/>
          <p:nvPr/>
        </p:nvPicPr>
        <p:blipFill>
          <a:blip r:embed="rId1"/>
          <a:stretch/>
        </p:blipFill>
        <p:spPr>
          <a:xfrm>
            <a:off x="76320" y="0"/>
            <a:ext cx="1218960" cy="566640"/>
          </a:xfrm>
          <a:prstGeom prst="rect">
            <a:avLst/>
          </a:prstGeom>
          <a:ln w="0">
            <a:noFill/>
          </a:ln>
        </p:spPr>
      </p:pic>
      <p:sp>
        <p:nvSpPr>
          <p:cNvPr id="2543" name=""/>
          <p:cNvSpPr/>
          <p:nvPr/>
        </p:nvSpPr>
        <p:spPr>
          <a:xfrm>
            <a:off x="0" y="0"/>
            <a:ext cx="9144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0" y="53341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0" y="5638680"/>
            <a:ext cx="12193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0" y="6248520"/>
            <a:ext cx="12193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0" y="6553080"/>
            <a:ext cx="1219320" cy="3049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0" y="609480"/>
            <a:ext cx="3505320" cy="381240"/>
          </a:xfrm>
          <a:prstGeom prst="rect">
            <a:avLst/>
          </a:prstGeom>
          <a:solidFill>
            <a:srgbClr val="80008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9" name=""/>
          <p:cNvSpPr/>
          <p:nvPr/>
        </p:nvSpPr>
        <p:spPr>
          <a:xfrm>
            <a:off x="0" y="60948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Arial"/>
              </a:rPr>
              <a:t>Q.I.S.: Eine Chance für...</a:t>
            </a:r>
            <a:endParaRPr b="0" lang="en-US" sz="2200" spc="-1" strike="noStrike">
              <a:solidFill>
                <a:srgbClr val="000000"/>
              </a:solidFill>
              <a:latin typeface="Times New Roman"/>
            </a:endParaRPr>
          </a:p>
        </p:txBody>
      </p:sp>
      <p:sp>
        <p:nvSpPr>
          <p:cNvPr id="2550"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1" name=""/>
          <p:cNvGrpSpPr/>
          <p:nvPr/>
        </p:nvGrpSpPr>
        <p:grpSpPr>
          <a:xfrm>
            <a:off x="1219320" y="1676520"/>
            <a:ext cx="7543800" cy="1191240"/>
            <a:chOff x="1219320" y="1676520"/>
            <a:chExt cx="7543800" cy="1191240"/>
          </a:xfrm>
        </p:grpSpPr>
        <p:sp>
          <p:nvSpPr>
            <p:cNvPr id="2552" name=""/>
            <p:cNvSpPr/>
            <p:nvPr/>
          </p:nvSpPr>
          <p:spPr>
            <a:xfrm>
              <a:off x="1752480" y="16765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rhöhte Bildungs- und Ausbildungsqualität für die Schüler/innen</a:t>
              </a:r>
              <a:br>
                <a:rPr sz="2400"/>
              </a:br>
              <a:endParaRPr b="0" lang="en-US" sz="2400" spc="-1" strike="noStrike">
                <a:solidFill>
                  <a:srgbClr val="000000"/>
                </a:solidFill>
                <a:latin typeface="Times New Roman"/>
              </a:endParaRPr>
            </a:p>
          </p:txBody>
        </p:sp>
        <p:sp>
          <p:nvSpPr>
            <p:cNvPr id="2553" name=""/>
            <p:cNvSpPr/>
            <p:nvPr/>
          </p:nvSpPr>
          <p:spPr>
            <a:xfrm rot="5400000">
              <a:off x="1143000" y="175248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4" name=""/>
          <p:cNvGrpSpPr/>
          <p:nvPr/>
        </p:nvGrpSpPr>
        <p:grpSpPr>
          <a:xfrm>
            <a:off x="1219320" y="2682720"/>
            <a:ext cx="7238880" cy="533520"/>
            <a:chOff x="1219320" y="2682720"/>
            <a:chExt cx="7238880" cy="533520"/>
          </a:xfrm>
        </p:grpSpPr>
        <p:sp>
          <p:nvSpPr>
            <p:cNvPr id="2555" name=""/>
            <p:cNvSpPr/>
            <p:nvPr/>
          </p:nvSpPr>
          <p:spPr>
            <a:xfrm>
              <a:off x="1752480" y="27432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ientierungshilfe bei Schulwahl</a:t>
              </a:r>
              <a:endParaRPr b="0" lang="en-US" sz="2400" spc="-1" strike="noStrike">
                <a:solidFill>
                  <a:srgbClr val="000000"/>
                </a:solidFill>
                <a:latin typeface="Times New Roman"/>
              </a:endParaRPr>
            </a:p>
          </p:txBody>
        </p:sp>
        <p:sp>
          <p:nvSpPr>
            <p:cNvPr id="2556" name=""/>
            <p:cNvSpPr/>
            <p:nvPr/>
          </p:nvSpPr>
          <p:spPr>
            <a:xfrm rot="5400000">
              <a:off x="1143000" y="2759040"/>
              <a:ext cx="53352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219320" y="3657600"/>
            <a:ext cx="7238880" cy="535680"/>
            <a:chOff x="1219320" y="3657600"/>
            <a:chExt cx="7238880" cy="535680"/>
          </a:xfrm>
        </p:grpSpPr>
        <p:sp>
          <p:nvSpPr>
            <p:cNvPr id="2558" name=""/>
            <p:cNvSpPr/>
            <p:nvPr/>
          </p:nvSpPr>
          <p:spPr>
            <a:xfrm>
              <a:off x="1752480" y="373356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formation und Rechenschaftslegung</a:t>
              </a:r>
              <a:endParaRPr b="0" lang="en-US" sz="2400" spc="-1" strike="noStrike">
                <a:solidFill>
                  <a:srgbClr val="000000"/>
                </a:solidFill>
                <a:latin typeface="Times New Roman"/>
              </a:endParaRPr>
            </a:p>
          </p:txBody>
        </p:sp>
        <p:sp>
          <p:nvSpPr>
            <p:cNvPr id="2559" name=""/>
            <p:cNvSpPr/>
            <p:nvPr/>
          </p:nvSpPr>
          <p:spPr>
            <a:xfrm rot="5400000">
              <a:off x="1143000" y="3733560"/>
              <a:ext cx="533160" cy="38088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0" name=""/>
          <p:cNvGrpSpPr/>
          <p:nvPr/>
        </p:nvGrpSpPr>
        <p:grpSpPr>
          <a:xfrm>
            <a:off x="1218960" y="4587840"/>
            <a:ext cx="7772760" cy="533160"/>
            <a:chOff x="1218960" y="4587840"/>
            <a:chExt cx="7772760" cy="533160"/>
          </a:xfrm>
        </p:grpSpPr>
        <p:sp>
          <p:nvSpPr>
            <p:cNvPr id="2561" name=""/>
            <p:cNvSpPr/>
            <p:nvPr/>
          </p:nvSpPr>
          <p:spPr>
            <a:xfrm>
              <a:off x="1781280" y="4587840"/>
              <a:ext cx="72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ransparenz und Verbindlichkeit</a:t>
              </a:r>
              <a:endParaRPr b="0" lang="en-US" sz="2400" spc="-1" strike="noStrike">
                <a:solidFill>
                  <a:srgbClr val="000000"/>
                </a:solidFill>
                <a:latin typeface="Times New Roman"/>
              </a:endParaRPr>
            </a:p>
          </p:txBody>
        </p:sp>
        <p:sp>
          <p:nvSpPr>
            <p:cNvPr id="2562" name=""/>
            <p:cNvSpPr/>
            <p:nvPr/>
          </p:nvSpPr>
          <p:spPr>
            <a:xfrm rot="5400000">
              <a:off x="1153080" y="4653720"/>
              <a:ext cx="533160" cy="401400"/>
            </a:xfrm>
            <a:prstGeom prst="triangle">
              <a:avLst>
                <a:gd name="adj"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3" name=""/>
          <p:cNvSpPr/>
          <p:nvPr/>
        </p:nvSpPr>
        <p:spPr>
          <a:xfrm>
            <a:off x="0" y="990720"/>
            <a:ext cx="3200400" cy="380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4" name=""/>
          <p:cNvSpPr/>
          <p:nvPr/>
        </p:nvSpPr>
        <p:spPr>
          <a:xfrm>
            <a:off x="0" y="990720"/>
            <a:ext cx="3581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ziehungsberechtigte</a:t>
            </a:r>
            <a:endParaRPr b="0" lang="en-US" sz="2200" spc="-1" strike="noStrike">
              <a:solidFill>
                <a:srgbClr val="000000"/>
              </a:solidFill>
              <a:latin typeface="Times New Roman"/>
            </a:endParaRPr>
          </a:p>
        </p:txBody>
      </p:sp>
      <p:sp>
        <p:nvSpPr>
          <p:cNvPr id="2565" name=""/>
          <p:cNvSpPr/>
          <p:nvPr/>
        </p:nvSpPr>
        <p:spPr>
          <a:xfrm>
            <a:off x="8382960" y="837360"/>
            <a:ext cx="534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8T14:42:31Z</dcterms:created>
  <dc:creator>Orthograf!</dc:creator>
  <dc:description/>
  <dc:language>en-US</dc:language>
  <cp:lastModifiedBy>ws</cp:lastModifiedBy>
  <cp:lastPrinted>1999-04-13T18:54:40Z</cp:lastPrinted>
  <dcterms:modified xsi:type="dcterms:W3CDTF">1999-10-10T17:11:00Z</dcterms:modified>
  <cp:revision>224</cp:revision>
  <dc:subject/>
  <dc:title>Kein Folientitel</dc:title>
</cp:coreProperties>
</file>